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D1A-3BFF-443B-8841-61E610697F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FCE-125C-4320-A664-11CC71A2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5E7-BF7F-4B76-9903-4A703B7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258-E31A-4939-805A-637C59F7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547-01DF-4192-AA43-AC0501CC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59B-57BF-46EB-AA9E-4FA9854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24A-5175-4957-815F-31471FF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BA4-D0B9-4E07-976A-CAF8ED73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59B-99DD-4AC5-9CCC-DA74B987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DA7-B13A-48BE-A4D0-F35B980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F8B-6215-4E3C-BE82-CC37117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5D7-CE16-40E7-9077-04DB27B0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C1A-C97D-4426-A160-7CAB6A8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7F2-F864-4261-9540-B00873B29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65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64 Operational Experience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chen-v6ops-nat64-experience-0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4- Vancouver, Aug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15920" y="3754440"/>
            <a:ext cx="598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ang Chen                     China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hen Cao                     China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meron Byrne                    T-Mobil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ongfeng Xie                 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vid Binet                France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ong Sun                 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4920" y="44798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pea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he experiences from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the NAT64 scenarios and share experiences /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IPv6-only discussions and Intend to help operators who may just start out planning NAT64 in the near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6136 re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 least 30% 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 to run some kind of translator (presumably NAT64/DNS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example i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FC658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Link to it was sug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is more specific on NAT64 network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since IETF#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01~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erators joined the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NAT64 considerations from draft-sunq-v6ops-contents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NAT64-CGN&amp;CE terminology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discussions on CGN port alloc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02~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texts proposed by Joel Jaeggli (thankful for the contribution and guidance) and improved the legibility of the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the statement on the standpoint of NAT64-CE and identified issu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2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are docum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52360"/>
            <a:ext cx="40384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AT64-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v6-enable for IPv4 services in large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erators have no control on IPv4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tro-fitting to predominate IPv4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840" y="1316160"/>
            <a:ext cx="85039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stack and E2E native IPv6 communications are always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echnology is always a second-best solution. It should be treated prud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0160" y="2633760"/>
            <a:ext cx="357516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70520" y="2295360"/>
            <a:ext cx="3354480" cy="1698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3852360"/>
            <a:ext cx="40384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AT64-CE (Load Bala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dge” is mostly indicated to “L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v6-enable for the servers which is IPv4-only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ave full control over on IPv4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everage IPv6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4240" y="3571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dding discussions on the concern of logging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amount of logging in typical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radeoff between address multiplexing efficiency &amp; logging storage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of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 of terms of NAT64-CGN &amp; 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should be focused on issues identification to each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mmendations for deployment need to be simple and unambig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 which are perilous are not recomm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the lis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in NAT64-C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urce tracking:  source address loss is unacceptable; There is no a desirable alternative to resolve the problem in an address shar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on: IPv6 space DOES NOT fit in I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calability: an expensive state-wise would result in additional latency and bottleneck of memory 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to NAT64-C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NOT RECOMMENDED to operators who seek a clear precedent for operating reliable ipv6-only services, because the usages is problematic at sever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64-CE(LB) suggestion is consistent with I-D.ietf-v6ops-icp-guidance (Section 7) for operators who already adopted the relevant sol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&amp;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 adoption call has been initiated on the list. More than 8 members shown their interests to the draft as a start point to gather operator’s experiences of NAT6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ents provided by Chairs guide the document in a right direction; Texts have been updated according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e are still looking forward the encouragement from WG on ad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y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r1</cp:lastModifiedBy>
  <dcterms:modified xsi:type="dcterms:W3CDTF">2012-08-01T19:21:1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