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B73-B96F-4C44-BCCE-080E47BF16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968-ED8B-421E-8D7D-B9271904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9E8-304E-4002-B5F1-EFC55DC3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E9C-9FF1-41A3-B139-05CEC410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089-6E22-421F-AE13-764CFCED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5E3-DB30-4A92-9FBE-379AC9E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82B-8547-4DD9-B4D5-5302BC8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090-1AD8-4F5E-894C-2A3DECC1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2B0-CCF8-402C-A5AD-51B8887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180-7DDA-4B73-A7AD-D493D96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033-7DF9-480F-9B53-5F15C88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957-B0EB-44D8-B6DB-A68DEBF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944-48F2-40ED-8CBD-E9AC7BC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49BC-FE65-4EBC-8063-87CE1E94D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65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64 Operational Experience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chen-v6ops-nat64-experience-0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TF 84- Vancouver, Aug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15920" y="3754440"/>
            <a:ext cx="598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ang Chen                     China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hen Cao                     China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meron Byrne                    T-Mobil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ongfeng Xie                 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vid Binet                France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iong Sun                  China Te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4920" y="44798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pea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he experiences from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the NAT64 scenarios and share experiences /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IPv6-only discussions and Intend to help operators who may just start out planning NAT64 in the near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6136 re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 least 30% 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 to run some kind of translator (presumably NAT64/DNS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example i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FC658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Link to it was sug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raft is more specific on NAT64 network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since IETF#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01~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erators joined the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NAT64 considerations from draft-sunq-v6ops-contents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NAT64-CGN&amp;CE terminology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discussions on CGN port alloc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02~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texts proposed by Joel Jaeggli (thankful for the contribution and guidance) and improved the legibility of the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the statement on the standpoint of NAT64-CE and identified issu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2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are docum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52360"/>
            <a:ext cx="40384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AT64-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v6-enable for IPv4 services in large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erators have no control on IPv4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tro-fitting to predominate IPv4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840" y="1316160"/>
            <a:ext cx="85039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stack and E2E native IPv6 communications are always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echnology is always a second-best solution. It should be treated prud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0160" y="2633760"/>
            <a:ext cx="357516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70520" y="2295360"/>
            <a:ext cx="3354480" cy="1698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3852360"/>
            <a:ext cx="40384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AT64-CE (Load Bala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dge” is mostly indicated to “L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v6-enable for the servers which is IPv4-only cap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ave full control over on IPv4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everage IPv6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4240" y="3571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dding discussions on the concern of logging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amount of logging in typical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radeoff between address multiplexing efficiency &amp; logging storage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of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 of terms of NAT64-CGN &amp; 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should be focused on issues identification to each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mmendations for deployment need to be simple and unambig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s which are perilous are not recomm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n the lis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in NAT64-C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urce tracking:  source address loss is unacceptable; There is no a desirable alternative to resolve the problem in an address shar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on: IPv6 space DOES NOT fit in I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calability: an expensive state-wise would result in additional latency and bottleneck of memory 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to NAT64-C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's NOT RECOMMENDED to operators who seek a clear precedent for operating reliable ipv6-only services, because the usages is problematic at sever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64-CE(LB) suggestion is consistent with I-D.ietf-v6ops-icp-guidance (Section 7) for operators who already adopted the relevant sol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&amp;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 adoption call has been initiated on the list. More than 8 members shown their interests to the draft as a start point to gather operator’s experiences of NAT6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ents provided by Chairs guide the document in a right direction; Texts have been updated according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e are still looking forward the encouragement from WG on ad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y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MCCr1</cp:lastModifiedBy>
  <dcterms:modified xsi:type="dcterms:W3CDTF">2012-08-01T19:21:1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