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C86F-ABAA-47D4-B823-8077EFF68DF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4CCA-E843-4167-87B6-58A1B12546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on again: this is an Informational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40E8-668C-4C74-A9E6-845B7A34BA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cannot get the host OS to choose IPv6 addresses properly, and forcing multi-function devices to have multiple IPv6 prefixes (one for each "special" application running on the device) will only make matters wo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o not get the semantics straight and untangled, the routing scalability will be much worse in IPv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0E7D-0C32-4FE7-8900-0BC180CABF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I is expensive and inefficiency. Overlay network, tunnel or label forwarding may operate the traffic path, they introduce extra overhead while they depend on indirect information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though interface identifier of IPv6 address has arbitrary bits and extension header can carry much more information, they are not trustable by network opera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53AF-2960-4E09-91B7-DAEE5BEDB1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ndard binding that would meet everyone's needs would require way to many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ttempt to standardize the semantics is doomed to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E053-ABA9-4064-AFCE-EAB9E90109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mended using the most left bits of prefix for locator function and lower bits for semantics. This would minimize the impact on routing aggregation. Actually, if considering the policy-based routing, the embedded semantics may provide better aggregation. It allows many policies to be aggregated according to the same seman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F99B-AFB1-4C65-B9F4-AE674A77DA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50A2158E-D9B6-43EA-BB86-C31B4712A4F4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4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pSp>
        <p:nvGrpSpPr>
          <p:cNvPr id="7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8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9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0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1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2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3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4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5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7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18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0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2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3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5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7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28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9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0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1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2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3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4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5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6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7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38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9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0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1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2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3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4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5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6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7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48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9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0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1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2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3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4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5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6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7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58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9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0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1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2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3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4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5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6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7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68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9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0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1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09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907640" y="4437000"/>
            <a:ext cx="5185080" cy="122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华文细黑"/>
              </a:rPr>
              <a:t>Sheng Jiang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95280" y="764640"/>
            <a:ext cx="8353440" cy="37436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utigerNext LT Medium"/>
              </a:rPr>
              <a:t>Semantic IPv6 Prefix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FrutigerNext LT Medium"/>
              </a:rPr>
              <a:t>draft-jiang-semantic-prefix</a:t>
            </a:r>
            <a:br>
              <a:rPr sz="2400"/>
            </a:br>
            <a:br>
              <a:rPr sz="2400"/>
            </a:b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FrutigerNext LT Medium"/>
              </a:rPr>
              <a:t>IETF 84 v6ops WG</a:t>
            </a:r>
            <a:br>
              <a:rPr sz="2800"/>
            </a:b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FrutigerNext LT Medium"/>
              </a:rPr>
              <a:t>August 3, 2012</a:t>
            </a:r>
            <a:endParaRPr b="0" lang="en-US" sz="1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7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101520">
            <a:solidFill>
              <a:srgbClr val="31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FrutigerNext LT Regular"/>
              </a:rPr>
              <a:t>Page </a:t>
            </a:r>
            <a:fld id="{6AF29A61-1E61-4FF5-862C-4672D905B095}" type="slidenum">
              <a:rPr b="0" lang="de-DE" sz="1400" spc="-1" strike="noStrike">
                <a:solidFill>
                  <a:srgbClr val="000000"/>
                </a:solidFill>
                <a:latin typeface="FrutigerNext LT Regular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FrutigerNext LT Regular"/>
              </a:rPr>
              <a:t>/10</a:t>
            </a:r>
            <a:r>
              <a:rPr b="0" lang="de-DE" sz="1400" spc="-1" strike="noStrike">
                <a:solidFill>
                  <a:srgbClr val="000000"/>
                </a:solidFill>
                <a:latin typeface="FrutigerNext LT Regular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10/</a:t>
            </a:r>
            <a:fld id="{EFA0E651-29BE-483F-9E5F-B854A004D98B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195640" y="2707920"/>
            <a:ext cx="4464000" cy="1873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6000"/>
          </a:bodyPr>
          <a:p>
            <a:pPr marL="287640"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FrutigerNext LT Regular"/>
              </a:rPr>
              <a:t>Questions, clarifications?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287640"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287640"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FrutigerNext LT Regular"/>
              </a:rPr>
              <a:t>Thanks!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745400" cy="7192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Motiva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26792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This is a bad idea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81120" indent="-33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t waste a lot IPv6 addresse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But, we (as IETF) cannot stop people to use it LOCALLY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81120" indent="-33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t has many operational benefits from network operator perspective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But, it is dangerous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81120" indent="-33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The more semantics embedded into prefix, the more complicated management could be. Also there are technical gaps to fill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81120" indent="-33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t tries to push the problem to host OS and applications, but they are not ready to take it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e purpose of this document is to discuss how to use it wel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81120" indent="-33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t could be manageable if the semantics have been carefully restricted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0D906518-568C-4F30-85B4-85A9B6A409A6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10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Overview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10920" y="1267920"/>
            <a:ext cx="8281800" cy="4567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Network operators (both ISPs and enterprises) desire to be aware of more information about each packet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so that packets can be treated differently and efficiently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Packet-level differentiating can enable flow-level and user-level differentiating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IPv6, with a large address space, allows semantics to be embedded into addresses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Routers can easily apply relevant operations accordingly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This document provides analysis on how to use semantic prefix well, and identifies the technical gaps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It is recommended to use 4~12 bits in prefix for embedded semantics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9383ABED-C115-46B5-836C-71E2E5DCE08B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10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Why Prefix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11280" y="1341000"/>
            <a:ext cx="7929360" cy="46386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Many information is not expressed explicitly. Hence, it is difficult for network operators to identify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Untrusted choices: interface identifier, extension header, diffServ field, etc.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Prefix is almost the only thing a network operator can trust in an IP packet 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t is delegated by the network and the network can detect any undesired modifications, then filter the packet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f one get the destination addr wrong, the packet would not reach; it it get the source addr wrong, the return packet would not arrive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t surely allows enterprise semantics to be able to traverse ISP network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F347CBEA-64A3-4C73-8CE3-4ADDE7C75F0B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10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emantic Prefix Domai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10920" y="1628640"/>
            <a:ext cx="8024760" cy="43214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9000"/>
          </a:bodyPr>
          <a:p>
            <a:pPr marL="296640" indent="-29664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A domain in which a consistent set of semantic prefix policies are administered in a coordinated fashion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45480" indent="-24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n enterprise Semantic Prefix Domain may span several physical networks, traversing ISP network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6640" indent="-29664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A Semantic Prefix domain has a set of pre-defined semantic definitions, which is only meaningful locally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6640" indent="-29664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Standardizing a general semantic is almost an impossible job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6640" indent="-29664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Unless there are semantics agreements between two domains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45480" indent="-24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Sharing semantic definition among Semantic Prefix domains enables more semantic based network operation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043AFDE2-60C4-411A-9B53-4820168A1EF8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10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The Embedded Semantic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51960" y="1641600"/>
            <a:ext cx="78073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The prefix bits that can be used for embedded semantics are very limited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only the selected, most useful semantics can be embedded in the prefix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Note, DiffServ provides a very rich QoS semantic with on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6 bit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hen used, all of semantic should be restricted in a highly abstracted way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In a given Semantic Prefix Domain, multiple semantics can be used combinatorially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7B43724D-1028-4982-9A2D-431FC10B01AB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10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How to use it well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52320" y="1341000"/>
            <a:ext cx="8167680" cy="45356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4000"/>
          </a:bodyPr>
          <a:p>
            <a:pPr marL="281880" indent="-281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Principle: avoid semantic overlap for packet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3080" indent="-23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though semantic overlap for devices/hosts is fine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1880" indent="-281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Recommend: network operator only use necessary semantics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3080" indent="-23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Too many semantics make management for prefix delegation become very complicated. And hosts would not be able to handle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1880" indent="-281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Recommend: assign in low granularity, such as bit by bit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81880" indent="-281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Recommend: use less than 12 bits in prefix for semantics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81880" indent="-281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The locator function of IP address should be ensured first for ISPs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3080" indent="-23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Recommend: use the most left bits of prefix for locator function and lower bits for semantic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5E26633B-884A-49F9-875B-DA4438A793F7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10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Benefit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Depending on embedded semantics, various beneficial scenarios can be expected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Easy measurement and statistic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Easy flow control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Policy aggregation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Application-aware routing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The listed are not all 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236B9911-B136-43BC-9245-49F7F34DF50D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10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1960" y="430200"/>
            <a:ext cx="7745400" cy="766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Technical Gap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4000" y="1196640"/>
            <a:ext cx="8094600" cy="5040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4000"/>
          </a:bodyPr>
          <a:p>
            <a:pPr marL="281880" indent="-281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The simplest model without any technical gaps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Only embedded abstracted user type semantic into the prefix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3080" indent="-23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t can be supported with the current network architecture 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3080" indent="-23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because each subscriber is still assigned one prefix, while they are not notified the semantic within it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1880" indent="-281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The more semantics embedded into prefix, the more complicated functions are needed for prefix delegation, host notification and address selections</a:t>
            </a:r>
            <a:endParaRPr b="1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3080" indent="-23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ssociate semantics with prefix delegation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3080" indent="-23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Notify prefix semantics to host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13080" indent="-23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ddress selection according to semantics on hosts. This may involve application interaction through socket API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1880" indent="-28188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It may take time for hosts to ready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(enterprise may be quick)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71637DA2-1179-4C53-AA69-E50122EAE330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/10</a:t>
            </a: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6:17:47Z</dcterms:created>
  <dc:creator>蒋胜</dc:creator>
  <dc:description/>
  <dc:language>en-US</dc:language>
  <cp:lastModifiedBy>LocalAccount</cp:lastModifiedBy>
  <dcterms:modified xsi:type="dcterms:W3CDTF">2012-07-28T08:31:31Z</dcterms:modified>
  <cp:revision>1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TZu39ZFqxVdPimYspcHm4V5pa5g0HyYyuMTwPESY/Xp9t8ckZMyq5xA6GnE+qQtlExVlfndk
BejOPwCDNQLKczokB4jozT/hw/RRNqSYWK01MjIpjuKAHbHHilu+VfwYpTA8GbceLfX102rg
NhwgpOM3qlr0tLbAeZc5hYTQmtQvOzPP8wGoqo47t2jATPA+Mm9l9i+E/whoZXX57SmseTUx
yBqPiqoxAZJjuGBda/</vt:lpwstr>
  </property>
  <property fmtid="{D5CDD505-2E9C-101B-9397-08002B2CF9AE}" pid="3" name="_ms_pID_7253431">
    <vt:lpwstr>taKM2c61o45Pes1QQ2XMWUuze4Ygs1GNIvNXSifrmkXhZdhK79sQGX
aQ3Iv1TCiynd1j3PPVHHeMYCM1EWdPAJq7ubpv/IWJF6ct5SXnYwWPqUOCq2CIisu6QVId25
gug=</vt:lpwstr>
  </property>
  <property fmtid="{D5CDD505-2E9C-101B-9397-08002B2CF9AE}" pid="4" name="sflag">
    <vt:lpwstr>1343463707</vt:lpwstr>
  </property>
</Properties>
</file>