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2547-2111-41F9-A6A9-F2C4984110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3484-9F2B-4E60-AFD6-D3FEC53121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again: this is an Informational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0FA0-72E4-45A9-86FC-EB668CF173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cannot get the host OS to choose IPv6 addresses properly, and forcing multi-function devices to have multiple IPv6 prefixes (one for each "special" application running on the device) will only make matters w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o not get the semantics straight and untangled, the routing scalability will be much worse in IPv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602B-10DB-4ADB-9F5F-72E22FD4D3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I is expensive and inefficiency. Overlay network, tunnel or label forwarding may operate the traffic path, they introduce extra overhead while they depend on indirect information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though interface identifier of IPv6 address has arbitrary bits and extension header can carry much more information, they are not trustable by network oper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D8A-7F36-45C9-97BE-CFBFF98D7A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ndard binding that would meet everyone's needs would require way to many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ttempt to standardize the semantics is doomed to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5BD3-7946-4DB7-A48C-6A9E1FA620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ed using the most left bits of prefix for locator function and lower bits for semantics. This would minimize the impact on routing aggregation. Actually, if considering the policy-based routing, the embedded semantics may provide better aggregation. It allows many policies to be aggregated according to the same seman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A1E3-122C-4278-A373-D4E799AF8E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DF86EFB2-7307-4F5D-B3B6-86C21CE525A2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43700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Sheng Jia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95280" y="764640"/>
            <a:ext cx="8353440" cy="3743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Medium"/>
              </a:rPr>
              <a:t>Semantic IPv6 Prefix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draft-jiang-semantic-prefix</a:t>
            </a:r>
            <a:br>
              <a:rPr sz="2400"/>
            </a:br>
            <a:br>
              <a:rPr sz="24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FrutigerNext LT Medium"/>
              </a:rPr>
              <a:t>IETF 84 v6ops WG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August 3, 2012</a:t>
            </a:r>
            <a:endParaRPr b="0" lang="en-US" sz="1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Page </a:t>
            </a:r>
            <a:fld id="{100C483A-61B0-456F-85F5-208C92770394}" type="slidenum"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/10</a:t>
            </a:r>
            <a:r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10/</a:t>
            </a:r>
            <a:fld id="{26C74BD1-C321-4185-BC1D-98228114EEC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195640" y="2707920"/>
            <a:ext cx="4464000" cy="187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6000"/>
          </a:bodyPr>
          <a:p>
            <a:pPr marL="28764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FrutigerNext LT Regular"/>
              </a:rPr>
              <a:t>Questions, clarifications?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FrutigerNext LT Regular"/>
              </a:rPr>
              <a:t>Thanks!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745400" cy="719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otiv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26792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is is a bad idea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waste a lot IPv6 addresse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But, we (as IETF) cannot stop people to use it LOCALL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has many operational benefits from network operator perspectiv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But, it is dangerou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he more semantics embedded into prefix, the more complicated management could be. Also there are technical gaps to fill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tries to push the problem to host OS and applications, but they are not ready to take i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purpose of this document is to discuss how to use it wel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could be manageable if the semantics have been carefully restricted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B05914D-3440-463C-BD2D-EBB31EFD1C63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verview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0920" y="1267920"/>
            <a:ext cx="8281800" cy="4567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Network operators (both ISPs and enterprises) desire to be aware of more information about each packet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o that packets can be treated differently and efficiently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acket-level differentiating can enable flow-level and user-level differentia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Pv6, with a large address space, allows semantics to be embedded into addresse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Routers can easily apply relevant operations accordingly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is document provides analysis on how to use semantic prefix well, and identifies the technical gap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t is recommended to use 4~12 bits in prefix for embedded semantic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FC53517F-5932-4A17-9213-E6EADA1FDBC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Why Prefix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1280" y="1341000"/>
            <a:ext cx="7929360" cy="46386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Many information is not expressed explicitly. Hence, it is difficult for network operators to identif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Untrusted choices: interface identifier, extension header, diffServ field, etc.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Prefix is almost the only thing a network operator can trust in an IP packet 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is delegated by the network and the network can detect any undesired modifications, then filter the packe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f one get the destination addr wrong, the packet would not reach; it it get the source addr wrong, the return packet would not arriv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surely allows enterprise semantics to be able to traverse ISP network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64B711A8-B0E3-47BB-947A-60F94AF31C6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emantic Prefix Domai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0920" y="1628640"/>
            <a:ext cx="8024760" cy="4321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9000"/>
          </a:bodyPr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 domain in which a consistent set of semantic prefix policies are administered in a coordinated fashion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45480" indent="-24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n enterprise Semantic Prefix Domain may span several physical networks, traversing ISP network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 Semantic Prefix domain has a set of pre-defined semantic definitions, which is only meaningful locall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Standardizing a general semantic is almost an impossible job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Unless there are semantics agreements between two domain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45480" indent="-24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haring semantic definition among Semantic Prefix domains enables more semantic based network operation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ECBB5D8C-900C-46A7-A277-6F6A74CE43E6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he Embedded Semantic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1960" y="1641600"/>
            <a:ext cx="78073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prefix bits that can be used for embedded semantics are very limited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only the selected, most useful semantics can be embedded in the prefix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Note, DiffServ provides a very rich QoS semantic with on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6 bit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hen used, all of semantic should be restricted in a highly abstracted way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n a given Semantic Prefix Domain, multiple semantics can be used combinatoriall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8EBEB0B1-D5C8-461E-AF92-84DB97A479B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How to use it well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52320" y="1341000"/>
            <a:ext cx="8167680" cy="4535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Principle: avoid semantic overlap for packet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hough semantic overlap for devices/hosts is fin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Recommend: network operator only use necessary semantic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oo many semantics make management for prefix delegation become very complicated. And hosts would not be able to handl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Recommend: assign in low granularity, such as bit by bit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Recommend: use less than 12 bits in prefix for semantic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locator function of IP address should be ensured first for ISP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Recommend: use the most left bits of prefix for locator function and lower bits for semantic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F2B2804-9910-47EE-BA49-ADFBC77DDFB6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Benefi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Depending on embedded semantics, various beneficial scenarios can be expected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Easy measurement and statistic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Easy flow control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Policy aggregation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pplication-aware routing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listed are not all 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B3414673-D216-4B5D-B4EF-E5DFD54C8A6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1960" y="430200"/>
            <a:ext cx="7745400" cy="7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echnical Gap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000" y="1196640"/>
            <a:ext cx="8094600" cy="5040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simplest model without any technical gaps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Only embedded abstracted user type semantic into the prefix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can be supported with the current network architecture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because each subscriber is still assigned one prefix, while they are not notified the semantic within i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more semantics embedded into prefix, the more complicated functions are needed for prefix delegation, host notification and address selection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ssociate semantics with prefix delegatio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Notify prefix semantics to host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ddress selection according to semantics on hosts. This may involve application interaction through socket API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t may take time for hosts to ready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(enterprise may be quick)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39A02117-CD2F-4788-B800-545AD4717F8D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LocalAccount</cp:lastModifiedBy>
  <dcterms:modified xsi:type="dcterms:W3CDTF">2012-07-28T08:31:31Z</dcterms:modified>
  <cp:revision>1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TZu39ZFqxVdPimYspcHm4V5pa5g0HyYyuMTwPESY/Xp9t8ckZMyq5xA6GnE+qQtlExVlfndk
BejOPwCDNQLKczokB4jozT/hw/RRNqSYWK01MjIpjuKAHbHHilu+VfwYpTA8GbceLfX102rg
NhwgpOM3qlr0tLbAeZc5hYTQmtQvOzPP8wGoqo47t2jATPA+Mm9l9i+E/whoZXX57SmseTUx
yBqPiqoxAZJjuGBda/</vt:lpwstr>
  </property>
  <property fmtid="{D5CDD505-2E9C-101B-9397-08002B2CF9AE}" pid="3" name="_ms_pID_7253431">
    <vt:lpwstr>taKM2c61o45Pes1QQ2XMWUuze4Ygs1GNIvNXSifrmkXhZdhK79sQGX
aQ3Iv1TCiynd1j3PPVHHeMYCM1EWdPAJq7ubpv/IWJF6ct5SXnYwWPqUOCq2CIisu6QVId25
gug=</vt:lpwstr>
  </property>
  <property fmtid="{D5CDD505-2E9C-101B-9397-08002B2CF9AE}" pid="4" name="sflag">
    <vt:lpwstr>1343463707</vt:lpwstr>
  </property>
</Properties>
</file>