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3BC-53AA-4D1A-8CCB-AB6ACA13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0DA-F6CA-4108-AD2F-B7A833AC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613-D922-47AF-BCFE-4827B9D7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B8FD-0945-4A98-8B67-84EAB56F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540-D575-4F41-B104-3B6AE5AF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289-7DE5-46CF-BF50-5BD1BCAA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770-2459-40CA-8D10-444170AA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CB2-F767-4744-AC77-E38CA0FD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949E-5882-4DC6-B629-5E1F69D4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BED-4CEB-4780-A600-63F0E7E9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5D67-6ECA-4BDB-A5DB-B1CC69D5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3B2-D974-4DB8-981B-340D7DF5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000" y="6237000"/>
            <a:ext cx="316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974A-C6E9-44FF-828D-7104B8387ED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uideli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IPv6 Network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matthews-v6ops-design-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Matth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atel-Lu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 to designers of IPv6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s questions that often arise in IPv6 or dual-stack network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“Use LLAs or GUAs for eBGP sessions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ll th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pros and 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urrent practice or make 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-level than existing docs on “Deploying IPv6 in &lt;foo&gt;-type network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0 version very prelim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4th IETF Meeting -- Vancouver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03A-F950-4323-860D-DBD179F007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ddressing Plan sec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RFC 5375   (Time to revis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ast only, for now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S etc, for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o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LS currentl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4th IETF Meeting -- Vancouver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903-581D-4221-ABD3-6E6A624FDF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-hop address in static ro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 static rou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Use far-end’s LLA addresses as next-hop, 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Use far-end’s GUA/U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C 4861 (“ND for IPv6”) section 8 specifies (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router MUST be able to determine the link-local address for each of its neighboring routers in order to ensure that the target address in a Redirect message identifies the neighbor router by its link-local address. For static routing, this requirement implies that the next-hop router's address should be specified using the link-local address of the rout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mplies (b) will prevent a router from sending redirects. Typically only a problem when 2+ routers and 1+ hosts are connected to same LAN, and where one router might redirect to the other (e.g., not running VRR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redirects are not a concern, either (a) or (b) can b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 for W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ny other pros/c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sense is that most operators do (b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 6MAN update 486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4th IETF Meeting -- Vancouver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9B3-E463-4263-A916-EE5ECD7D2F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 or separate v4 and v6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router lin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Mix v4 and v6, 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e L3 interface at each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Separate v4 and v6 onto separate (logical) link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wo L3 interfaces at each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s for Option (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ter scaling. Also lower cost if physical, rather than logical, links are used for option (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s for Option (b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ier to measure traffic levels of each individual protocol. This is difficult today with option (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operators do (a) today, but (b) is also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for W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y other pros/cons? Recommend (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4th IETF Meeting -- Vancouver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54E-5051-4CA5-8895-374E3A8F50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A or GUA/ULA address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router lin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Use LLA address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“unnumbered”), 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Also use GUA/ULA addr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s for unnumbered 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e of configuration (less so if using manual LLA assign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: interfaces cannot be attacked off-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 for unnumbered 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not ping interfaces from an off-link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eroute returns loopback/system address rather than interface add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some routers, LLA will change after line card swap unless hard-co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not identify interface or link by just LLA (in database, email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of the cons, operators do (b)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for W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y other pros/cons? Recommend (b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4th IETF Meeting -- Vancouver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8FF-6101-4B1B-84F6-09E9F797FD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GP with LLA or GUA endpoi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an eBGP se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Use LLA addresses as endpoints, 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Use GUA addresses as endpoint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This is about the eBGP endpoints, and not whether the link has GU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s for option (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 against off-link att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 for option (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“next-hop-self” at both endpoints (some routers do this automatical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not refer to BGP session using just addresses, something operators are used to do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onsistency between v4 and v6 when doing dual-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some routers, eBGP with LLAs is more complex to config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ct interpretation of RFC 2545 (“MP-BGP for IPv6”) can be seen as forbidding eBGP sessions with LLA endpoints, as it requires the next-hop field to contain a GU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operators today use (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 for W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ny other pros/cons?  Recommend (b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4th IETF Meeting -- Vancouver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422-5F77-4710-A6AD-62D449EE9B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14:51:25Z</dcterms:created>
  <dc:creator>Philip Matthews</dc:creator>
  <dc:description/>
  <dc:language>en-US</dc:language>
  <cp:lastModifiedBy>Philip Matthews</cp:lastModifiedBy>
  <dcterms:modified xsi:type="dcterms:W3CDTF">2012-07-27T17:22:07Z</dcterms:modified>
  <cp:revision>10</cp:revision>
  <dc:subject/>
  <dc:title>Design Guidelines for IPv6 Networks draft-matthews-v6ops-design-guidelines</dc:title>
</cp:coreProperties>
</file>