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984-47AC-4BBE-9046-5D6436E6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398-0A4C-4531-88E2-988BC31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1DE-FC0A-4B46-B325-20300E39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D2C-C879-453A-AA07-E40DD080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944-0B8E-440B-9DDA-6319EEB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230-D598-41A4-9475-425B700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BA9-7C24-4FB9-99AD-C806AF42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488-4CEB-4328-9D45-BD3D345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E85-30AB-4EE1-9A34-14E408B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A5D-8797-463A-B769-030D24E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A22-4DB5-4F2F-B74C-18C9EB6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B6B-B8AB-4989-9171-0E43839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000" y="6237000"/>
            <a:ext cx="31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AD42-2789-4AF6-9A6C-110F59D7F1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uidel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IPv6 Network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matthews-v6ops-design-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atel-Lu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 to designers of IPv6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s questions that often arise in IPv6 or dual-stack network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“Use LLAs or GUAs for eBGP session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ll th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ros and 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urrent practice or make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-level than existing docs on “Deploying IPv6 in &lt;foo&gt;-type network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0 version very 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AA7-02F3-4570-BD20-2F9D3E124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ddressing Plan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RFC 5375   (Time to revi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st only, for now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S etc, fo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o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 current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188-E477-46A2-9CF2-B74F0DB02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-hop address in static ro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 static rou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Use far-end’s LLA addresses as next-hop,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Use far-end’s GUA/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C 4861 (“ND for IPv6”) section 8 specifies 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outer MUST be able to determine the link-local address for each of its neighboring routers in order to ensure that the target address in a Redirect message identifies the neighbor router by its link-local address. For static routing, this requirement implies that the next-hop router's address should be specified using the link-local address of the rout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mplies (b) will prevent a router from sending redirects. Typically only a problem when 2+ routers and 1+ hosts are connected to same LAN, and where one router might redirect to the other (e.g., not running VRR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redirects are not a concern, either (a) or (b) can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y other pros/c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ense is that most operators do (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6MAN update 486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216-7C9A-4878-85A3-9C0CEA131D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 or separate v4 and v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router 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Mix v4 and v6,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e L3 interface at each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Separate v4 and v6 onto separate (logical) lin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wo L3 interfaces at each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 for Option (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scaling. Also lower cost if physical, rather than logical, links are used for option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 for Option (b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er to measure traffic levels of each individual protocol. This is difficult today with option (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operators do (a) today, but (b) is also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y other pros/cons? Recommend (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B6E-88A8-427F-8DE6-6F19768CF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 or GUA/ULA address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router 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Use LLA addres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“unnumbered”),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Also use GUA/ULA addr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 for unnumbered 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e of configuration (less so if using manual LLA assign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: interfaces cannot be attacked off-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 for unnumbered 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ping interfaces from an off-link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eroute returns loopback/system address rather than interface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ome routers, LLA will change after line card swap unless hard-co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identify interface or link by just LLA (in database, emai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the cons, operators do (b)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y other pros/cons? Recommend (b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026-4D3D-47AF-8952-ACA3078DF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GP with LLA or GUA end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n eBGP s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Use LLA addresses as endpoints,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Use GUA addresses as endpoi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his is about the eBGP endpoints, and not whether the link has GU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s for option 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 against off-link at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 for option 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“next-hop-self” at both endpoints (some routers do this automatic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not refer to BGP session using just addresses, something operators are used to d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onsistency between v4 and v6 when doing dual-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some routers, eBGP with LLAs is more complex to con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ct interpretation of RFC 2545 (“MP-BGP for IPv6”) can be seen as forbidding eBGP sessions with LLA endpoints, as it requires the next-hop field to contain a 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operators today use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y other pros/cons?  Recommend (b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DE4-A54D-47D4-9CB6-0A157B94BC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51:25Z</dcterms:created>
  <dc:creator>Philip Matthews</dc:creator>
  <dc:description/>
  <dc:language>en-US</dc:language>
  <cp:lastModifiedBy>Philip Matthews</cp:lastModifiedBy>
  <dcterms:modified xsi:type="dcterms:W3CDTF">2012-07-27T17:22:07Z</dcterms:modified>
  <cp:revision>10</cp:revision>
  <dc:subject/>
  <dc:title>Design Guidelines for IPv6 Networks draft-matthews-v6ops-design-guidelines</dc:title>
</cp:coreProperties>
</file>