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07FC-2A60-41DC-B669-0869B9C62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6C9D-6F80-47D2-B70B-E32A9372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D9AA-956A-43F0-8FFF-5274C663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B61A-BCCB-46E5-A0DE-5C147324E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763B-5E2C-4707-8EDE-A776C26C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B07F-0556-44DB-9DD2-A36F257A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AFD4-6A65-4998-A546-460A4352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5CB0-506E-456C-859B-E82243A8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B69A-5E65-4719-8761-67C28BBC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5853-2B2F-44C8-9D55-D3259926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8A98-00B2-455B-A1BD-860E6153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236F-13BE-4824-ADDD-B50AA1C3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94C9-FE1F-4050-B1FC-F14D8937127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XRBLOCK IETF 84 Vancou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E333-16F0-4597-B444-28DDFCE8B5A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5074-E31E-4040-ACCB-D9519DCE616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XRBLOCK IETF 84 Vancou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25400" y="1349280"/>
            <a:ext cx="77724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RTCP XR Report Block for QoE metric Report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raft-ietf-xrblock-rtcp-xr-qoe-02</a:t>
            </a:r>
            <a:br>
              <a:rPr sz="4000"/>
            </a:b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43120" y="3540240"/>
            <a:ext cx="7386480" cy="20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eoff H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lan Cl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land Sco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Qin W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len Z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4C5F-2BAF-45C7-B03A-7940F8E5B22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663A-989E-4B64-BB32-50F09864E87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XRBLOCK IETF 84 Vancou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Documen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6120" y="852120"/>
            <a:ext cx="822960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is draft deals with two u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ach media  sent in separate RTP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ulti-channel audios sent in the same RTP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wo open issues were raised in the Paris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channel mapping in the multi-channel audio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how to identify layers for layered cod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1 version was submitted after Paris meeting to address these two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2 version is submitted with some editorial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ocus on introducing how the proposed change fix those two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82F3-6FA5-4AB9-93D6-2C5F058D65C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Issue #  channel mapping in multi-channel audio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are some payload formats that use different channel mapp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agnus note tha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oE for a single stream will also depend on the payload format 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gnal the details of what payload format was in use using out band schemes in case multiple payload formats are suppor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hanges to be d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hange 1: Update monitoring architecture document to point out some metric block may depend on payload forma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hange 2:  Include payload type of reported media in the metric bloc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hange 3:  Update Channel Identifier definition and point out using Payload Type to determine the appropriate channel mapp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7074-3DC1-4262-8B36-5669DDADD41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XRBLOCK IETF 84 Vancou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CB6F-3E53-4DAF-94DC-0B91D0A3817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Issue# identify each layer of vid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39560" y="587160"/>
            <a:ext cx="822960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n Paris meeting, we proposed to assign each layer with the integer value from 0 to n using the following mapp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SID     SSID descrip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 0           base lay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            enhancement layer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            enhancement layer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.............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n            enhancement layer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owever it is difficult to identify each layer for layered SV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tatic mapping is not suffic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mapping may be tied to payload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agnus noted tha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it’s not sufficient to support only SSRC- and session-multiplex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SVC is used with multilayered video within a single stream, using 23 bit layer identif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Open question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port QoE for a layered str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eport on the complete stream received, then a standard QoE report should be suffic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why is it useful to report per layer QoE 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Why does it matter to calculate and report QoE for each view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hanges to be d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Remove layered support from the QoE metric d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Seems there is no work in ITU-T to evaluate the layered video 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If QoE for layered stream is needed, we will submit a new dra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128D-FB16-4271-A2CB-4B94932D306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XRBLOCK IETF 84 Vancou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E878-4AD6-472F-96EB-172EE3A81EB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07B9-3AB1-47AC-B613-7C920765A1E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XRBLOCK IETF 84 Vancou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ollow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Ques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GL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76A5-BD04-4995-B5C9-138D24AC838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05:52Z</dcterms:created>
  <dc:creator>Rajeev-K</dc:creator>
  <dc:description/>
  <dc:language>en-US</dc:language>
  <cp:lastModifiedBy>w53375</cp:lastModifiedBy>
  <dcterms:modified xsi:type="dcterms:W3CDTF">2012-07-30T05:38:03Z</dcterms:modified>
  <cp:revision>1074</cp:revision>
  <dc:subject/>
  <dc:title>NetExt BO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jzd1+Af+lSyDzt9zTOdB62DgJGg/ozGgsCJ3D6Muj1N2H2GgqpDcmx2Ylf6qcYc00MUDQCDA
3iI3elsG/00tcMrM5niQlrUkl3jxXWcTOf9CuD1O+wUXHTYp5u53CYLX7NMjo7x9Za0XmMda
emvbdNvagWyzHf3hVC6gQCElifSlOQnEn7PhkcKrqHwkqHC9B4bq9pPitTVbzpcSkA+oc9wj
yIvqCcOsRl12AiY9hRRS9</vt:lpwstr>
  </property>
  <property fmtid="{D5CDD505-2E9C-101B-9397-08002B2CF9AE}" pid="3" name="_ms_pID_7253431">
    <vt:lpwstr>2rc69uVco+B1mldTucAHTZGOy2O4CI2EuFhpKxZ1jTZ3bcoWhqe
gGVZ7E3EyC8zBIkpJP6m2yzWcW/eee0dX8l1qQKM6Igc5gbtJ1MNlT8t2IyPsYRqAxu1S2nU
n0v518E02WUhpapKDkIRXP6+DgbuHOsSFTswbgU/hS8sag==</vt:lpwstr>
  </property>
  <property fmtid="{D5CDD505-2E9C-101B-9397-08002B2CF9AE}" pid="4" name="sflag">
    <vt:lpwstr>1343626452</vt:lpwstr>
  </property>
</Properties>
</file>