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783-6159-4FF5-8F5D-3DBC8806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2B8-62AE-4928-9C0C-A9660B91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94B-2C4E-41F3-B030-DDB3EE8F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A50-2FD7-49EA-86E6-84B66093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9F2-383D-42E7-9796-88B4215A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745-E69D-4F8F-8366-030E5A83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39B-2D2E-4892-A136-6B74AC66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243-B996-456F-9184-53F53518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54A-8C86-4483-AEB6-4F5FCDA8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A3C-2105-4C0E-B1C8-683461AF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BA4-B35F-469E-900F-4498DC62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3B4-E551-4D41-AB2C-D9EDFCB4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C157-7103-46A7-954B-404762EB9C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7621-9AEE-40AD-8243-87B4C4622D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EFDB-0496-403D-A3DD-06C679FDFBF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5400" y="134928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TCP XR Report Block for QoE metric Report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ietf-xrblock-rtcp-xr-qoe-02</a:t>
            </a:r>
            <a:br>
              <a:rPr sz="4000"/>
            </a:b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43120" y="3540240"/>
            <a:ext cx="738648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eoff 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an Cl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land 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n W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len Z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DFAF-268B-4668-8800-42D13F630C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57F4-E488-4768-800F-6FAA3D07C49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6120" y="852120"/>
            <a:ext cx="82296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draft deals with two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media  sent in separate RTP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-channel audios sent in the same RTP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wo open issues were raised in the Pari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channel mapping in the multi-channel audio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identify layers for layered cod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 version was submitted after Paris meeting to address these two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 version is submitted with some editori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cus on introducing how the proposed change fix those two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02F1-0001-4539-BAC7-C9C43F5014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ssue #  channel mapping in multi-channel audio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some payload formats that use different channel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gnus note 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oE for a single stream will also depend on the payload format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al the details of what payload format was in use using out band schemes in case multiple payload formats are suppor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s to be d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ange 1: Update monitoring architecture document to point out some metric block may depend on payload form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ange 2:  Include payload type of reported media in the metric blo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ange 3:  Update Channel Identifier definition and point out using Payload Type to determine the appropriate channel mapp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754F-4623-4E9E-BB2E-11551D6C3AE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4E24-D1A3-4C54-B559-A96E7B668D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ssue# identify each layer of 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9560" y="587160"/>
            <a:ext cx="822960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 Paris meeting, we proposed to assign each layer with the integer value from 0 to n using the following mapp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SID     SSID descrip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 0           base lay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            enhancement layer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            enhancement layer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..........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            enhancement layer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owever it is difficult to identify each layer for layered SV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atic mapping is not su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mapping may be tied to payload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gnus noted tha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it’s not sufficient to support only SSRC- and session-multip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SVC is used with multilayered video within a single stream, using 23 bit layer ident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Open question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port QoE for a layered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port on the complete stream received, then a standard QoE report should be suffic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hy is it useful to report per layer QoE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hy does it matter to calculate and report QoE for each vie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s to b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move layered support from the QoE metric d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Seems there is no work in ITU-T to evaluate the layered video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If QoE for layered stream is needed, we will submit a new dra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B15B-FA2D-4855-8DCB-81DE2442D6C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7C59-C92D-4AD6-B45E-FD78A2864F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FC6A-D309-44D8-A69E-CA894E1722A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RBLOCK IETF 84 Vancou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GL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E0D-0B53-43A0-864C-D3A7E48D10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w53375</cp:lastModifiedBy>
  <dcterms:modified xsi:type="dcterms:W3CDTF">2012-07-30T05:38:03Z</dcterms:modified>
  <cp:revision>1074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jzd1+Af+lSyDzt9zTOdB62DgJGg/ozGgsCJ3D6Muj1N2H2GgqpDcmx2Ylf6qcYc00MUDQCDA
3iI3elsG/00tcMrM5niQlrUkl3jxXWcTOf9CuD1O+wUXHTYp5u53CYLX7NMjo7x9Za0XmMda
emvbdNvagWyzHf3hVC6gQCElifSlOQnEn7PhkcKrqHwkqHC9B4bq9pPitTVbzpcSkA+oc9wj
yIvqCcOsRl12AiY9hRRS9</vt:lpwstr>
  </property>
  <property fmtid="{D5CDD505-2E9C-101B-9397-08002B2CF9AE}" pid="3" name="_ms_pID_7253431">
    <vt:lpwstr>2rc69uVco+B1mldTucAHTZGOy2O4CI2EuFhpKxZ1jTZ3bcoWhqe
gGVZ7E3EyC8zBIkpJP6m2yzWcW/eee0dX8l1qQKM6Igc5gbtJ1MNlT8t2IyPsYRqAxu1S2nU
n0v518E02WUhpapKDkIRXP6+DgbuHOsSFTswbgU/hS8sag==</vt:lpwstr>
  </property>
  <property fmtid="{D5CDD505-2E9C-101B-9397-08002B2CF9AE}" pid="4" name="sflag">
    <vt:lpwstr>1343626452</vt:lpwstr>
  </property>
</Properties>
</file>