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776-D579-4A97-8530-4A3C3CE3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0CE-F843-4460-90BE-0A245C06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8AD-D99F-4382-B2EB-777954E0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7F7-A02C-4102-92EC-23990F99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80E-FA78-4E34-8ED7-2434FA4A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AC0-4256-4BA2-9610-D4B8BFE7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248-DB5C-4689-84EB-956622C3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4D4-EFA5-4C0F-889A-4964A88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B85-53D4-4C34-AC0A-E59D0940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45E-8FFD-4819-93AF-0E938FB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81B-CC60-4BE3-A35D-A520A22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E26-5858-45EF-951C-4ADDDA1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561CB-8178-4DEF-8BD3-BB2D21A2F7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TCP XR Blocks for Synchronization Delay and Offset Metrics Repor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09160" y="422604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 (asaeda@wide.ad.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chel Huang (rachel.huang@huawei.co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in Wu (sunseawq@huawei.co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1"/>
          <p:cNvSpPr/>
          <p:nvPr/>
        </p:nvSpPr>
        <p:spPr>
          <a:xfrm>
            <a:off x="685800" y="318132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aft-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宋体"/>
              </a:rPr>
              <a:t>ietf-xrblock-rtcp-xr-synchronization-00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2980440" y="64152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ETF, Vancouver,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XR Blocks report initial Synchronization Delay for all medias to join multimedia session and synchronization Offset between RTP streams belonging to the same multimedia sess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lestone updated on July 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00 WG draft submitted on July 3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ral changes made from -04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Change back to only report one single value of general synchronization off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Enlarge the size of synchronization offset value to 64 bit NTP timestamp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dd definition of Initial Synchronization De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Editorial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ussion on the Size of Synchronization Offs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millisecond as the unit (32-bit siz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: Insufficient for some scenarios requiring high accuracy. (e.g., networked stereo loudspeakers, video walls, etc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1/65535 second as the unit (32-bit siz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: the 15 microsecond accuracy of a 1/65536 timestamp is marginal for measuring presentation time for some audio applications and could be insufficient for future applications in other fiel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Using NTP timestamp (64-bit siz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: Sufficient for all the scenarios. No concer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ggested on the list and Adopt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dress all the remaining issues we rece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9T22:31:48Z</dcterms:created>
  <dc:creator>朝枝 仁</dc:creator>
  <dc:description/>
  <dc:language>en-US</dc:language>
  <cp:lastModifiedBy>朝枝 仁</cp:lastModifiedBy>
  <dcterms:modified xsi:type="dcterms:W3CDTF">2012-07-31T00:31:51Z</dcterms:modified>
  <cp:revision>11</cp:revision>
  <dc:subject/>
  <dc:title>RTCP XR Blocks for Synchronization Delay and Offset Metrics Reporting</dc:title>
</cp:coreProperties>
</file>