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2E2-A669-4D26-A29B-E07F39D7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90E-782B-49CB-A638-6D552FC3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4FE-6EFE-4E53-A684-77EDB613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C11-F0F3-4335-989F-C9CAB803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B2D-DB6F-45FC-B6E7-A531732C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15A-CAAA-42C1-BD5C-CB822418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2AA-CFAF-4C1C-9ABB-4E7F0EE2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5A2-1B0C-47D3-BF5F-A5ABE5A7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DB1-5DCD-42E9-8750-32E567A9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BC4-D435-41C4-A58D-FA2B6BDF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C51B-7057-4E34-9782-830FE954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F35-6CAE-4665-AF98-5453535B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E0F0B-1C20-4692-AC18-4EBB8D9AB3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TCP XR Blocks for Synchronization Delay and Offset Metrics Repor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09160" y="4226040"/>
            <a:ext cx="6929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toshi Asaeda (asaeda@wide.ad.j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chel Huang (rachel.huang@huawei.co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in Wu (sunseawq@huawei.co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タイトル 1"/>
          <p:cNvSpPr/>
          <p:nvPr/>
        </p:nvSpPr>
        <p:spPr>
          <a:xfrm>
            <a:off x="685800" y="318132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draft-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宋体"/>
              </a:rPr>
              <a:t>ietf-xrblock-rtcp-xr-synchronization-00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4"/>
          <p:cNvSpPr/>
          <p:nvPr/>
        </p:nvSpPr>
        <p:spPr>
          <a:xfrm>
            <a:off x="2980440" y="64152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ETF, Vancouver, Can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XR Blocks report initial Synchronization Delay for all medias to join multimedia session and synchronization Offset between RTP streams belonging to the same multimedia sessio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lestone updated on July 9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00 WG draft submitted on July 3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ral changes made from -04 ver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Change back to only report one single value of general synchronization offs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Enlarge the size of synchronization offset value to 64 bit NTP timestamp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dd definition of Initial Synchronization Del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Editorial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cussion on the Size of Synchronization Offse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ing millisecond as the unit (32-bit siz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: Insufficient for some scenarios requiring high accuracy. (e.g., networked stereo loudspeakers, video walls, etc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ing 1/65535 second as the unit (32-bit siz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: the 15 microsecond accuracy of a 1/65536 timestamp is marginal for measuring presentation time for some audio applications and could be insufficient for future applications in other fiel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Using NTP timestamp (64-bit siz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: Sufficient for all the scenarios. No concer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ggested on the list and Adopt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ddress all the remaining issues we rece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9T22:31:48Z</dcterms:created>
  <dc:creator>朝枝 仁</dc:creator>
  <dc:description/>
  <dc:language>en-US</dc:language>
  <cp:lastModifiedBy>朝枝 仁</cp:lastModifiedBy>
  <dcterms:modified xsi:type="dcterms:W3CDTF">2012-07-31T00:31:51Z</dcterms:modified>
  <cp:revision>11</cp:revision>
  <dc:subject/>
  <dc:title>RTCP XR Blocks for Synchronization Delay and Offset Metrics Reporting</dc:title>
</cp:coreProperties>
</file>