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AE208-0D4E-4FF2-8508-125574690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CFBA-228F-46E6-8AA1-5BEAC781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BDD41-DC80-4FE7-82B1-2984C8EF4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F84C5-72DA-4A60-94AE-872FADFDE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9B88-3415-4BC1-95CA-05A35E811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836C5-C411-4EA1-A8C7-548FECF27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71922-102E-4ECB-B894-E813A90F8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4B830-DCB3-49AC-A1EE-1A50B5C81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6E79-0DD0-4804-9E85-5C1D7FC2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0C7A6-EF84-4316-A281-53C5B8072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A849-F90F-49A2-B312-6462EBAF6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9FD6-9BEE-4A9F-B8A3-4E2BF582F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8B22-EB85-4C43-9FBB-31A529AC4630}"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688B-9B4C-4DB7-9D4A-3E84A26C949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0226-006F-4F94-B8D5-C5C906AD0541}"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43" name="PlaceHolder 1"/>
          <p:cNvSpPr>
            <a:spLocks noGrp="1"/>
          </p:cNvSpPr>
          <p:nvPr>
            <p:ph type="title"/>
          </p:nvPr>
        </p:nvSpPr>
        <p:spPr>
          <a:xfrm>
            <a:off x="725400" y="134928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RTCP XR Report Block for Discard metric Reporting</a:t>
            </a:r>
            <a:r>
              <a:rPr b="0" lang="en-US" sz="3600" spc="-1" strike="noStrike">
                <a:solidFill>
                  <a:srgbClr val="000000"/>
                </a:solidFill>
                <a:latin typeface="Arial"/>
                <a:ea typeface="宋体"/>
              </a:rPr>
              <a:t> </a:t>
            </a:r>
            <a:br>
              <a:rPr sz="3600"/>
            </a:br>
            <a:r>
              <a:rPr b="0" lang="en-US" sz="2800" spc="-1" strike="noStrike">
                <a:solidFill>
                  <a:srgbClr val="000000"/>
                </a:solidFill>
                <a:latin typeface="Arial"/>
                <a:ea typeface="宋体"/>
              </a:rPr>
              <a:t>draft-ietf-xrblock-rtcp-xr-discard-05</a:t>
            </a:r>
            <a:br>
              <a:rPr sz="4000"/>
            </a:br>
            <a:br>
              <a:rPr sz="3200"/>
            </a:br>
            <a:r>
              <a:rPr b="0" lang="en-US" sz="4400" spc="-1" strike="noStrike">
                <a:solidFill>
                  <a:srgbClr val="000000"/>
                </a:solidFill>
                <a:latin typeface="Arial"/>
                <a:ea typeface="宋体"/>
              </a:rPr>
              <a:t> </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44" name="PlaceHolder 2"/>
          <p:cNvSpPr>
            <a:spLocks noGrp="1"/>
          </p:cNvSpPr>
          <p:nvPr>
            <p:ph type="subTitle"/>
          </p:nvPr>
        </p:nvSpPr>
        <p:spPr>
          <a:xfrm>
            <a:off x="843120" y="3540240"/>
            <a:ext cx="7386480" cy="2070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eoff Hun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lan Clark</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len Zor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Qin Wu</a:t>
            </a:r>
            <a:endParaRPr b="0" lang="en-US" sz="2800" spc="-1" strike="noStrike">
              <a:solidFill>
                <a:srgbClr val="000000"/>
              </a:solidFill>
              <a:latin typeface="Arial"/>
            </a:endParaRPr>
          </a:p>
        </p:txBody>
      </p:sp>
      <p:sp>
        <p:nvSpPr>
          <p:cNvPr id="45"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46"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CEA7-90B8-4597-95A1-D6882726E51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B038-A518-418E-8BA5-A4A914C94D21}"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49" name="PlaceHolder 1"/>
          <p:cNvSpPr>
            <a:spLocks noGrp="1"/>
          </p:cNvSpPr>
          <p:nvPr>
            <p:ph type="title"/>
          </p:nvPr>
        </p:nvSpPr>
        <p:spPr>
          <a:xfrm>
            <a:off x="457200" y="-36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Document Status</a:t>
            </a:r>
            <a:endParaRPr b="0" lang="en-US" sz="4400" spc="-1" strike="noStrike">
              <a:solidFill>
                <a:srgbClr val="000000"/>
              </a:solidFill>
              <a:latin typeface="Arial"/>
            </a:endParaRPr>
          </a:p>
        </p:txBody>
      </p:sp>
      <p:sp>
        <p:nvSpPr>
          <p:cNvPr id="50" name="PlaceHolder 2"/>
          <p:cNvSpPr>
            <a:spLocks noGrp="1"/>
          </p:cNvSpPr>
          <p:nvPr>
            <p:ph/>
          </p:nvPr>
        </p:nvSpPr>
        <p:spPr>
          <a:xfrm>
            <a:off x="555480" y="674280"/>
            <a:ext cx="8229600" cy="52722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ersion (-02) has got sufficient and dense review by Kevin Gross and Varun Singh after Paris meet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ersion (-03) as basis Enter into WGLC in June 11 together with Discard RLE draf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wo updates (-04) (-05) were issued to address the comments during WGLC.</a:t>
            </a:r>
            <a:endParaRPr b="0" lang="en-US" sz="20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eordering the discard type</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rify how to report combination of 3 discard types</a:t>
            </a:r>
            <a:endParaRPr b="0" lang="en-US" sz="16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any thanks to the reviewers</a:t>
            </a:r>
            <a:endParaRPr b="0" lang="en-US" sz="20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run Singh, Alan Clark, Shida Schubert, Romascanu, Dan</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Claire Bi(jiayu)</a:t>
            </a:r>
            <a:r>
              <a:rPr b="0" lang="en-US" sz="1600" spc="-1" strike="noStrike">
                <a:solidFill>
                  <a:srgbClr val="000000"/>
                </a:solidFill>
                <a:latin typeface="Arial"/>
                <a:ea typeface="宋体"/>
              </a:rPr>
              <a:t> </a:t>
            </a:r>
            <a:endParaRPr b="0" lang="en-US" sz="16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is draft support reporting the number of packets discards in four cases</a:t>
            </a:r>
            <a:endParaRPr b="0" lang="en-US" sz="20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derflow in one report interval</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verflow in one report interval</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oth underflow and overflow in one interval</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uplication packets discards</a:t>
            </a:r>
            <a:endParaRPr b="0" lang="en-US" sz="16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ne open issue remains.</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06A1-5E66-4509-8061-DC07899A04B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3480" y="-195480"/>
            <a:ext cx="885204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Issue #  Duplication Packets discards</a:t>
            </a:r>
            <a:endParaRPr b="0" lang="en-US" sz="4000" spc="-1" strike="noStrike">
              <a:solidFill>
                <a:srgbClr val="000000"/>
              </a:solidFill>
              <a:latin typeface="Arial"/>
            </a:endParaRPr>
          </a:p>
        </p:txBody>
      </p:sp>
      <p:sp>
        <p:nvSpPr>
          <p:cNvPr id="53" name=""/>
          <p:cNvSpPr txBox="1"/>
          <p:nvPr/>
        </p:nvSpPr>
        <p:spPr>
          <a:xfrm>
            <a:off x="198360" y="663480"/>
            <a:ext cx="8686800" cy="5710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t is agreed that the packet discarded due to duplication is regarded as one discard typ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consensus is to report duplication packets discard separate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current draft allocate DT =0 to this discard typ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an proposed on the list to add some background to explain the cause of duplication packets disc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d one statement at the end of the definition of Discard Type as follow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te that duplicating RTP packets using RTP replication may lead to breakage of RTP media streams or RTCP rules. In order not to  disrupt all the RTCP statistics, it is recommended to duplicate RTP packets as described in draft-ietf-avtext-rtp-duplication-00 which will not  cause breakag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ut draft-ietf-avtext-rtp-duplication-00 as informative reference.</a:t>
            </a:r>
            <a:endParaRPr b="0" lang="en-US" sz="2000" spc="-1" strike="noStrike">
              <a:solidFill>
                <a:srgbClr val="000000"/>
              </a:solidFill>
              <a:latin typeface="Arial"/>
            </a:endParaRPr>
          </a:p>
        </p:txBody>
      </p:sp>
      <p:sp>
        <p:nvSpPr>
          <p:cNvPr id="54" name="日期占位符 3"/>
          <p:cNvSpPr/>
          <p:nvPr/>
        </p:nvSpPr>
        <p:spPr>
          <a:xfrm>
            <a:off x="579600" y="638172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3E51-6BB4-47D9-BB1C-D60E29F26FBF}"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5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56" name="灯片编号占位符 5"/>
          <p:cNvSpPr/>
          <p:nvPr/>
        </p:nvSpPr>
        <p:spPr>
          <a:xfrm>
            <a:off x="6607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A910-823F-496D-B627-4784544840C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F887-49AE-4870-B4BA-6B6BD4018BB6}"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5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RBLOCK IETF 84 Vancouver</a:t>
            </a:r>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ollow Up</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ddress the open issue by issuing new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One more WGLC?</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1F04-FB3E-4F33-8E5D-FF1680B252D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05:52Z</dcterms:created>
  <dc:creator>Rajeev-K</dc:creator>
  <dc:description/>
  <dc:language>en-US</dc:language>
  <cp:lastModifiedBy>w53375</cp:lastModifiedBy>
  <dcterms:modified xsi:type="dcterms:W3CDTF">2012-08-01T14:51:57Z</dcterms:modified>
  <cp:revision>1097</cp:revision>
  <dc:subject/>
  <dc:title>NetExt BO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4qMIFP6bwAkA+YYR979EApBj6bdHUC0EZtKNMgnAktDpBUoD+EgGYXFEiSlURm3tZeqsP3p1
RQIyaIW/lcqjWzwFsPlIMwaap6UpKw6RL8h3jjzplUgaLF+kpyQSh3jH5gcDXDJzEUyDHi9F
GLTezKu1uwngE+mJ+E6WSNb0mOYiP6PskePhnwT+fSk5ajZBwPHIcU2l8OHmiw+zLB1tcB9r
JUdQN8R6mIS9ZYimtS</vt:lpwstr>
  </property>
  <property fmtid="{D5CDD505-2E9C-101B-9397-08002B2CF9AE}" pid="3" name="_ms_pID_7253431">
    <vt:lpwstr>dGq+aJzJbo4+WzWxePK2eOisw5BZ4bsU6Y2s2qm/jd5L29gbYOyovu
xNdixul0GXxrAcGHeQDeVHoG16tIjwKH+idiHtE70JY6JLwfr1x7Gw5lyjvlAczgNEDtQdcP
CXrTZRcg+X775fMVIiFAAl/9hCwG3Idi78Jnn2zkuheLvamly/RByD1JeWN1RhytQbcoZ43X
JP48Xs9xkXFPv2Qw</vt:lpwstr>
  </property>
  <property fmtid="{D5CDD505-2E9C-101B-9397-08002B2CF9AE}" pid="4" name="sflag">
    <vt:lpwstr>1343832156</vt:lpwstr>
  </property>
</Properties>
</file>