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FB06FB8-A853-48FC-8272-B94B1861C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C922059-8EA4-4A21-9788-2C21131722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677C18F-A380-4A53-8604-C21458D336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8C2D17D-170A-463A-88DF-AFFFD61EDF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AB742C3-0EAE-4DF3-B443-26049CDD3E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663DD4C-A59C-4A70-B44A-B0C6871761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CDC5270-EC7B-4ED7-8C47-96932BDD01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9F97F83-7961-4334-B6DF-FF870AB1D2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429472B-6A4C-4E53-A6F2-10F364C305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354211F-D902-4751-868C-1237716AD1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07CC745-E579-43AD-92AE-956CD127B9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07EA48F-168C-4A85-B0EF-366B992F70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2FBB56F-B85E-4A80-8AA8-31B0090D71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E672BDB-A9F4-499E-A867-32538BB5E8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C38C7D1-1407-4328-AC7E-AFDA925CBA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63D5D46-B0FF-4C3A-8352-D3517A202E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A7D0CAF-5335-4367-9DED-813C1024F3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9032879-4568-4D35-A18F-1A34FAD80E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916DA39-44A5-4291-AFFC-B9C1333060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331AC97-715E-4D7D-B1DC-5EC9703C61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755A3CA-DE1A-409A-B15C-03CCF46C5D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489BEC2-9FE1-4A9C-9378-7CB7DF26D4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0695342-4C07-4B0D-8F60-C937948399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B74A2D5-6854-490F-80A2-432CD05F16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0F218FB-A33C-4308-B4B4-28E5A42E7C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CB1DC-373D-4513-98D8-BE7FF0CD20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2E28-88BC-4257-9FA4-9C1640E9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B0CCC-EE9A-4CB2-99A2-18F2A05D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9D76-09EF-4274-BBEC-DA90C8625C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7721C-9961-4EC5-A731-F305FD21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A8B62-5A3F-4AAD-92E3-3EBC4CCB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E27E7-DB67-45F9-A92C-78D81D0C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63A92-9F54-4EDE-8152-9A86EB91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1442-D523-4612-AC64-DE70ECFF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70223-342F-4849-9544-16860114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707AE-5813-4BCD-8F4C-7B52D71F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76218-0E37-434E-8F28-7827F77B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fld id="{F5549AF3-4825-4C34-89EF-9D7818882DF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fld id="{E780B6BB-1F8C-49DE-95B8-BC850A429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trac.tools.ietf.org/wg/6tisch/trac/query?status=new&amp;status=assigned&amp;status=reopened&amp;component=6top-protoco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trac.tools.ietf.org/wg/6tisch/trac/ticket/43" TargetMode="External"/><Relationship Id="rId2" Type="http://schemas.openxmlformats.org/officeDocument/2006/relationships/hyperlink" Target="https://tools.ietf.org/html/draft-ietf-6tisch-6top-protocol-02#section-4.3.6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trac.tools.ietf.org/wg/6tisch/trac/ticket/45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tools.ietf.org/html/draft-ietf-6tisch-6top-protocol-02#section-4.3.3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tools.ietf.org/html/draft-ietf-6tisch-6top-protocol-02#section-4.3.8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ietf.org/mail-archive/web/ieee-ietf-coord/current/msg00851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228600" y="4924440"/>
            <a:ext cx="808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cal Thub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omas Wattey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pad for minu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etherpad.tools.ietf.org:9000/p/6tisch?useMonospaceFont=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581280" y="3886200"/>
            <a:ext cx="52578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Pv6 over the TSCH mode of IEEE 802.15.4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914400" y="241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 October 2016 Web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Richard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 on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Watteyne,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 on 6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ckets capture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hread is started on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 scrub during interi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hrough list of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 on what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published on ML, 48h period to disa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onsens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captured in ti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ket reassigned to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 fixes in 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raft published, ticket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e la date 3"/>
          <p:cNvSpPr/>
          <p:nvPr/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fld id="{D36833D3-3BA9-4D4B-8289-FA8A1A2DED49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3BF5966-F632-4A2A-B95D-ACC608B2C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A500392-8277-4083-B6D0-7CD2FAE6E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2E6FE11-9BB6-4CDF-ACAF-CE0AA734A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03FC5A1-404C-47F6-AFBB-D48BFFDF4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952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trac.tools.ietf.org/wg/6tisch/trac/query?status=new&amp;status=assigned&amp;status=reopened&amp;component=6top-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Image 1" descr=""/>
          <p:cNvPicPr/>
          <p:nvPr/>
        </p:nvPicPr>
        <p:blipFill>
          <a:blip r:embed="rId2"/>
          <a:stretch/>
        </p:blipFill>
        <p:spPr>
          <a:xfrm>
            <a:off x="2195640" y="3284640"/>
            <a:ext cx="39052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F48F213-5DC4-407A-9570-213D141A8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026BEFD-A2DF-47A5-91A7-127FC5B5E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3409074-3139-44A6-A8DC-C4D10068D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79A7A83-0F7A-4B60-A192-99A9854E2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cket #43 - 6P CLEAR command should cause both node to clear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952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trac.tools.ietf.org/wg/6tisch/trac/ticket/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s://tools.ietf.org/html/draft-ietf-6tisch-6top-protocol-02#section-4.3.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6.  Clearing the Schedu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en a 6P CLEAR command is issued from node A to node B, both nodes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B MUST remove all the cells scheduled between them.  That is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 A MUST remove all transmit and receive cells with node B, 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 B MUST remove all transmit and receive cells with node A.  In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6P CLEAR command, the generation counters GAB and GBA MUST NOT 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ed.  That is, their value is "don't care".  In particular, ev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 schedule generation mismatch is detected, it MUST NOT cause th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action to abort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K to clos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5BE1B75-9130-4630-BFC1-093B949BD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0B51DF7-3512-4831-A123-A3C3A7A3F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4599527-B70E-4A73-B0AB-A11A3C214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7ED6E2B-7268-4106-9956-B6A5AE8AA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cket #45 - details missing on error c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952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trac.tools.ietf.org/wg/6tisch/trac/ticket/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Tengfei] error codes not detailed enough. What does RC_ERROR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Dale] exact error code returned can be implementation specific. [light disagreement from Qin and Xavi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Tengfei] what does "reset a transaction" mean? [response from Xavi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Tengfei] don't use RC_ERR directly in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CD0A849-9545-4CD7-8345-660BE366F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8E97925-02A4-4C0C-8585-5E1211328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17E89A2-359D-4ED2-AD67-BC4A843A4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FFF19B0-29B1-4A81-A16C-681F3805F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cket #45 - details missing on error c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952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RC_ERROR: don’t have the draft return that error code returned, it’s too gene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tools.ietf.org/html/draft-ietf-6tisch-6top-protocol-02#section-4.3.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Only a single 6P Transaction between two neighbors, in a give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, can take place at the same time.  That is, a node MUST NO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ssue a new 6P Request to a given neighbor before having received th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6P Response for a previous request to that neighbor.  The only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to this rule is when the previous 6P Transaction has time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out.  If a node receives a 6P Request from a given neighbor befo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having sent the 6P Response to the previous 6P Request from tha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neighbor, it MUST send back a 6P Response with a return code o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C_ERR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ourier New"/>
              </a:rPr>
              <a:t>Change for RC_ERR_RESET? A new error code?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9C9B829-1470-471A-8B15-4638C7508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308D6BA-DF63-43DD-9788-B407C0B04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5E1ACB2-85DF-43D9-B002-F2D7641CF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F9469DD-B528-47D7-9498-B4303A9A6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cket #45 - details missing on error c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24000" y="1628640"/>
            <a:ext cx="80010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tools.ietf.org/html/draft-ietf-6tisch-6top-protocol-02#section-4.3.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n case the receiver of a 6top request fails during a 6P Transac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is unable to complete it, it SHOULD reply to that request with 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6P Response with return code RC_ERR_RESET.  Upon receiving this 6to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ply, the initiator of the 6P Transaction MUST consider the 6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action as faile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ourier New"/>
              </a:rPr>
              <a:t>Per RFC793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Gener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As a general rule, reset (RST) must be sent whenever a segment arriv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 apparently is not intended for the current connection.  A res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must not be sent if it is not clear that this is the cas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osal: add this text in draft?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ABCD236-C7BF-4C71-8651-AFF5207BA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B6A6821-8675-4775-A788-57D6443C5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E76FDBB-EBD3-4119-A6F4-ABD8E0895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FFFF42F-7E8A-44E1-B9F9-778C1A30E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cket #46 -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dd LinkOptions flags to 6P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trac.tools.ietf.org/wg/6tisch/trac/ticket/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: add a bitmap of flags to a 6P ADD command so that a node can schedule both TX and RX cells to its neighbor, possibly sha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: 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beginning of each 6P cell format? (https://tools.ietf.org/html/draft-ietf-6tisch-6top-protocol-02#section-4.2.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beginning of just the 6P ADD (https://tools.ietf.org/html/draft-ietf-6tisch-6top-protocol-02#section-4.2.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reference for RX or TX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cal,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 for SF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832C6FD-BEC6-4BCB-86B4-D8443F06E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7131D0A-1286-45A2-A282-5FF89BE47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 W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ummary is only meant to point you in the right direction, and doesn't have all the nuances. The IETF's IPR Policy is set forth in BCP 79; please read it carefu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ef summar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ticipating with the IETF, you agree to follow IETF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aware that a contribution of yours (something you write, say, or discuss in any IETF context) is covered by patents or patent applications, you need to disclose that f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understand that meetings might be recorded, broadcast, and publicly archi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urther information, talk to a chair, ask an Area Director, or review the follow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9 (on the Internet Standards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25 (on the Working Group process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8 (on the IETF Tru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9 (on Intellectual Property Rights in the IET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0ED70C3-5F8E-4AC2-87CF-DC249C07E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FD922B1-DEB0-4278-A880-80541FCE1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1CDAEBB-7B8A-45A5-8F43-D51DDD7B5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17573CD-0BAC-403D-8BCD-B15C15090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SSUE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492120" y="1817640"/>
            <a:ext cx="80010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umber of issues discussed at 10/23 inter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ascal’s understanding w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6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ego starts thread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6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scal enters issues from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tatus: threads not star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9A9E1B0-A7BB-4AE6-9DD7-059B266D1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C8E3527-4B0A-472C-A80C-18D58247E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5B2368E-4A57-4E52-9DA8-66958D817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D8E25F7-B5FB-431C-AB85-34BF9715D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79600" y="1484280"/>
            <a:ext cx="80010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ell al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se of shared cells, flex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imeout calc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se of acronyms? Use of meta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utband bandwidth calc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 bandwidth is confusing. Is it a number of packets per second? per frame? a number of cel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ing bandwidth+PDR the right way? Wouldn’t cells me simpl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5919650-FFCE-44C6-9209-2E8F7D143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7202600-8E38-45DB-BF00-0F07DF69B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18AB7C4-9C33-4A67-8ACC-D2309A897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75592DD-64D3-4C14-8658-234E99218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24000" y="141300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0 is critical to the performance of 6TiSCH (~OF in RP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find a balance betwe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160" indent="-269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’s sim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4160" indent="-269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performs reasonably we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raft must contain elements that show that “it work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160" indent="-269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ce between std track and experimen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Evaluation”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160" indent="-269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s (e.g. on 6TiSCH simulator https://bitbucket.org/6tisch/simulator/sr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4160" indent="-269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ation (e.g. on OpenWSN www.openwsn.or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4160" indent="-269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4160" indent="-269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ould contain a “call for performance evaluation” in some 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OB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234DD5A-9D14-4A3C-AC58-0EB301E65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668E51D-F0F4-4550-864F-7D9E2A846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A6D13DB-537E-4F10-936C-731272C8C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C791D4B-E612-478B-ACDE-21EBD6BA1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satish-6tisch-6top-sf1-0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808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shed Aug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authors want to present at interim call? At IETF97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BE39C09-7DCE-4334-AA97-72EC4C7D0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F74B184-1DFE-4BDE-AA06-B9E6AE824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7DD5B4B-AC9D-4C02-B495-B5E4B053D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146F397-FC3D-48A0-98A7-0235DCE6C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web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808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mas cannot attend Oct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sal: move to oct 28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C9ED2BB-7B20-4240-9CF1-30D98E6B6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63E8E6C-A580-4365-8DBA-8EE99040C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695D81D-93EE-4FAC-90BF-8539DD528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D2F35EA-C0E9-4D53-B605-4B1BD1337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90520" y="5335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Reminder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Minutes are taken *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This meeting is recorded ** 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Presence is logged **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80880" y="472428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Scribe; please contribute online to the minutes a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etherpad.tools.ietf.org:9000/p/6tisch?useMonospaceFont=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Recordings and Minutes are public and may be subject to discovery in the event of litig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** From the Webex lo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BACDBD9-1C66-4483-9B21-4FFA1689D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F48596B-53C1-4548-99AF-431949976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59B4E1A-B5E2-438F-9CB2-FFC6FA578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84BED9A-2DDC-4B3B-ADF3-679410710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52BAAE7-5C40-43A7-85DA-C16A1D525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6836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57040" y="1989000"/>
            <a:ext cx="865188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da ba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val minutes from last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TF Update (chai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eting time, template, agen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Security [Michael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6top [Thomas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 for SF0 [Pascal]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istriv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05AD184-4AA6-402F-83C3-EF89F40E7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85BF323-D9FF-46CC-9F91-9DDA33C90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FF74C20-3B59-4873-82CA-B0A054E5C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E95B9D6-F612-42ED-928E-23D5B2348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 is triv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08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val 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val min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ietf.org/blog/2016/09/working-with-the-iee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4292280"/>
            <a:ext cx="822816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9 September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tes a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ietf.org/mail-archive/web/ieee-ietf-coord/current/msg0085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summary by Pasc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s://www.ietf.org/blog/wp-content/uploads/2016/09/mtg.jpg"/>
          <p:cNvPicPr/>
          <p:nvPr/>
        </p:nvPicPr>
        <p:blipFill>
          <a:blip r:embed="rId2"/>
          <a:stretch/>
        </p:blipFill>
        <p:spPr>
          <a:xfrm>
            <a:off x="1619280" y="1413000"/>
            <a:ext cx="571500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TF Upd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AF6F4B9-3F1D-4002-9550-2614AC86B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550A4E7-48A0-4DA4-A2C6-5D7E08E5D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6397730-3DB1-49BB-8D92-245D6E9C6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3EB2C57-2201-45E9-89AB-F4149D7C2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ETF upd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95280" y="1557360"/>
            <a:ext cx="82026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89800" indent="-289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inimal draft: Suresh in the middle of the AD evaluation review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0000" indent="-241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ecting update mail soon (like tod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800" indent="-289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PWAN approved at IESG internal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800" indent="-289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LoRH progressing smoothly at IE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0000" indent="-241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required’ may also require designated  IETF expert revie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000" indent="-241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outing dispacth at telechat  on 10/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800" indent="-289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 drafts in adoption call at 6lo (please participate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0000" indent="-241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raft-hong-6lo-use-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000" indent="-241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raft-sarikaya-6lo-ap-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000" indent="-241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05:55:25Z</dcterms:created>
  <dc:creator>Thomas</dc:creator>
  <dc:description/>
  <cp:keywords/>
  <dc:language>en-US</dc:language>
  <cp:lastModifiedBy>Pascal Thubert (pthubert)</cp:lastModifiedBy>
  <dcterms:modified xsi:type="dcterms:W3CDTF">2016-10-07T14:23:29Z</dcterms:modified>
  <cp:revision>9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