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C311E77-21D9-4144-A53F-FB126BDA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D593DF1-C30A-4AE6-BE35-D987CC8E6B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16E164F-D27B-4D93-8A13-0EBCBB133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5DFAEF0-F8FA-4088-87E9-DED60701BB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F950734-3BE8-417F-A424-C854F4299E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B1D663C-B87B-456B-A5BB-19330A904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EAFEEA8-A1A1-4AA9-8032-77BCAEF652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D0FFF98-A738-42F5-BD96-EA6F630BF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535571B-F69C-42FF-90BD-F14B6CD51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B22147D-A0DE-4E5D-9174-DBAD8C808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ED3739A-ABDB-42C4-8C04-D2194B1D7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3A6EEEB-45EE-4242-86BC-279D078BF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B012889-7907-4963-AAAE-24A2F9D54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DA4A024-D681-4C2B-94B0-50041DDFF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D163A31-EBBA-41D6-A21D-BF444B212E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B50FFCC9-E80F-48D1-B908-0CFE8B411D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B47C437-D4E4-4F6C-96A4-DCE915A1D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AF36078-C26C-4204-8F7D-4CCFC723F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6B389F4-EC37-4749-9EE1-1860CA6EC2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EE72574-4F22-400B-B836-0A3FDE06C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5ED4B2E-9F27-4059-87F0-34D39CBEB6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6B5891F-9480-425E-9925-F5F7B09548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3954B28-1C1A-463D-8AA8-F27161C12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CD3CF1D-7E7C-47CE-B512-0BF8C9DDCE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CE72CF6-6D70-4EA4-BAFB-B837E6F6B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98B5-6A5E-4771-A18E-91F41084A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1710-5B93-4750-B864-40D9258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1D73-533A-4567-A1AD-B99FBA8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A67A-930C-43CE-B6C6-FDFACAB33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6C61-CEDE-4AB0-A261-47DFAB1D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D2F5-036F-45D8-88AF-D015473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62E5-1D5D-4BDC-B895-D48AF89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202A-A66A-40D1-BE41-815E0225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48F1-76A0-4162-B1FA-2D331554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2E23-698F-40D5-844D-DDB96287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E51F-C44F-4879-B92F-F0C975A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7C63-3005-4208-8B3F-EBCCDDE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2741692E-95BA-4BE3-839B-C6C98639475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12ACDFD1-459F-41B4-8EC2-67931FCE7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query?status=new&amp;status=assigned&amp;status=reopened&amp;component=6top-protoco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ticket/43" TargetMode="External"/><Relationship Id="rId2" Type="http://schemas.openxmlformats.org/officeDocument/2006/relationships/hyperlink" Target="https://tools.ietf.org/html/draft-ietf-6tisch-6top-protocol-02#section-4.3.6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trac.tools.ietf.org/wg/6tisch/trac/ticket/4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tools.ietf.org/html/draft-ietf-6tisch-6top-protocol-02#section-4.3.3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tools.ietf.org/html/draft-ietf-6tisch-6top-protocol-02#section-4.3.8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ietf.org/mail-archive/web/ieee-ietf-coord/current/msg0085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28600" y="4924440"/>
            <a:ext cx="808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cal Thub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Wattey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pad for minu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581280" y="3886200"/>
            <a:ext cx="5257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v6 over the TSCH mode of IEEE 802.15.4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416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October 2016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on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Watteyne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on 6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s capture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ad is started on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scrub during inter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list of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on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ublished on ML, 48h period to dis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en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aptured in 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 reassigned to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 fixes in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raft published, ticket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479240"/>
                <a:tab algn="l" pos="10934640"/>
              </a:tabLst>
            </a:pPr>
            <a:fld id="{DDD3A706-BBC5-4180-801D-ED0B035DD68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4E8A2ED-2CE6-4F05-9D83-7DAADAE9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561D046-1BEA-47D6-9AAA-519E5C56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CA73CF30-10E9-4061-A2C0-A0E667B5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98BAE14-7A65-4C6F-8EA4-2DCC747E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query?status=new&amp;status=assigned&amp;status=reopened&amp;component=6top-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Image 1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39052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FC0BEAF-2B2F-4E39-9851-831F5F51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B64A3FF-6A18-411A-88DE-7A1AF094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6624F9C-119E-4812-A353-BAFD8D7A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39971AF-08D9-41F0-9B09-26BD16821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3 - 6P CLEAR command should cause both node to clea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ticket/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tools.ietf.org/html/draft-ietf-6tisch-6top-protocol-02#section-4.3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4.3.6.  Clearing the Schedu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en a 6P CLEAR command is issued from node A to node B, both nodes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B MUST remove all the cells scheduled between them.  That is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 A MUST remove all transmit and receive cells with node B, 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 B MUST remove all transmit and receive cells with node A.  In 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6P CLEAR command, the generation counters GAB and GBA MUST NOT 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ed.  That is, their value is "don't care".  In particular, e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 schedule generation mismatch is detected, it MUST NOT cause t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to abor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to clo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2562612-6F01-4AC3-AE00-64F4D6D8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1D2DBC1-BDA2-4380-B9CA-69013864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2BD3EE-27F4-47DF-8D22-1E1C6E6C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4AAEC65-639F-40A7-808F-C6B62037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rac.tools.ietf.org/wg/6tisch/trac/ticket/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error codes not detailed enough. What does RC_ERROR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ale] exact error code returned can be implementation specific. [light disagreement from Qin and Xa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what does "reset a transaction" mean? [response from Xav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engfei] don't use RC_ERR directly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24263A7-108E-4164-9FDE-F26F76AB0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6B01F48-E590-4149-8A61-52EC51E8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C9A785A-A778-4270-911B-B0343D2CD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6D989C3-123F-4714-B200-DFB2C09B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RC_ERROR: don’t have the draft return that error code returned, it’s too gene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ools.ietf.org/html/draft-ietf-6tisch-6top-protocol-02#section-4.3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ly a single 6P Transaction between two neighbors, in a giv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, can take place at the same time.  That is, a node MUST NO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ssue a new 6P Request to a given neighbor before having received t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6P Response for a previous request to that neighbor.  The onl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ion to this rule is when the previous 6P Transaction has tim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  If a node receives a 6P Request from a given neighbor befo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aving sent the 6P Response to the previous 6P Request from th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ighbor, it MUST send back a 6P Response with a return code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C_ERR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Change for RC_ERR_RESET? A new error code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08688BA-7AEE-487A-81D2-1A9E6E78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857EFA5-5F78-4A2D-8B09-5DD9B12F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BE3A9AA-F0ED-4EC9-ABDE-F27C565E2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64EB704-EB05-4145-9935-56B2C10E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5 - details missing on 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24000" y="162864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tools.ietf.org/html/draft-ietf-6tisch-6top-protocol-02#section-4.3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 case the receiver of a 6top request fails during a 6P Transa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is unable to complete it, it SHOULD reply to that request with 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6P Response with return code RC_ERR_RESET.  Upon receiving this 6to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ply, the initiator of the 6P Transaction MUST consider the 6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 as fail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ourier New"/>
              </a:rPr>
              <a:t>Per RFC793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Gene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s a general rule, reset (RST) must be sent whenever a segment arriv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apparently is not intended for the current connection.  A res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must not be sent if it is not clear that this is the cas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osal: add this text in draft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8360020-4F7E-44B1-8409-9769E971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CC87AC6-455F-41E2-82C1-179896E8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BA5CA14-A5AD-47B5-BD76-E82C9DD8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CA37325-A543-47CC-9702-90FD0D2D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#46 -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d LinkOptions flags to 6P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trac.tools.ietf.org/wg/6tisch/trac/ticket/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add a bitmap of flags to a 6P ADD command so that a node can schedule both TX and RX cells to its neighbor, possibly sha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beginning of each 6P cell format? (https://tools.ietf.org/html/draft-ietf-6tisch-6top-protocol-02#section-4.2.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beginning of just the 6P ADD (https://tools.ietf.org/html/draft-ietf-6tisch-6top-protocol-02#section-4.2.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reference for RX or TX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 for SF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DF9D809E-96AB-43D2-9686-16DDC4D3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4D2A45E-4A22-4A23-A74E-FCC3B4B9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mmary is only meant to point you in the right direction, and doesn't have all the nuances. The IETF's IPR Policy is set forth in BCP 79; please read it carefu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ef summ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ticipating with the IETF, you agree to follow IETF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aware that a contribution of yours (something you write, say, or discuss in any IETF context) is covered by patents or patent applications, you need to disclose that f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nderstand that meetings might be recorded, broadcast, and publicly archi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rther information, talk to a chair, ask an Area Director, or review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9 (on the Internet Standards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25 (on the Working Group proces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8 (on the IETF Tru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 79 (on Intellectual Property Rights in the IE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DCE9B9-EE34-4C73-9890-A83BA4E30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E113A4-9C4C-4DD4-A4FA-FE670DF4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95D585B-26A8-4BF4-BE8E-1DF7B66B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617E151-F2AF-4B38-A626-3645F5AA7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SSUE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92120" y="181764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of issues discussed at 10/23 inter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scal’s understanding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ego starts thread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3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cal enters issues from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atus: threads not star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B2B2BDD-17C4-46FF-8C53-1B40DC71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C379CF3-3DCF-4A19-9630-2D15F9CA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6A6E657D-B0F1-4048-ADAA-B1ABB76F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A1C901D-64FD-4B14-AF5F-BEB005DA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79600" y="1484280"/>
            <a:ext cx="80010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ll al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e of shared cells, flex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imeout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e of acronyms? Use of meta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utband bandwidth cal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bandwidth is confusing. Is it a number of packets per second? per frame? a number of ce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2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ing bandwidth+PDR the right way? Wouldn’t cells me simpl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67AE75D-A2AB-4AC9-BD92-6CDF3718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2EB562F-9290-4098-AD2A-D1FFA7C5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A7DBF22-B25A-47F5-881D-1D6E2B81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22D1779-B98D-4A10-BDC4-49600F7B1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141300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0 is critical to the performance of 6TiSCH (~OF in R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find a balance betwe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si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performs reasonably w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 must contain elements that show that “it work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 between std track and experimen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Evaluation”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s (e.g. on 6TiSCH simulator https://bitbucket.org/6tisch/simulator/sr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tion (e.g. on OpenWSN www.openwsn.or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4160" indent="-269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uld contain a “call for performance evaluation” in some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B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AF0EC91-72C4-46BF-925C-AE532644D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DE6F970-741E-4EAB-919A-1325CEDF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CD206E9-D9DD-49B8-A678-0FBFE7E9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BD9B0C8-924D-4350-B471-87215217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-satish-6tisch-6top-sf1-0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shed Aug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authors want to present at interim call? At IETF97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5768BF5-302A-4E95-8AA0-3CDD5AA8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D56F6B4-6BBF-4392-AC5E-959AF7E5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518C28F2-A32A-4C19-8216-4D05A091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12EFED7-4EB3-4523-85F3-6CDE820D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web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mas cannot attend Oct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al: move to oct 2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A6D39B8-626F-4D4A-A565-5C3BEFA5F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E8A76C85-1C84-4B28-A820-804EFC57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7FE8283-66B5-4FC5-9A79-506FEE1E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400DBE3-A733-46E7-9232-17CB1CC9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0520" y="5335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Reminder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Minutes are taken *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This meeting is recorded ** </a:t>
            </a:r>
            <a:br>
              <a:rPr sz="4000"/>
            </a:b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Presence is logged **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880" y="4724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cribe; please contribute online to the minu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etherpad.tools.ietf.org:9000/p/6tisch?useMonospaceFont=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Recordings and Minutes are public and may be subject to discovery in the event of liti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* From the Webex 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AA0D81E6-C461-4235-9599-B72DEEFE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217B5022-58DC-4E6B-82D1-84FA1082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B2A9E06-8A87-4ACC-9C9A-D6086B08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704EF6AC-B114-44EB-A209-E6C4B889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B4E288A-446D-49CE-8CC9-BC20BC4E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7040" y="1989000"/>
            <a:ext cx="865188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ba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minutes from last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TF Update (chai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 time, template, age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Security [Michael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6top [Thomas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 for SF0 [Pascal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0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r" pos="822960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min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3795F3E2-95EE-46B0-A134-0F19EECB2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477DD259-DC65-473C-B4E3-C9F582E8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A108B21-4FE1-4A5C-B082-540659FC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1F859B78-2EE1-4A07-83B6-28CE14F2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 is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1916280"/>
            <a:ext cx="800100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val min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ietf.org/blog/2016/09/working-with-the-iee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4292280"/>
            <a:ext cx="822816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9 September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ietf.org/mail-archive/web/ieee-ietf-coord/current/msg0085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ummary by Pas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www.ietf.org/blog/wp-content/uploads/2016/09/mtg.jpg"/>
          <p:cNvPicPr/>
          <p:nvPr/>
        </p:nvPicPr>
        <p:blipFill>
          <a:blip r:embed="rId2"/>
          <a:stretch/>
        </p:blipFill>
        <p:spPr>
          <a:xfrm>
            <a:off x="1619280" y="1413000"/>
            <a:ext cx="57150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05F033CD-D2CC-4FF6-9693-9EB49F8F5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5A25A88-95B0-40DA-A49B-93031F75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9E2ECA6C-6D63-4209-B21A-70BDD90D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fld id="{8633B2F6-8946-4A08-B7D8-11B3C2237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5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79240"/>
                <a:tab algn="l" pos="109346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ETF 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5280" y="1557360"/>
            <a:ext cx="82026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nimal draft: Suresh in the middle of the AD evaluation review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ecting update mail soon (like 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PWAN approved at IESG intern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LoRH progressing smoothly at IE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required’ may also require designated  IETF expert re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outing dispacth at telechat  on 10/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800" indent="-289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 drafts in adoption call at 6lo (please participate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-hong-6lo-use-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-sarikaya-6lo-ap-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000" indent="-241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47924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5:55:25Z</dcterms:created>
  <dc:creator>Thomas</dc:creator>
  <dc:description/>
  <cp:keywords/>
  <dc:language>en-US</dc:language>
  <cp:lastModifiedBy>Pascal Thubert (pthubert)</cp:lastModifiedBy>
  <dcterms:modified xsi:type="dcterms:W3CDTF">2016-10-07T14:23:29Z</dcterms:modified>
  <cp:revision>9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