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3DA0BA7-48C6-46B9-873F-2874891C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C67C988-1C09-444E-84A7-3D6D503BF9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6653288-76E0-4285-A281-0BB423D0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5523B0A-80FC-4BED-BD67-4DA75CEE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631C628-DE21-46AE-804D-FD73FF19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6AD2652-3331-4228-B34A-366200F1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A011FF6-500E-4807-BDBC-AB715BBA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F0A51DA-C705-4567-B0F5-646EABCF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EC6977-229F-455B-B9D1-67B2C3C17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4D947C5-349F-4F38-A92C-505FF967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E4C7906-DDB4-4EED-BED8-3DC9888D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E45959A-8F54-4E3B-9CCA-966D866872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172904D-EE66-44A7-8C43-D2565E78E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D091A1B-0C9E-4AD8-9C8F-4A0AF2B51B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04BAF6-39F5-4166-96DC-0595F84B5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461125E-BFEA-4604-B780-77F807D64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3377A99-6041-4602-B40B-8847C53107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9E23322-DC8D-4D15-8384-B5C59E813C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4D3C37E-CF6C-456B-AB02-B652C5E6F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360BD7B-319A-4333-BA53-DA827D15A6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0EBC12-A632-44D1-BD75-CCED8B48C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1CAF0A-E895-4DF1-A5C3-DD8964F14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64D0-0ED1-4C16-A163-3F382AD65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75CB-2261-44B3-85F7-8578FADC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2995-7276-4260-AA5C-0586FF358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6E85-D4B8-4AA4-8016-E065EFD22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3A46-78D8-4360-99C3-1249C8CF4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E89E-D1F4-4400-9362-444D7CEDB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2A25-ED82-40B2-B120-272A78051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3293-7A58-4F37-9AB9-0C2E5760A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6DFB-9803-4DCA-ADAF-9E1BAF268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5CEF-68C6-449A-823B-3D6D6829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837D-D718-452E-9074-74B416578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4621-660C-455B-8634-368069355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200" y="64008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28Oct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35D9861-CB5B-4E86-9347-26D126A7FE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06C8127-4D5D-40DD-8679-1789BBABD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44C5B7-30EB-4A59-B100-CD09F27B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4627961-1B4E-4A40-995D-C238057E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4FE752-A8C7-40CF-A5EB-D738E1A1E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ickets on the issue tra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as many ticket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and used the following ter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ming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ly Use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going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introduction explaining the purpose and the SF0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ed the Allocation Policy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BBE069-64C6-4DEA-8905-4839E370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5BA48BA-5317-451B-94A8-A22EEB9D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6553B67-D6BC-40E9-90EF-F7DD32731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D58705-A87A-4E66-BBCD-C4FE34FB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an open discussion on this matter, I would ask Nicola to add a more detailed explanation on the current formu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contradiction on the 6P draft, first saying that the SF MAY define the timeout on section 4.1.1 and then that the SF MUST define the timeout on section 5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1643AAD-DE74-4297-BA0C-770FD576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7F9E2FD-AC70-4E7E-8C11-4814F2A7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6330C0E-E856-4F16-B220-1C870012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F93D24-8805-4F15-ADE8-5C16C8F4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y with 6P requirements for S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a compliance section taken from the requirement list on the 6P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missing two MUST it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(PDR)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gure on SF0 alloc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ps with one of the items from editorial changes.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54982A9-C255-45A3-9DC3-A6B37854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BFFABB8-7E26-4F47-BF14-A6C6B49F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C0532A-0EB4-4E15-870C-3E261FCE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3A490E9-7855-4412-94D6-C12E5984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no performance evaluation available. I have a student working on it, but still no results. I ask volunteers to help on this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8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adata fields are explained on the corresponding section. We use a bit for the whitelist/blacklist identification and 7 bits for the slotfr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9AFC3F-6726-43C7-A7A0-E7257820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692BB4D-1508-4F76-A7FC-6F8D91BE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8FB992B-308D-473D-9F6B-113199C7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D7CD363-22B8-4FF8-9D4E-584EC4C7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9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re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performance evaluation for the current algorithm to support the “PDR 20% less than the average of the rest of the allocated cells”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list/Bla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the explanation for this item o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0DB489-AC99-4197-98CD-60DD840E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CAF32C-0E81-4392-B220-F64AA6DA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4160395-B4DA-4234-9F3C-C6B247F1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6399523-D7AF-4841-886C-6CEF0CA9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-&gt;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should be no more references to bandwidth on the dra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d the Bandwidth Estimation Algorithm to the Cell Estim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more mapping to the number of cells according to PDR, now both algorithms run independ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1"/>
          <p:cNvSpPr/>
          <p:nvPr/>
        </p:nvSpPr>
        <p:spPr>
          <a:xfrm>
            <a:off x="3283200" y="2997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dedicated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37E4F75-C92C-4980-A8D1-CC81BE938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richardson-6tisch-dtsecurity-secure-j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me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41BD6A2-2B5B-43C4-8303-AA865CAF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curing the jo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as much as possible with ANIMA and NETCONF WG, while adapting to limits of constrained devices an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security-secure-join-01 posted last we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lo-ra-in-ie posted last week: discussion says do not make a general mechanism, but an RA specific mechanism, and that this work is within the 6tisch charter. To be revised AS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ntribution: draft-vucinic-6tisch-minimal-security-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meeting: Nov 8 meeting to include discussion of vucinic-6tisch-minimal-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0DE0ECB-D6D0-4FC2-A5B7-4F1286AC05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6F08D1B-114D-4448-900E-26585E9596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A6ED9A8-31DA-41C8-B271-CC8BC6EC9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D13AC3-B314-432F-AEC6-372627C70F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980202F-5103-4154-ADBB-712E4CE1FF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DE1B511-606E-4C50-97B7-32723B9B1F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DF37BE-A274-44C3-875E-1E0025169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Agenda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7040" y="155736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news and charter statu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Drafts: minimal, 6LoRH, 802.15 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 Miles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satish-6tisch-6top-sf1-02 (Sat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[Q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0464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Second submission of draft-ietf-6tisch-minima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f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ublay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16 - ETSI 6TiSCH #3 plugt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protoco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sf0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Evaluate WG progress, propose new charter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terminology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architecture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7 - 6TiSCH architecture and terminology in RFC publicatio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9800" y="2035080"/>
            <a:ext cx="769644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458040" y="6356520"/>
            <a:ext cx="205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F8E7946-0747-482B-834C-8A622EBF1C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840" y="28098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7200" y="16002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41360" y="243828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E12CC3A-868A-42E9-9F3C-45D2707F6A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501DE35-0523-482E-8A21-F712936F3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F0B5160-01A7-48E8-9AA2-1F650A720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74AE430-1686-4F3E-907C-5C9AD67CAC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DA40DAD-F157-40C1-A75C-640A52A94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17733E-D9FF-489D-905B-6C571DB05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72BA56B-F89C-404B-990A-D5C25F0C1B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56FA836-3306-4D24-9425-937760A684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EA124DF-EEF8-45BF-951D-417405E701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91CAD5-55B6-49D7-9063-ED3B8D1EA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 from ROLL and 6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252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 Dispatch at 6lo and Routing Dispatch at ROLL, passed I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bone router WG doc being split -&gt; RFC6775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lacking support t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sarikaya-6lo-ap-nd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DB0EAB2-1CA3-45AF-8926-E185BC64C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69CD2C8-2AF9-4C5D-A54E-6A181F4585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B18F549-6846-48B9-9258-8BBA4C9E2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6EED29-2331-4B15-9FF9-323A00DF5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28T14:02:14Z</dcterms:modified>
  <cp:revision>9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