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BE07932-D5AB-4853-97C7-2F131A74E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F0EFA7C-6C9B-42BF-9709-9812F3DDEA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B2C15C5-E6BD-4E01-9410-FAF79984B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21314EF-E749-450F-9C23-DEDFB9F40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90005E1-D430-498D-901A-DC6D379ED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2F6FD29-DDF3-4FFB-A74F-84467AA11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6B08276-AF1E-46E0-BE81-9FE476F13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4D9F90C-3279-4E0B-AACC-52DFB7390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160B48A-7592-4A35-9EDD-83D56E0C15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773D67E-0C5C-42B0-97E0-59E25B69D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AFE083F-11B9-4A03-8B69-2737B313E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8955C0C-9418-46D9-BC7C-81D1054F65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0284050-2B04-4DFA-B5C3-9267863664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02066F1-4479-4698-BB3B-86DD8011F3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75642A4-84ED-4499-A9C0-CF9F33847B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50375BA-DFA3-4D35-953F-794D6D7EDC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0FE7F01-69E4-4D7A-BEF1-8E43422826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7D5FD54-B293-4766-ADB1-DA90C7AA4F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89C6375-60FD-4961-B21C-3D06DE400B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5526E9C-6E71-4F6C-9ED5-D5B216F8F7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2C8763E-8B6B-4CE0-A78F-CC56572A55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200017C-DFB0-4621-B727-4FB9C0B248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F5EA-079D-487C-8D25-BF5574775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362A-3753-4284-B514-C8A74951F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5687-E9FD-4C0C-91C2-E793B55E1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B205-3D52-4312-A727-8EDB0C39B2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4D67-FAE1-42E6-819C-B8EA5FE66D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0C76-2D1F-4E67-A3DB-7CC0E6D78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F0AE-521C-4620-BC0D-34D0E4FA8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E474-86E2-4758-8FC0-363CA8C8D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E665-2298-456A-AFFD-EC3DEB937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741E-925E-46A2-A4A9-A0CAAC5D1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7D62-F11E-4159-9A74-4C6D99841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AA04-1FBD-491F-8B3B-0E581E522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160200" y="640080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TiSCH interim 28Oct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7848720" y="76320"/>
            <a:ext cx="121896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A447D95-80A9-4D29-9B53-48802A901A0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therpad.tools.ietf.org:9000/p/6tisch?useMonospaceFont=tru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228600" y="4924440"/>
            <a:ext cx="808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i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cal Thub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mas Wattey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pad for minu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etherpad.tools.ietf.org:9000/p/6tisch?useMonospaceFont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3581280" y="3886200"/>
            <a:ext cx="52578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over the TSCH mode of IEEE 802.15.4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914400" y="241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October 2016 Web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4B0774C-FDDA-45C4-B6AD-7C59D9907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BFCBA62-9B1D-4CAB-AAC3-050A50F6E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CD61A47-5181-4EC6-9A16-DF9361CE6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F8D3741-1597-4DD5-89E5-D2A3CC969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tickets on the issue trac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d as many ticket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orial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d acronyms and used the following ter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oming traf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ly Used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going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introduction explaining the purpose and the SF0 desig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cted the Allocation Policy fig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3FF739A-49F5-4C63-B234-3B7144AFF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EB91BBD-0664-456A-AE2D-C5FBABD1B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DA05E3F-3C42-4601-9117-1E6A57845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793E25C-9A8D-4A26-9E37-393C7A1DB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3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 cal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still an open discussion on this matter, I would ask Nicola to add a more detailed explanation on the current formul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a contradiction on the 6P draft, first saying that the SF MAY define the timeout on section 4.1.1 and then that the SF MUST define the timeout on section 5.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47B9447-C19E-4137-A013-5632B9B59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E9F5F5C-8DBF-4329-A8F4-E8FFB72E1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C4CE54E-8765-4B3F-8717-D350ACC5D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423EF08-8FF7-4F55-A17F-3D93FE918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5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y with 6P requirements for S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ed a compliance section taken from the requirement list on the 6P d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missing two MUST it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4280" indent="-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4280" indent="-342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stics (PDR)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7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gure on SF0 allocation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laps with one of the items from editorial changes. D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4280" indent="-342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4E06719-E15F-41D2-A9CE-BB26467EA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BF53C53-947E-4AE4-AE5F-BA25C7596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2D4BF6C-6709-4523-8778-EF65A69FA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68148C6-D97C-4DA9-AF30-CB6F23D68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6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still no performance evaluation available. I have a student working on it, but still no results. I ask volunteers to help on this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8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of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tadata fields are explained on the corresponding section. We use a bit for the whitelist/blacklist identification and 7 bits for the slotframe numb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FB6CEBE-185A-46D5-A3E7-72C0D9046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25070EF-2487-4A64-9DB9-82DD48906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D9F882E-28C2-4D44-8628-8D1E7461D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C2B024F-5CA4-4861-8051-F017EE6D4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9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re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need performance evaluation for the current algorithm to support the “PDR 20% less than the average of the rest of the allocated cells” val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list/Black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hanced the explanation for this item on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ECA269B-826F-49BF-8895-9B0FD22A5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21A4966-5A64-4AD3-BDCC-460994DEA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5DEDA4F-0F71-4A53-82A6-57B868EEA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07B288A-02B3-4992-A379-30F3226B5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ietf-6tisch-6top-sf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366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cket 54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 -&gt;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should be no more references to bandwidth on the draf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d the Bandwidth Estimation Algorithm to the Cell Estimation Algorith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no more mapping to the number of cells according to PDR, now both algorithms run independent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vucinic-6tisch-minimal-security-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oneTexte 1"/>
          <p:cNvSpPr/>
          <p:nvPr/>
        </p:nvSpPr>
        <p:spPr>
          <a:xfrm>
            <a:off x="3283200" y="299736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e dedicated sl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6553080" y="6316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EC59E3B-E8EE-4C0C-AEA3-25AE7922B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290520" y="5335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draft-richardson-6tisch-dtsecurity-secure-jo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3048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Richard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Name HER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6553080" y="6316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D361E75-6806-461E-8258-63DADFB2F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457200" y="-1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11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securing the joi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gning as much as possible with ANIMA and NETCONF WG, while adapting to limits of constrained devices and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tsecurity-secure-join-01 posted last wee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lo-ra-in-ie posted last week: discussion says do not make a general mechanism, but an RA specific mechanism, and that this work is within the 6tisch charter. To be revised AS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contribution: draft-vucinic-6tisch-minimal-security-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meeting: Nov 8 meeting to include discussion of vucinic-6tisch-minimal-secur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6B56D5F-A1D1-4C63-915C-67BCB3F2C6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EC94282-43C9-40B4-B354-CDDB80DDFA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W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ummary is only meant to point you in the right direction, and doesn't have all the nuances. The IETF's IPR Policy is set forth in BCP 79; please read it carefu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ef summar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ticipating with the IETF, you agree to follow IETF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aware that a contribution of yours (something you write, say, or discuss in any IETF context) is covered by patents or patent applications, you need to disclose that f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understand that meetings might be recorded, broadcast, and publicly archi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urther information, talk to a chair, ask an Area Director, or review the follow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9 (on the Internet Standards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25 (on the Working Group process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8 (on the IETF Tru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9 (on Intellectual Property Rights in the IET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ting organized for IETF 9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3A75711-2A34-4DCD-8F4A-0D81F23D63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5A9E45A-5AD7-46F7-800E-DC8129F971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F93E75D1-BB61-4A48-BF9D-192DE89F8D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9C2C1B7-DBC7-4E91-B8D2-10AB39F0EA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7D94708-76D2-4A9B-8D4E-037FFDD4C1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Agenda IETF 9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57040" y="1557360"/>
            <a:ext cx="865188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ba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minutes from last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TF news and charter status (chai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Drafts: minimal, 6LoRH, 802.15 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s. Milest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protocol-03 (autho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sf0-02  (autho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vucinic-6tisch-minimal-security-00 (Malis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tisch-dtsecurity-secure-join-01 (Michae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satish-6tisch-6top-sf1-02 (Satis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[Q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04640" y="143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6 - Second submission of draft-ietf-6tisch-minimal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6 - WG call to adopt draft-ietf-6tisch-6top-sf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6 - WG call to adopt draft-ietf-6tisch-6top-sublay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 2016 - ETSI 6TiSCH #3 plugtes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16 - Initial submission of draft-ietf-6tisch-6top-protocol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16 - Initial submission of draft-ietf-6tisch-6top-sf0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16 - Evaluate WG progress, propose new charter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7 - Initial submission of 6TiSCH terminology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2017 - Initial submission of 6TiSCH architecture to the IES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2017 - 6TiSCH architecture and terminology in RFC publication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9800" y="2035080"/>
            <a:ext cx="7696440" cy="304920"/>
          </a:xfrm>
          <a:prstGeom prst="rect">
            <a:avLst/>
          </a:prstGeom>
          <a:solidFill>
            <a:srgbClr val="00997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458040" y="6356520"/>
            <a:ext cx="205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249909F-0282-4483-808E-6895EF78A2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47840" y="2809800"/>
            <a:ext cx="7696080" cy="304920"/>
          </a:xfrm>
          <a:prstGeom prst="rect">
            <a:avLst/>
          </a:prstGeom>
          <a:solidFill>
            <a:srgbClr val="00997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57200" y="1600200"/>
            <a:ext cx="7696080" cy="304920"/>
          </a:xfrm>
          <a:prstGeom prst="rect">
            <a:avLst/>
          </a:prstGeom>
          <a:solidFill>
            <a:srgbClr val="00997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41360" y="2438280"/>
            <a:ext cx="7696080" cy="304920"/>
          </a:xfrm>
          <a:prstGeom prst="rect">
            <a:avLst/>
          </a:prstGeom>
          <a:solidFill>
            <a:srgbClr val="009973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3B84704-8BD8-47FC-B8F3-2AB5CFF723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66C9371-375D-43B3-AA83-10AADFE1AF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2E9C1EB-C91A-41AC-AE38-CEEFDCC026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918D4F1-B365-4310-BCE4-085EE08077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90520" y="5335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Reminder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Minutes are taken *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This meeting is recorded ** 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  <a:ea typeface="ＭＳ Ｐゴシック"/>
              </a:rPr>
              <a:t>Presence is logged **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95280" y="5084640"/>
            <a:ext cx="845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   Scribe; please contribute online to the minutes at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1"/>
              </a:rPr>
              <a:t>http://etherpad.tools.ietf.org:9000/p/6tisch?useMonospaceFont=tru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   Recordings and Minutes are public and may be subject to discovery in the event of litigatio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*  From the Webex lo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897A630-B386-4A99-9A30-734B2386A7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4487F5F-4F00-48D5-976B-8CF530484E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873B3C2-19E5-4D52-BDEF-7F6EF28563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F0A4906-06B2-4462-A464-C3DB685AE8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3ABBC26-6B08-4AF0-A75F-7312563A71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6836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7040" y="1881360"/>
            <a:ext cx="865188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ba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minutes from last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protocol-03 (autho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sf0-02  (autho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vucinic-6tisch-minimal-security-00 (Malis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richardson-6tisch-dtsecurity-secure-join-01 (Michae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ting organized for IETF 97 (chai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1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6553080" y="6316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DEEDB06-A533-4A36-AD22-D90201EA5F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s from ROLL and 6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252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ing Dispatch at 6lo and Routing Dispatch at ROLL, passed IE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bone router WG doc being split -&gt; RFC6775 up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lacking support to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raft-sarikaya-6lo-ap-nd-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590738A-A193-48F0-B741-AA3DAF2E12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25BDCAD-5644-45B3-9552-95CB7CB991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20297F0-376C-4446-A1CA-4B6A8DC756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31516B8-4E6A-46B6-B4BF-3BFDE92E1C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 is 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808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min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protocol-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-ietf-6tisch-6top-sf0-0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05:55:25Z</dcterms:created>
  <dc:creator>Thomas</dc:creator>
  <dc:description/>
  <cp:keywords/>
  <dc:language>en-US</dc:language>
  <cp:lastModifiedBy>Pascal Thubert (pthubert)</cp:lastModifiedBy>
  <dcterms:modified xsi:type="dcterms:W3CDTF">2016-10-28T14:02:14Z</dcterms:modified>
  <cp:revision>9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