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dt" idx="2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3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712D93D6-FBB7-4374-8434-ECCF93ACF0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E355702F-D4C9-41F9-AD8D-6598A82864C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6662593F-2E3D-4381-BC84-DEB1E15D5E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C368350F-7220-4420-BCA6-DE6264268C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619E1D4B-8155-4654-A080-5FF8795229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02F8F072-A8C2-4686-BFCC-7B416A6162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77EEB360-0782-4EE0-B6ED-90922592BE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9E8D0420-1FA2-4FCB-8D26-7C19A213A0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04F31709-1652-4888-BAD4-BB3795C7E02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BE66387D-6354-486D-8455-1584771BD0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F39CADB7-0189-46BB-8FF2-FD32613DA0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B4F33932-18A5-42EE-A007-3E079FA2D19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134D3311-89F7-433E-B2AB-17D07FAC779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617D6FE6-E920-4193-989E-D811E6CC2EA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D2B9AB10-1E86-486E-BABF-243BA2EF916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6CFF8120-81C6-4943-8A25-44294041441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7D46662E-4278-4E75-8B77-AB14ADD26E2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232F734D-2284-4360-AA84-4696468B913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C984907A-C226-4EAF-AA24-1CB0670EF58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2D1E5197-C573-4A8D-9883-BA61D7BB8ED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AA4DE682-018D-4DB8-A96A-8C2511C1061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173908CC-E024-4DD5-883B-B7DE787C896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ABFB2-4140-4D31-86E0-9A97BFBEFE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DC595-FCC5-4204-AB6F-52D4DB4257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B4C66-D749-46B9-9B8D-CA47C12025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FB86C-A209-4247-946C-927F6BF0927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B0333-D613-4763-B2C6-47EA7B0ACE5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27B3E-195C-43F0-9A6E-D36A0D5D38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D9BEF-5CAA-4C23-B68B-5DDEE1E568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5C72C-C158-41E5-A1F3-362C96A8A2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F9CD5-F753-4A6B-96D6-3347E65E7E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53011-F02B-435A-84E8-4EA23AADE7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94BA5-8499-4DDA-9297-358EBDB17C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5122D-2C6A-468E-AF71-9C47FBCBEA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160200" y="6400800"/>
            <a:ext cx="2311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6TiSCH interim 28Oct201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Picture 4" descr=""/>
          <p:cNvPicPr/>
          <p:nvPr/>
        </p:nvPicPr>
        <p:blipFill>
          <a:blip r:embed="rId2"/>
          <a:stretch/>
        </p:blipFill>
        <p:spPr>
          <a:xfrm>
            <a:off x="7848720" y="76320"/>
            <a:ext cx="1218960" cy="836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458040" y="6356160"/>
            <a:ext cx="205560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22C8CF7D-49AB-47A5-852E-CB96F3824FB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etherpad.tools.ietf.org:9000/p/6tisch?useMonospaceFont=true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"/>
          <p:cNvSpPr/>
          <p:nvPr/>
        </p:nvSpPr>
        <p:spPr>
          <a:xfrm>
            <a:off x="228600" y="4924440"/>
            <a:ext cx="808848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air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scal Thube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omas Wattey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therpad for minut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ttp://etherpad.tools.ietf.org:9000/p/6tisch?useMonospaceFont=tru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2"/>
          <p:cNvSpPr/>
          <p:nvPr/>
        </p:nvSpPr>
        <p:spPr>
          <a:xfrm>
            <a:off x="3581280" y="3886200"/>
            <a:ext cx="5257800" cy="19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Pv6 over the TSCH mode of IEEE 802.15.4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914400" y="24163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8 October 2016 Webex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162920" cy="13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D031FD9F-FA9B-4259-A65E-B8DF69C910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2390179D-BF93-4DB2-8D18-FF4E53F1A0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AB5DF150-D184-4151-8731-A673C64EAB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E39A8A6F-7F21-4F6F-9B52-6445F7CB21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46512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aft-ietf-6tisch-6top-sf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436680" y="1916280"/>
            <a:ext cx="8001000" cy="39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d tickets on the issue trac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ved as many tickets as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icket 51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itorial Chan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252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moved acronyms and used the following term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8284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coming traff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8284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ffectively Used Cel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8284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utgoing Cel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252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mproved introduction explaining the purpose and the SF0 desig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252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rrected the Allocation Policy fig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8284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93E3073E-9FA8-4440-B801-C6D87CDA16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F9CDF5FD-DFF5-4652-84F7-DAB01DBD53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83E15CEF-068C-402A-AFB4-45788388C3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B1D3EAC5-EF7E-45F7-9F78-8EEB03349C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46512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aft-ietf-6tisch-6top-sf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436680" y="1916280"/>
            <a:ext cx="8001000" cy="39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icket 53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out calcu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re is still an open discussion on this matter, I would ask Nicola to add a more detailed explanation on the current formul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re is a contradiction on the 6P draft, first saying that the SF MAY define the timeout on section 4.1.1 and then that the SF MUST define the timeout on section 5.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15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7FBB8FA4-644E-4903-9EB7-702D25FBDC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87D7736A-4171-4521-A236-67267DD24F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66D8977A-728D-4613-9258-D8A39A1C43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B8332C2F-2A70-4304-94C0-80950ABBD0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46512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aft-ietf-6tisch-6top-sf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436680" y="1916280"/>
            <a:ext cx="8001000" cy="39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icket 55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y with 6P requirements for SF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dded a compliance section taken from the requirement list on the 6P draf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nly missing two MUST item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84280" indent="-3427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imeo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84280" indent="-3427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atistics (PDR) defini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icket 57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 figure on SF0 allocation polic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verlaps with one of the items from editorial changes. Don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84280" indent="-34272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81B95D0D-C88A-4B79-930B-90555BCCE8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6F9B736C-620C-4731-A715-5B3F7F5312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BBAE99CB-1F5A-4D49-A2FA-65A651D9B6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FD74D03A-F3C4-4F1D-A804-498FD6BFFB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46512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aft-ietf-6tisch-6top-sf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436680" y="1916280"/>
            <a:ext cx="8001000" cy="39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icket 56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evalu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re is still no performance evaluation available. I have a student working on it, but still no results. I ask volunteers to help on this issu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icket 58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ning of Meta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metadata fields are explained on the corresponding section. We use a bit for the whitelist/blacklist identification and 7 bits for the slotframe numb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15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23945042-B909-417A-8A77-FB71C3141B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9682043E-B553-4BA7-9BDF-534C2B11B8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0C5750BC-AB28-4B8E-9CA8-9CAD0A0A5E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30DB3F2C-414C-453C-9523-F9AE2A46E3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46512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aft-ietf-6tisch-6top-sf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436680" y="1916280"/>
            <a:ext cx="8001000" cy="39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icket 59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ll relo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 need performance evaluation for the current algorithm to support the “PDR 20% less than the average of the rest of the allocated cells” valu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icket 52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telist/Blackli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hanced the explanation for this item on the tex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15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50481724-09EE-43A6-A003-9B055C0F70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73CB997E-4E15-49C4-B42F-B7DF4A6DCE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FC2AC178-5CCC-4E42-90F2-276A2E4161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AA037588-0976-4ECD-8A95-2AB5BD07E2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46512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aft-ietf-6tisch-6top-sf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436680" y="1916280"/>
            <a:ext cx="8001000" cy="39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icket 54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ndwidth -&gt; Cel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re should be no more references to bandwidth on the draft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anged the Bandwidth Estimation Algorithm to the Cell Estimation Algorith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re is no more mapping to the number of cells according to PDR, now both algorithms run independentl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15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e2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1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raft-vucinic-6tisch-minimal-security-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ZoneTexte 1"/>
          <p:cNvSpPr/>
          <p:nvPr/>
        </p:nvSpPr>
        <p:spPr>
          <a:xfrm>
            <a:off x="3283200" y="2997360"/>
            <a:ext cx="224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e dedicated slid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e2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1"/>
          <p:cNvSpPr/>
          <p:nvPr/>
        </p:nvSpPr>
        <p:spPr>
          <a:xfrm>
            <a:off x="6553080" y="63165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E38F51CB-0005-4E0F-A570-36707A4ED0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2"/>
          <p:cNvSpPr/>
          <p:nvPr/>
        </p:nvSpPr>
        <p:spPr>
          <a:xfrm>
            <a:off x="290520" y="533520"/>
            <a:ext cx="84582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Arial"/>
              </a:rPr>
              <a:t>draft-richardson-6tisch-dtsecurity-secure-joi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380880" y="304812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hael Richards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 Name HERE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1"/>
          <p:cNvSpPr/>
          <p:nvPr/>
        </p:nvSpPr>
        <p:spPr>
          <a:xfrm>
            <a:off x="6553080" y="63165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C346242A-437B-4C0F-A992-646ABFCD08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2"/>
          <p:cNvSpPr/>
          <p:nvPr/>
        </p:nvSpPr>
        <p:spPr>
          <a:xfrm>
            <a:off x="457200" y="-162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61128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47924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: securing the join 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479240"/>
                <a:tab algn="l" pos="10934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igning as much as possible with ANIMA and NETCONF WG, while adapting to limits of constrained devices and networ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47924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s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479240"/>
                <a:tab algn="l" pos="109346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tsecurity-secure-join-01 posted last week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479240"/>
                <a:tab algn="l" pos="109346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raft-richardson-6lo-ra-in-ie posted last week: discussion says do not make a general mechanism, but an RA specific mechanism, and that this work is within the 6tisch charter. To be revised ASAP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479240"/>
                <a:tab algn="l" pos="109346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so contribution: draft-vucinic-6tisch-minimal-security-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47924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479240"/>
                <a:tab algn="l" pos="109346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w meeting: Nov 8 meeting to include discussion of vucinic-6tisch-minimal-securit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7F727F89-484C-4562-86C1-E30087CCA99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0AD038E3-6C89-42DE-87CE-76FD77D36D2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e Wel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ummary is only meant to point you in the right direction, and doesn't have all the nuances. The IETF's IPR Policy is set forth in BCP 79; please read it carefull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47924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brief summary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participating with the IETF, you agree to follow IETF process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you are aware that a contribution of yours (something you write, say, or discuss in any IETF context) is covered by patents or patent applications, you need to disclose that fac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understand that meetings might be recorded, broadcast, and publicly archiv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47924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further information, talk to a chair, ask an Area Director, or review the follow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CP 9 (on the Internet Standards Proces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CP 25 (on the Working Group process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CP 78 (on the IETF Tru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CP 79 (on Intellectual Property Rights in the IETF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e2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1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etting organized for IETF 97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A020C64B-1A11-4475-A755-3EFFE33462A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F9E60E53-3FB9-46C7-B862-89850B9FF9E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4C7F6373-4455-4E3B-86AF-D380B966303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E8D8B4C2-FDBB-4BEE-8DED-5EE5E3B6066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ECB337DB-67AE-4A98-AC2A-AA1ECB8259A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46836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posed Agenda IETF 97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7"/>
          <p:cNvSpPr/>
          <p:nvPr/>
        </p:nvSpPr>
        <p:spPr>
          <a:xfrm>
            <a:off x="257040" y="1557360"/>
            <a:ext cx="8651880" cy="460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r" pos="8229600"/>
                <a:tab algn="l" pos="8656560"/>
                <a:tab algn="l" pos="9112320"/>
                <a:tab algn="l" pos="9567720"/>
                <a:tab algn="l" pos="1002348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dministrivi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[5min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r" pos="8229600"/>
                <a:tab algn="l" pos="8656560"/>
                <a:tab algn="l" pos="9112320"/>
                <a:tab algn="l" pos="9567720"/>
                <a:tab algn="l" pos="10023480"/>
                <a:tab algn="l" pos="1047924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genda bash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r" pos="8229600"/>
                <a:tab algn="l" pos="8656560"/>
                <a:tab algn="l" pos="9112320"/>
                <a:tab algn="l" pos="9567720"/>
                <a:tab algn="l" pos="10023480"/>
                <a:tab algn="l" pos="1047924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proval minutes from last meet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r" pos="8229600"/>
                <a:tab algn="l" pos="8656560"/>
                <a:tab algn="l" pos="9112320"/>
                <a:tab algn="l" pos="9567720"/>
                <a:tab algn="l" pos="1002348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ETF news and charter status (chairs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[5min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r" pos="8229600"/>
                <a:tab algn="l" pos="8656560"/>
                <a:tab algn="l" pos="9112320"/>
                <a:tab algn="l" pos="9567720"/>
                <a:tab algn="l" pos="10023480"/>
                <a:tab algn="l" pos="1047924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n Drafts: minimal, 6LoRH, 802.15 I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r" pos="8229600"/>
                <a:tab algn="l" pos="8656560"/>
                <a:tab algn="l" pos="9112320"/>
                <a:tab algn="l" pos="9567720"/>
                <a:tab algn="l" pos="10023480"/>
                <a:tab algn="l" pos="1047924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s. Mileston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r" pos="8229600"/>
                <a:tab algn="l" pos="8656560"/>
                <a:tab algn="l" pos="9112320"/>
                <a:tab algn="l" pos="9567720"/>
                <a:tab algn="l" pos="1002348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raft-ietf-6tisch-6top-protocol-03 (authors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[15min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r" pos="8229600"/>
                <a:tab algn="l" pos="8656560"/>
                <a:tab algn="l" pos="9112320"/>
                <a:tab algn="l" pos="9567720"/>
                <a:tab algn="l" pos="1002348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raft-ietf-6tisch-6top-sf0-02  (authors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[15min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r" pos="8229600"/>
                <a:tab algn="l" pos="8656560"/>
                <a:tab algn="l" pos="9112320"/>
                <a:tab algn="l" pos="9567720"/>
                <a:tab algn="l" pos="1002348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raft-vucinic-6tisch-minimal-security-00 (Malisa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[15min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r" pos="8229600"/>
                <a:tab algn="l" pos="8656560"/>
                <a:tab algn="l" pos="9112320"/>
                <a:tab algn="l" pos="9567720"/>
                <a:tab algn="l" pos="1002348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raft-richardson-6tisch-dtsecurity-secure-join-01 (Michael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[20min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r" pos="8229600"/>
                <a:tab algn="l" pos="8656560"/>
                <a:tab algn="l" pos="9112320"/>
                <a:tab algn="l" pos="9567720"/>
                <a:tab algn="l" pos="1002348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raft-satish-6tisch-6top-sf1-02 (Satish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[QS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r" pos="8229600"/>
                <a:tab algn="l" pos="8656560"/>
                <a:tab algn="l" pos="9112320"/>
                <a:tab algn="l" pos="9567720"/>
                <a:tab algn="l" pos="1002348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O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[2min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404640" y="1436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r 2016 - Second submission of draft-ietf-6tisch-minimal to the IESG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r 2016 - WG call to adopt draft-ietf-6tisch-6top-sf0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r 2016 - WG call to adopt draft-ietf-6tisch-6top-sublay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l 2016 - ETSI 6TiSCH #3 plugtes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 2016 - Initial submission of draft-ietf-6tisch-6top-protocol to the IESG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 2016 - Initial submission of draft-ietf-6tisch-6top-sf0 to the IESG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 2016 - Evaluate WG progress, propose new charter to the IESG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r 2017 - Initial submission of 6TiSCH terminology to the IESG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r 2017 - Initial submission of 6TiSCH architecture to the IESG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 2017 - 6TiSCH architecture and terminology in RFC publication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469800" y="2035080"/>
            <a:ext cx="7696440" cy="304920"/>
          </a:xfrm>
          <a:prstGeom prst="rect">
            <a:avLst/>
          </a:prstGeom>
          <a:solidFill>
            <a:srgbClr val="009973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lest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6458040" y="6356520"/>
            <a:ext cx="2055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A1B6205A-1354-4C8D-B172-1FA6912E680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Rectangle 7"/>
          <p:cNvSpPr/>
          <p:nvPr/>
        </p:nvSpPr>
        <p:spPr>
          <a:xfrm>
            <a:off x="447840" y="2809800"/>
            <a:ext cx="7696080" cy="304920"/>
          </a:xfrm>
          <a:prstGeom prst="rect">
            <a:avLst/>
          </a:prstGeom>
          <a:solidFill>
            <a:srgbClr val="009973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Rectangle 8"/>
          <p:cNvSpPr/>
          <p:nvPr/>
        </p:nvSpPr>
        <p:spPr>
          <a:xfrm>
            <a:off x="457200" y="1600200"/>
            <a:ext cx="7696080" cy="304920"/>
          </a:xfrm>
          <a:prstGeom prst="rect">
            <a:avLst/>
          </a:prstGeom>
          <a:solidFill>
            <a:srgbClr val="009973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9"/>
          <p:cNvSpPr/>
          <p:nvPr/>
        </p:nvSpPr>
        <p:spPr>
          <a:xfrm>
            <a:off x="441360" y="2438280"/>
            <a:ext cx="7696080" cy="304920"/>
          </a:xfrm>
          <a:prstGeom prst="rect">
            <a:avLst/>
          </a:prstGeom>
          <a:solidFill>
            <a:srgbClr val="009973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e2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1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OB 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e2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1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ank you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070F1579-1E44-43B1-BED8-29F37422678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B5AEE422-A000-4F3B-808B-0716AFA2D8A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77FE347A-6F3D-4783-A666-98FDA55BB1A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66F30E83-02B2-4781-8257-CD2B1A91940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290520" y="533520"/>
            <a:ext cx="84582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Arial"/>
                <a:ea typeface="ＭＳ Ｐゴシック"/>
              </a:rPr>
              <a:t>Reminder: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262626"/>
                </a:solidFill>
                <a:latin typeface="Arial"/>
                <a:ea typeface="ＭＳ Ｐゴシック"/>
              </a:rPr>
              <a:t>Minutes are taken *</a:t>
            </a:r>
            <a:br>
              <a:rPr sz="4000"/>
            </a:br>
            <a:r>
              <a:rPr b="0" lang="en-US" sz="4000" spc="-1" strike="noStrike">
                <a:solidFill>
                  <a:srgbClr val="262626"/>
                </a:solidFill>
                <a:latin typeface="Arial"/>
                <a:ea typeface="ＭＳ Ｐゴシック"/>
              </a:rPr>
              <a:t>This meeting is recorded ** </a:t>
            </a:r>
            <a:br>
              <a:rPr sz="4000"/>
            </a:br>
            <a:r>
              <a:rPr b="0" lang="en-US" sz="4000" spc="-1" strike="noStrike">
                <a:solidFill>
                  <a:srgbClr val="262626"/>
                </a:solidFill>
                <a:latin typeface="Arial"/>
                <a:ea typeface="ＭＳ Ｐゴシック"/>
              </a:rPr>
              <a:t>Presence is logged ***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395280" y="5084640"/>
            <a:ext cx="8458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*    Scribe; please contribute online to the minutes at: 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Arial"/>
                <a:ea typeface="ＭＳ Ｐゴシック"/>
                <a:hlinkClick r:id="rId1"/>
              </a:rPr>
              <a:t>http://etherpad.tools.ietf.org:9000/p/6tisch?useMonospaceFont=true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**   Recordings and Minutes are public and may be subject to discovery in the event of litigation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***  From the Webex logi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0BDBFCB5-D32E-4FEA-A0AC-7395052C9B5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47804841-8CC2-4A87-B9FF-F6AD17A4E13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B30EC5B8-1E63-4C1C-BCE3-CC26244CB14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C021255B-8DA5-4365-9A47-DCC04608DF8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7294BC0E-A894-4AE2-B42F-84B569457D9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46836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gend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257040" y="1881360"/>
            <a:ext cx="8651880" cy="46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r" pos="8229600"/>
                <a:tab algn="l" pos="8656560"/>
                <a:tab algn="l" pos="9112320"/>
                <a:tab algn="l" pos="9567720"/>
                <a:tab algn="l" pos="1002348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dministrivi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[2min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r" pos="8229600"/>
                <a:tab algn="l" pos="8656560"/>
                <a:tab algn="l" pos="9112320"/>
                <a:tab algn="l" pos="9567720"/>
                <a:tab algn="l" pos="10023480"/>
                <a:tab algn="l" pos="1047924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genda bash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r" pos="8229600"/>
                <a:tab algn="l" pos="8656560"/>
                <a:tab algn="l" pos="9112320"/>
                <a:tab algn="l" pos="9567720"/>
                <a:tab algn="l" pos="10023480"/>
                <a:tab algn="l" pos="1047924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proval minutes from last meet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r" pos="8229600"/>
                <a:tab algn="l" pos="8656560"/>
                <a:tab algn="l" pos="9112320"/>
                <a:tab algn="l" pos="9567720"/>
                <a:tab algn="l" pos="1002348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raft-ietf-6tisch-6top-protocol-03 (authors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[10min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r" pos="8229600"/>
                <a:tab algn="l" pos="8656560"/>
                <a:tab algn="l" pos="9112320"/>
                <a:tab algn="l" pos="9567720"/>
                <a:tab algn="l" pos="1002348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raft-ietf-6tisch-6top-sf0-02  (authors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[10min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r" pos="8229600"/>
                <a:tab algn="l" pos="8656560"/>
                <a:tab algn="l" pos="9112320"/>
                <a:tab algn="l" pos="9567720"/>
                <a:tab algn="l" pos="1002348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raft-vucinic-6tisch-minimal-security-00 (Malisa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[10min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r" pos="8229600"/>
                <a:tab algn="l" pos="8656560"/>
                <a:tab algn="l" pos="9112320"/>
                <a:tab algn="l" pos="9567720"/>
                <a:tab algn="l" pos="1002348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raft-richardson-6tisch-dtsecurity-secure-join-01 (Michael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[10min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r" pos="8229600"/>
                <a:tab algn="l" pos="8656560"/>
                <a:tab algn="l" pos="9112320"/>
                <a:tab algn="l" pos="9567720"/>
                <a:tab algn="l" pos="1002348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etting organized for IETF 97 (chairs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[10min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r" pos="8229600"/>
                <a:tab algn="l" pos="8656560"/>
                <a:tab algn="l" pos="9112320"/>
                <a:tab algn="l" pos="9567720"/>
                <a:tab algn="l" pos="1002348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O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[2min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6"/>
          <p:cNvSpPr/>
          <p:nvPr/>
        </p:nvSpPr>
        <p:spPr>
          <a:xfrm>
            <a:off x="6553080" y="63165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04412711-A745-4D83-895A-3FF3B52F971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ws from ROLL and 6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2520" y="182844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ging Dispatch at 6lo and Routing Dispatch at ROLL, passed IES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kbone router WG doc being split -&gt; RFC6775 up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ill lacking support to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raft-sarikaya-6lo-ap-nd-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e2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1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dministrivi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Text Box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BA80CBEF-1CA6-4F0E-B6BD-A9EBC0F639E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51C8D2FB-027C-4538-9B32-368F1B0D860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8B5D34D0-B8D6-490D-996B-66D39B6D4E2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3B019223-4B1E-43E3-B6B1-844E67A7FF9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46512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dmin is trivi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380880" y="1916280"/>
            <a:ext cx="8001000" cy="39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proval Agend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proval minut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e2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1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raft-ietf-6tisch-6top-protocol-0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e2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1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raft-ietf-6tisch-6top-sf0-0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 Box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03T05:55:25Z</dcterms:created>
  <dc:creator>Thomas</dc:creator>
  <dc:description/>
  <cp:keywords/>
  <dc:language>en-US</dc:language>
  <cp:lastModifiedBy>Pascal Thubert (pthubert)</cp:lastModifiedBy>
  <dcterms:modified xsi:type="dcterms:W3CDTF">2016-10-28T14:02:14Z</dcterms:modified>
  <cp:revision>96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