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B61D097-E70B-434F-AED9-284EE84E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BCD12B7-6DF2-4BCF-A479-1461A00E9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7DDA115-A08A-4B5E-B623-152BC11F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B93F21D-1009-4D12-9872-4551F427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49AAB9-C494-486F-A9D0-6AF8091C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51FA1B9-8EF7-409B-8089-6082037A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836D8D3-8D66-4CDD-989D-2B758327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8E0B659-4D30-4E37-8868-CC56286A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41905F-BA7D-463F-B0C2-2FA564EAD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8603918-75DD-4EB4-BB6E-85F05716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6B7F393-6D00-4FFA-8EFB-0C32EF34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2394C4E-81CF-49AC-AC71-329E2F2D1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97F8075-98F5-4945-A2D4-9638726F6C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7CB1152-6BA1-495B-AA25-057E9D995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10AA0D1-9962-4482-9768-7F71618B5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0770D06-26AF-4649-9BAE-381B04D89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849EA73-7EBA-435F-9671-5B51304570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4BCD85-FA06-4915-88D8-7B4BFA9FA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8A38CB9-C3F8-45FE-92A8-58F2D3F94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2628A7B-F06C-4B79-AF94-C99B84F34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88D677F-43F9-4A73-B085-CFB70BC80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B52FF7B-AB11-4675-9A6B-16835C588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DCC3-50A7-42E0-BB7E-B00207EDD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E7D6-1B31-4CD7-8893-723D88A22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1B07-C878-4C57-B18B-E40A252E1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79BE-FA1B-4BEA-92DB-7E8D41C07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94CC-D9E5-4724-83AC-FBEAEFE8A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559C-4C8D-4B6B-A3D9-B9F983B87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EF61-9289-4662-B712-6E6D58635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7A22-1A2E-4DA0-9527-732FC23A8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8FCE-C2DC-4B1D-ACE1-12608FF23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D37C-81F6-4ED6-9E76-019606043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D37D-06B6-477A-BC82-5C0A8F2D3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DD6E-4B09-49A5-86A4-B402CB8E6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200" y="64008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28Oct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777CADB-7F5B-4971-9364-0E1606C277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E14896-13FC-43BF-A64F-94F428FF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8B50E70-27D6-4EAE-9520-5452EAFF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0AD6A04-1255-4919-A60B-C14D7D8D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75B38F3-BD27-413F-A1C9-65612E86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ickets on the issue tra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as many ticket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and used the following ter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ming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ly Use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going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introduction explaining the purpose and the SF0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ed the Allocation Policy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2678EB7-250A-4F48-A3ED-0E5AFE18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2763B61-18BD-4FD1-9074-ED434D79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CF72F68-FB13-42CD-9EFD-304D2209C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4841EF-D033-4142-82E0-C2CC83F1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an open discussion on this matter, I would ask Nicola to add a more detailed explanation on the current formu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contradiction on the 6P draft, first saying that the SF MAY define the timeout on section 4.1.1 and then that the SF MUST define the timeout on section 5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F798BAC-1EF8-4AAA-BE35-E22705EE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0C4EE8-6792-457E-B930-25D1000E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9A4E266-60F7-415C-A88A-7CD8B86C8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73014D-3FBE-4864-91EE-2C9266C7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y with 6P requirements for S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a compliance section taken from the requirement list on the 6P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missing two MUST it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(PDR)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gure on SF0 alloc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ps with one of the items from editorial changes.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093BBD8-B990-4D59-9044-490294A3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447B75F-BB82-4AA6-BB61-CD1A161E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0A7B33-7899-466C-B73E-FD5EFEA5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750C80F-7A92-4BB1-BD25-88D0BB3C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no performance evaluation available. I have a student working on it, but still no results. I ask volunteers to help on this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8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adata fields are explained on the corresponding section. We use a bit for the whitelist/blacklist identification and 7 bits for the slotfr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BCB78B-1B76-43EC-9462-3535DF83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E6CA954-D7FC-4110-A44D-1BF22010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1F0DE7-1A2D-4BA5-BEB2-FCA494D0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45521FC-C247-4392-AF43-A13232F9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9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re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performance evaluation for the current algorithm to support the “PDR 20% less than the average of the rest of the allocated cells”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list/Bla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the explanation for this item o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B03AF92-2751-4386-A430-B80FE875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4232434-497F-4A59-94DC-C7312652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417BC3D-5774-4F1B-8040-DD1EC5AF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27727B8-8091-4A55-9771-20C1CF667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-&gt;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should be no more references to bandwidth on the dra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d the Bandwidth Estimation Algorithm to the Cell Estim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more mapping to the number of cells according to PDR, now both algorithms run independ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1"/>
          <p:cNvSpPr/>
          <p:nvPr/>
        </p:nvSpPr>
        <p:spPr>
          <a:xfrm>
            <a:off x="3283200" y="2997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dedicated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B2AC764-D50D-461A-A615-7C8555F9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richardson-6tisch-dtsecurity-secure-j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me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F3F52C6-093A-451A-AA1E-DD25CA60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curing the jo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as much as possible with ANIMA and NETCONF WG, while adapting to limits of constrained devices an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security-secure-join-01 posted last we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lo-ra-in-ie posted last week: discussion says do not make a general mechanism, but an RA specific mechanism, and that this work is within the 6tisch charter. To be revised AS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ntribution: draft-vucinic-6tisch-minimal-security-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meeting: Nov 8 meeting to include discussion of vucinic-6tisch-minimal-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050E5F-5138-42F8-9627-74115631DE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7A37B9-8DA9-4384-B943-AB18C9EE7F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761F19-B5FF-4083-8FD5-9A2489A825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CF3A661-780B-4742-B21F-0ECC5D5420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69BB5AB-83E8-483B-AF59-C25D220F56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ACF50AA-D211-4799-AED5-DB55A35733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6F705B4-AAA4-4930-B959-F9FA69895D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Agenda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7040" y="155736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news and charter statu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Drafts: minimal, 6LoRH, 802.15 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 Miles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satish-6tisch-6top-sf1-02 (Sat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[Q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0464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Second submission of draft-ietf-6tisch-minima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f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ublay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16 - ETSI 6TiSCH #3 plugt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protoco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sf0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Evaluate WG progress, propose new charter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terminology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architecture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7 - 6TiSCH architecture and terminology in RFC publicatio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9800" y="2035080"/>
            <a:ext cx="769644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458040" y="6356520"/>
            <a:ext cx="205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7C6A9F-4DEC-455B-92AA-583EEFD9EA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840" y="28098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7200" y="16002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41360" y="243828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A416817-D01B-4D85-8DA5-E4AD38311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9F8307-8D64-40D9-A292-A691F98E7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853C984-1785-484A-8EDD-3A990F8687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1B83E5-62FC-40DF-BE3C-1648F073D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F0EC03E-6D66-4CF5-BFA0-D01465542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40F834F-F902-4038-9E58-73CF923BC8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55CE551-03AB-4F4E-A724-2AB967E66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F4284B0-509C-4849-8EF7-7762E7A9EB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B88390B-ADA1-4B24-B5D3-21335BC096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B49AD36-6575-4AB4-ACAB-A7EBCE875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 from ROLL and 6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252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 Dispatch at 6lo and Routing Dispatch at ROLL, passed I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bone router WG doc being split -&gt; RFC6775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lacking support t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sarikaya-6lo-ap-nd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D066E97-60F4-4359-98D5-BD5AA6413C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02D37C-A64B-45E1-A28F-8CC9F4AD79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AC21326-15D9-4282-9EB4-FBC3201C28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06D89B0-97D2-4F5F-B254-D2C244EEB5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28T14:02:14Z</dcterms:modified>
  <cp:revision>9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