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dt" idx="5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641A956A-3C6A-49DC-8EA8-1497FD72F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BC6F0F94-3F9D-4F07-B7F6-D5AE8AD36BC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9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8D01AE-D265-4763-96B3-2A1BD2B839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4FD5CF-3BF6-4A45-B6FF-E49EE7AA1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Text Box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9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AB9157-BFEB-4A97-98CF-C80EB73A3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149163-907E-411F-9CF3-FAEB97384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Text Box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7629AFA7-B6B8-43DD-99EC-7747109B8E2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D4EA0337-23D9-484F-B156-7BD3E604260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F0A62B29-BE7C-4B4E-AA5A-721E623E55D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9F138607-6248-49EC-B6A3-AFAA3DFDA14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B930B421-68B9-4C29-8FA3-2176C8D1CB8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54F4CD7A-909B-40C0-B417-79D4B4E2E74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E8D4A74F-B939-463D-B1E0-1441780FCEF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649D0F12-DBA0-42E1-8935-41AE42242B4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7D142808-1E66-417D-AE5B-87A3BB980E6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9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396F5D-B1E9-492C-B237-7D1E1ADDC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DA3CFE-8D1C-4D4C-AE23-241A000E7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Text Box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9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CBF18E-FCDE-4A8D-954B-9E1800986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AABD38-435E-4587-98F0-777E5F99CB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Text Box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BC144-647F-4E2C-AF30-84399FBA53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0AD79-D754-4BAE-98EB-0485102974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75EA1-74F1-4FAF-8A9E-625C23E6C5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D3005-E531-4897-8F10-B74052D6AD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41CD4-3FDD-4B24-9126-69B2381D36C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D8AC0-0420-4B3B-970C-519FC3B550F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A0EFC-0F84-409C-A30B-F42851BD6ED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17658-6069-431D-A640-CD4AAF8EA56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E1DB6-4130-4A9A-87F6-ED22D0BFC1C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432CA-7D39-4371-8B72-203C65352D2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500F5-8FB5-4D2C-BBBE-9AE1C67B6D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E312C-3392-4C87-AC52-640CB7F3C0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272C6-A77D-4AC8-9884-9AB6819C1BC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11F40-7D29-4297-B45A-0AA257CF2A1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24A71-4B83-4609-BA4E-7701BA435ED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68D1F-D972-45DD-9F2C-43A9C7A5BCB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5C7CA-BAE4-461C-86AC-2D24962FFBA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41D1-C8D9-4B73-9CF3-4FC3FA1545E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0FC8-D82E-47E3-8C32-2E532331D29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7F8C-8EAC-4248-ACDF-39BF9B268F6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127C-5391-487E-9CB2-FFB4409E35A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6B4D-C68C-4C33-B0F2-58BDF46AB1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10335-7CF0-4915-B632-6E1756155EF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E749-708A-46F3-A6E2-30FC8E31D96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3241-75DD-4AD3-987C-34D2A235E32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D66E-5804-43E2-909B-DAFFD4FBDD6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CD68-1E25-46AC-81DE-32797DED3A1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6EFA-94B7-42F0-A3F9-16DAAAC2B2C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728C-1E05-422C-9696-2CAC43DBCA3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C6C5-953C-41EB-8F32-A4DCCCB932A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D915EA-DD1B-4677-911D-CC39995231C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4CAC02-9AE3-4EA5-B28D-A7208C2CCCC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7EF42C-D1D2-4D3F-855C-3039636918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39CE4-CB34-4EB4-971D-3E5177BCE51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BFC661-134B-43F6-8982-C50FE65B65D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CA3A46-834C-4EA6-A64F-384A23E4B8F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8754AF-5674-4C6E-8370-6B0D0BF93D6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D34AED-A28F-405A-8176-B44CF266748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0DC573-EC23-4BC5-B9F7-5FDA07346C9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0B1E4C-3EB2-44CE-B328-376311A2469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D3C93E-5280-4F63-B7CE-6DD6483F28E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C3982C-29E5-4657-AAE5-008AC75F76E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0DB7CC-849F-4273-947A-EC49EAC556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95C74-E3BA-49AA-9AEA-19D8F22115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551FA-06FA-47BB-84BE-5334EDADBF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F8EF6-955F-4637-82F1-F9762142C1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CFFDF-2741-4863-A088-EAA6A4075B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DE8B1-357D-4195-A095-62013E3C42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160560" y="6400800"/>
            <a:ext cx="262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TiSCH interim 03 March 201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Picture 4" descr=""/>
          <p:cNvPicPr/>
          <p:nvPr/>
        </p:nvPicPr>
        <p:blipFill>
          <a:blip r:embed="rId2"/>
          <a:stretch/>
        </p:blipFill>
        <p:spPr>
          <a:xfrm>
            <a:off x="7848720" y="76320"/>
            <a:ext cx="1218960" cy="836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458040" y="6356160"/>
            <a:ext cx="205560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33DC216A-A4E2-4139-94E0-C8D2E2AC024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160560" y="6400800"/>
            <a:ext cx="262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TiSCH interim 03 March 201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2"/>
          <a:stretch/>
        </p:blipFill>
        <p:spPr>
          <a:xfrm>
            <a:off x="7848720" y="76320"/>
            <a:ext cx="1218960" cy="8366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458040" y="6356160"/>
            <a:ext cx="2052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fld id="{F17399D9-9D91-4A25-9010-7523A8F090E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hape 2"/>
          <p:cNvSpPr/>
          <p:nvPr/>
        </p:nvSpPr>
        <p:spPr>
          <a:xfrm>
            <a:off x="160920" y="6400800"/>
            <a:ext cx="254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46800" tIns="46800" bIns="46800" anchor="t">
            <a:spAutoFit/>
          </a:bodyPr>
          <a:p>
            <a:pPr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6TiSCH interim 03 March 201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image1.png" descr=""/>
          <p:cNvPicPr/>
          <p:nvPr/>
        </p:nvPicPr>
        <p:blipFill>
          <a:blip r:embed="rId2"/>
          <a:stretch/>
        </p:blipFill>
        <p:spPr>
          <a:xfrm>
            <a:off x="7848720" y="76320"/>
            <a:ext cx="1218960" cy="8366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844280"/>
            <a:ext cx="7772400" cy="20415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371600" y="388584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 fontScale="71000"/>
          </a:bodyPr>
          <a:p>
            <a:pPr marL="243360" indent="0">
              <a:spcBef>
                <a:spcPts val="799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43360" indent="-243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43360" indent="-24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43360" indent="-243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43360" indent="-243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43360" indent="-243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43360" indent="-243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6457680" y="6350040"/>
            <a:ext cx="360360" cy="372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  <a:defRPr b="0" lang="en-GB" sz="1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fld id="{F74DADFA-A8F2-4B1C-879E-546160208C7B}" type="slidenum"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156600" y="6400800"/>
            <a:ext cx="15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TiSCH@IETF9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7848720" y="76320"/>
            <a:ext cx="1218960" cy="8366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fld id="{150EE62F-070D-4068-BA5A-0CF6D7E0D67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therpad.tools.ietf.org:9000/p/6tisch?useMonospaceFont=true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datatracker.ietf.org/doc/review-ietf-6tisch-minimal-19-opsdir-lc-kumari-2017-02-12/" TargetMode="External"/><Relationship Id="rId2" Type="http://schemas.openxmlformats.org/officeDocument/2006/relationships/hyperlink" Target="https://datatracker.ietf.org/doc/review-ietf-6tisch-minimal-19-secdir-telechat-kivinen-2017-02-15/" TargetMode="External"/><Relationship Id="rId3" Type="http://schemas.openxmlformats.org/officeDocument/2006/relationships/hyperlink" Target="https://datatracker.ietf.org/doc/review-ietf-6tisch-minimal-19-genart-telechat-carpenter-2017-02-04/" TargetMode="External"/><Relationship Id="rId4" Type="http://schemas.openxmlformats.org/officeDocument/2006/relationships/hyperlink" Target="https://datatracker.ietf.org/doc/review-ietf-6tisch-minimal-17-secdir-lc-kivinen-2016-12-22/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1"/>
          <p:cNvSpPr/>
          <p:nvPr/>
        </p:nvSpPr>
        <p:spPr>
          <a:xfrm>
            <a:off x="228600" y="4924440"/>
            <a:ext cx="80884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ir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scal Thube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omas Wattey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herpad for minu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ttp://etherpad.tools.ietf.org:9000/p/6tisch?useMonospaceFont=tr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3581280" y="3886200"/>
            <a:ext cx="5257800" cy="19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Pv6 over the TSCH mode of IEEE 802.15.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914400" y="24163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03 March 2017 Webe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4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16292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5F716E-DD5F-4A31-8D61-6E885830D8F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005C30-5194-4426-A9E6-A1C7EFE24FE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aft-richardson-6tisch-minimal-rek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826920" y="2060640"/>
            <a:ext cx="8082000" cy="44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792000" y="1652760"/>
            <a:ext cx="7344000" cy="43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214200" indent="-2142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ved rekey from minimal to new docum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ides for CoMI managed access to key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key is managed by slow process of JRC reaching out to all nodes and writing new key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6462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ision of new keys includes timeout on old key, after switch-o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des accept traffic from old keys and new keys, uses old keys for transmission until use of new key is see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6462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witch over from old to new keys triggers expiration of old keys based upon time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4200" indent="-2142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hort addresses are also managed in this interface, short addresses timeout based upon ASN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RC can garbage collect short-addresses by initiate reke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4200" indent="-2142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EKING WG adoption and co-autho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61CD46-921B-48EF-8CE9-56BCBA6A091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BB09FF-8FA3-40B8-9672-17F916FE9E0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aft-richardson-6tisch-join-enhanced-beac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826920" y="2060640"/>
            <a:ext cx="8082000" cy="44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792000" y="1652760"/>
            <a:ext cx="7344000" cy="43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4200" indent="-2142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Need for definition of extension to enhanced-beacon made clear by join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s IANA registry created by draft-kivinen-802-15-i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4200" indent="-2142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Includes some bits to help hosts (aka non-RPL leaf nodes) to find correct network, and give hint about using unicast Router Solitica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4200" indent="-2142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Network ID is based upon SHA256 of DODAGID to identify networ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4200" indent="-2142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Notes that EB is not encrypted, so inappropriate to put much information i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4200" indent="-2142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Has bit to indicate if sender is available as a Join Proxy; L3 address is implied by SLAAC configuation of Link-Local address from EUI-64 of send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4200" indent="-214200">
              <a:tabLst>
                <a:tab algn="l" pos="0"/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4200" indent="-214200">
              <a:tabLst>
                <a:tab algn="l" pos="0"/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4200" indent="-214200" algn="ctr">
              <a:tabLst>
                <a:tab algn="l" pos="0"/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SEEKING WG adoption and co-author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f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date on 6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Cells in DELETE requ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95280" y="1484280"/>
            <a:ext cx="8228160" cy="42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9.  6P DELETE Reques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                  2                  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 1 2 3 4 5 6 7 8 9 0 1 2 3 4 5 6 7 8 9 0 1 2 3 4 5 6 7 8 9 0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Version| T | R |     Code      |     SFID      | SeqNum|  GEN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Metadata            |  CellOptions  |   NumCells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 CellList 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..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umCells: 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  <a:ea typeface="Courier New"/>
              </a:rPr>
              <a:t>The number of cells from the specified CellList the se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  <a:ea typeface="Courier New"/>
              </a:rPr>
              <a:t>        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  <a:ea typeface="Courier New"/>
              </a:rPr>
              <a:t>wants to delete from the schedule of both sender and receiv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ellList: 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  <a:ea typeface="Courier New"/>
              </a:rPr>
              <a:t>A list of 0, 1 or multiple 6P Cell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 The CellList is 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paque set of bytes, sent unmodified to the SF. 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MMENDED format of each 6P Cell is defined in Section 4.2.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SF MAY redefine the format of the CellList fie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ZoneTexte 1"/>
          <p:cNvSpPr/>
          <p:nvPr/>
        </p:nvSpPr>
        <p:spPr>
          <a:xfrm>
            <a:off x="297360" y="5661000"/>
            <a:ext cx="857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uld be say that NumCells MUST be equal to the number of cells in the CellLis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just remove the NumCells fiel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ord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ZoneTexte 1"/>
          <p:cNvSpPr/>
          <p:nvPr/>
        </p:nvSpPr>
        <p:spPr>
          <a:xfrm>
            <a:off x="-223920" y="1341360"/>
            <a:ext cx="5667120" cy="48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  Message Format  . . . . . . . . . . . . . . . . . . . . .  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1.  6top Information Element  . . . . . . . . . . . . . .  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2.  General Message Format  . . . . . . . . . . . . . . .  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3.  6P Message Types  . . . . . . . . . . . . . . . . . .  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4.  6P Command Identifiers  . . . . . . . . . . . . . . .  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5.  6P Return Codes . . . . . . . . . . . . . . . . . . .  1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6.  6P CellOptions  . . . . . . . . . . . . . . . . . . .  1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7.  6P Cell Format  . . . . . . . . . . . . . . . . . . .  15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8.  6P ADD Request Format . . . . . . . . . . . . . . . .  15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9.  6P DELETE Request Format  . . . . . . . . . . . . . .  1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10. 6P STATUS Request Format  . . . . . . . . . . . . . .  1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11. 6P LIST Request Format  . . . . . . . . . . . . . . .  18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12. 6P CLEAR Request Format . . . . . . . . . . . . . . .  18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13. 6P RELOCATE Request Format  . . . . . . . . . . . . .  1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14. 6P Response Format  . . . . . . . . . . . . . . . . .  2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15. 6P Confirmation Format  . . . . . . . . . . . . . . .  2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3.  Protocol Behavior . . . . . . . . . . . . . . . . . . . .  2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3.1.  Version Checking  . . . . . . . . . . . . . . . . . .  2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3.2.  SFID Checking . . . . . . . . . . . . . . . . . . . .  2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3.3.  Concurrent 6P Transactions  . . . . . . . . . . . . .  2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3.4.  Timeout . . . . . . . . . . . . . . . . . . . . . . .  2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3.5.  SeqNum Mismatch . . . . . . . . . . . . . . . . . . .  2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3.6.  Clearing the Schedule . . . . . . . . . . . . . . . .  2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3.7.  Adding Cells with 2-step Transaction  . . . . . . . .  2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3.8.  Aborting a 6P Transaction . . . . . . . . . . . . . .  24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3.9.  Deleting Cells  . . . . . . . . . . . . . . . . . . .  24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3.10. Listing Cells . . . . . . . . . . . . . . . . . . . .  24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3.11. Cell Relocation . . . . . . . . . . . . . . . . . . .  25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3.12. Cell Suggestion . . . . . . . . . . . . . . . . . . .  2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3.13. Generation Management . . . . . . . . . . . . . . . .  3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3.14. Handling error responses  . . . . . . . . . . . . . .  3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3851280" y="1341360"/>
            <a:ext cx="280836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ZoneTexte 1"/>
          <p:cNvSpPr/>
          <p:nvPr/>
        </p:nvSpPr>
        <p:spPr>
          <a:xfrm>
            <a:off x="3808440" y="1341360"/>
            <a:ext cx="5667120" cy="48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  Message Format  . . . . . . . . . . . . . . . . . . . . .  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1.  6top Information Element  . . . . . . . . . . . . . .  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2.  General Message Format  . . . . . . . . . . . . . . .  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3.  6P Message Types  . . . . . . . . . . . . . . . . . .  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4.  6P Command Identifiers  . . . . . . . . . . . . . . .  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5.  6P Return Codes . . . . . . . . . . . . . . . . . . .  1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6.  6P CellOptions  . . . . . . . . . . . . . . . . . . .  1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7.  6P Cell Format  . . . . . . . . . . . . . . . . . . .  15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14. Generic 6P Request Forma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14. Generic 6P Response Forma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15. Generic 6P Confirmation Forma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 6P Commands and Operation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8.  Adding cell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9.  Deleting cell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10. Retrieving the statu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11. Listing cell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12. Clearing the Schedu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2.13. Relocating a cel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3.  Protocol Behavior . . . . . . . . . . . . . . . . . . . .  2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3.1.  Version Checking  . . . . . . . . . . . . . . . . . .  2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3.2.  SFID Checking . . . . . . . . . . . . . . . . . . . .  2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3.3.  Concurrent 6P Transactions  . . . . . . . . . . . . .  2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3.4.  Timeout . . . . . . . . . . . . . . . . . . . . . . .  2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3.5.  SeqNum Mismatch . . . . . . . . . . . . . . . . . . .  2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3.8.  Aborting a 6P Transaction . . . . . . . . . . . . . .  24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3.9.  Deleting Cells  . . . . . . . . . . . . . . . . . . .  24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3.10. Listing Cells . . . . . . . . . . . . . . . . . . . .  24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3.11. Cell Relocation . . . . . . . . . . . . . . . . . . .  25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3.12. Cell Suggestion . . . . . . . . . . . . . . . . . . .  2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3.13. Generation Management . . . . . . . . . . . . . . . .  3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3.14. Handling error responses  . . . . . . . . . . . . . .  3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na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S -&gt; COU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f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paration for IETF 98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mas remote, Michael si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P: Xavi and Qin rem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FO: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eting 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h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s on mini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F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6"/>
          <p:cNvSpPr/>
          <p:nvPr/>
        </p:nvSpPr>
        <p:spPr>
          <a:xfrm>
            <a:off x="6553080" y="63165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56949-6E78-4ABD-91F6-4394A10352F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90160" y="533160"/>
            <a:ext cx="8458200" cy="38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Arial"/>
              </a:rPr>
              <a:t>draft-…-6tisch-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"/>
          <p:cNvSpPr/>
          <p:nvPr/>
        </p:nvSpPr>
        <p:spPr>
          <a:xfrm>
            <a:off x="380880" y="30481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tho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thor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thor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13186867-237F-48CA-97D2-3F0E2C9B498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08D1D2A4-4C13-4AF1-B3C2-81893A8C44D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e We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457200" y="1351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ummary is only meant to point you in the right direction, and doesn't have all the nuances. The IETF's IPR Policy is set forth in BCP 79; please read it careful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rief summar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participating with the IETF, you agree to follow IETF proces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are aware that a contribution of yours (something you write, say, or discuss in any IETF context) is covered by patents or patent applications, you need to disclose that fa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understand that meetings might be recorded, broadcast, and publicly archiv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further information, talk to a chair, ask an Area Director, or review the follow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P 9 (on the Internet Standards Proces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P 25 (on the Working Group process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P 78 (on the IETF Tru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P 79 (on Intellectual Property Rights in the IETF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S -&gt; COU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f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OB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e2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ank you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17F4EC85-CA83-4EB8-B733-EF5BC0CC905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A179A8BD-9111-45B7-8249-646CCAAE2E0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F29BA79D-DAC6-4E5D-A998-AFBB957A76C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5271921F-5BB7-4987-BE31-5B8C8D26A89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290520" y="533520"/>
            <a:ext cx="8458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Arial"/>
                <a:ea typeface="ＭＳ Ｐゴシック"/>
              </a:rPr>
              <a:t>Reminder: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262626"/>
                </a:solidFill>
                <a:latin typeface="Arial"/>
                <a:ea typeface="ＭＳ Ｐゴシック"/>
              </a:rPr>
              <a:t>Minutes are taken *</a:t>
            </a:r>
            <a:br>
              <a:rPr sz="4000"/>
            </a:br>
            <a:r>
              <a:rPr b="0" lang="en-US" sz="4000" spc="-1" strike="noStrike">
                <a:solidFill>
                  <a:srgbClr val="262626"/>
                </a:solidFill>
                <a:latin typeface="Arial"/>
                <a:ea typeface="ＭＳ Ｐゴシック"/>
              </a:rPr>
              <a:t>This meeting is recorded ** </a:t>
            </a:r>
            <a:br>
              <a:rPr sz="4000"/>
            </a:br>
            <a:r>
              <a:rPr b="0" lang="en-US" sz="4000" spc="-1" strike="noStrike">
                <a:solidFill>
                  <a:srgbClr val="262626"/>
                </a:solidFill>
                <a:latin typeface="Arial"/>
                <a:ea typeface="ＭＳ Ｐゴシック"/>
              </a:rPr>
              <a:t>Presence is logged ***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395280" y="5084640"/>
            <a:ext cx="8458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    Scribe; please contribute online to the minutes at: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Arial"/>
                <a:ea typeface="ＭＳ Ｐゴシック"/>
                <a:hlinkClick r:id="rId1"/>
              </a:rPr>
              <a:t>http://etherpad.tools.ietf.org:9000/p/6tisch?useMonospaceFont=true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*   Recordings and Minutes are public and may be subject to discovery in the event of litigation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**  From the Webex log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12C8D446-ACD2-4F1B-928A-97C1F1EDCFD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DD680DB3-7284-4C23-A58F-DAF68F72100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E17866A4-2C16-43D7-9210-48A85A5EBB6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F7A112C9-DD08-430E-9F97-BB871FD89C5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3C0276AB-7368-4639-B85E-8F70FCAA86D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46836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257040" y="1881360"/>
            <a:ext cx="8651880" cy="46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ministriv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[2min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genda bash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roval minutes from last meet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tus of drafts (chair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[5min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date on security (Michael)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[10min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date on 6P (Xavi)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[10min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paration for IETF 98 (Pascal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[25min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O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[3min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f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1"/>
          <p:cNvSpPr/>
          <p:nvPr/>
        </p:nvSpPr>
        <p:spPr>
          <a:xfrm>
            <a:off x="468360" y="2276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aft statu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5C553BC4-2FA9-4515-A13E-7B7E1155199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3CBFB0FC-D106-430F-B555-C3CF1807EE1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aft-ietf-6tisch-minimal-2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826920" y="2060640"/>
            <a:ext cx="8082000" cy="44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ea typeface="ＭＳ Ｐゴシック"/>
                <a:hlinkClick r:id="rId1"/>
              </a:rPr>
              <a:t>OPSDIR Last Call Review (of -20): Read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ea typeface="ＭＳ Ｐゴシック"/>
                <a:hlinkClick r:id="rId2"/>
              </a:rPr>
              <a:t>SECDIR Telechat Review (of -19): Has Issu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ea typeface="ＭＳ Ｐゴシック"/>
                <a:hlinkClick r:id="rId3"/>
              </a:rPr>
              <a:t>GENART Telechat Review (of -19): Read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ea typeface="ＭＳ Ｐゴシック"/>
                <a:hlinkClick r:id="rId4"/>
              </a:rPr>
              <a:t>SECDIR Last Call Review (of -17): Serious Issu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NART Last Call Review (of -17): Almost Read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DIR Early Review (of -15): Ready with Nit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DIR Early Review (of -13): Read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f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1"/>
          <p:cNvSpPr/>
          <p:nvPr/>
        </p:nvSpPr>
        <p:spPr>
          <a:xfrm>
            <a:off x="468360" y="2276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7000"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date on secur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ign team meeting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etings occurred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17-01-17, 2017-01-31, 2017-02-14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17-02-21 (extra), 2017-02-28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xt: 2017-03-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ypically presen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chael Richardson, Tero Kivinen, Pascal Thubert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omas Watteyne, Mališa Vučinić, Göran Selander, Toerless Eckert, Peter van der St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641520" y="5538960"/>
            <a:ext cx="77817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ff3333"/>
                </a:solidFill>
                <a:latin typeface="Arial"/>
                <a:ea typeface="ＭＳ Ｐゴシック"/>
              </a:rPr>
              <a:t>Recent minutes so far:</a:t>
            </a:r>
            <a:r>
              <a:rPr b="0" lang="en-CA" sz="1800" spc="-1" strike="noStrike">
                <a:solidFill>
                  <a:srgbClr val="ff3333"/>
                </a:solidFill>
                <a:latin typeface="Arial"/>
                <a:ea typeface="ＭＳ Ｐゴシック"/>
              </a:rPr>
              <a:t>	</a:t>
            </a:r>
            <a:r>
              <a:rPr b="0" lang="en-CA" sz="1800" spc="-1" strike="noStrike">
                <a:solidFill>
                  <a:srgbClr val="ff3333"/>
                </a:solidFill>
                <a:latin typeface="Arial"/>
                <a:ea typeface="ＭＳ Ｐゴシック"/>
              </a:rPr>
              <a:t>https://www.ietf.org/mail-archive/web/6tisch-security/current/msg00661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hape 22"/>
          <p:cNvSpPr/>
          <p:nvPr/>
        </p:nvSpPr>
        <p:spPr>
          <a:xfrm>
            <a:off x="8132040" y="6245280"/>
            <a:ext cx="90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46800" tIns="46800" bIns="46800" anchor="t">
            <a:spAutoFit/>
          </a:bodyPr>
          <a:p>
            <a:pPr algn="r"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9401040"/>
                <a:tab algn="l" pos="9848880"/>
                <a:tab algn="l" pos="10296360"/>
                <a:tab algn="l" pos="10744200"/>
              </a:tabLst>
            </a:pPr>
            <a:fld id="{480637E9-A4E4-4808-9CB4-2E0A9122CFE5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Shape 23"/>
          <p:cNvSpPr/>
          <p:nvPr/>
        </p:nvSpPr>
        <p:spPr>
          <a:xfrm>
            <a:off x="6553080" y="624528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tIns="46800" bIns="46800" anchor="t">
            <a:spAutoFit/>
          </a:bodyPr>
          <a:p>
            <a:pPr algn="r"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Shape 24"/>
          <p:cNvSpPr/>
          <p:nvPr/>
        </p:nvSpPr>
        <p:spPr>
          <a:xfrm>
            <a:off x="457200" y="556560"/>
            <a:ext cx="8229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spAutoFit/>
          </a:bodyPr>
          <a:p>
            <a:pPr algn="ctr"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draft-ietf-6tisch-minimal-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Shape 25"/>
          <p:cNvSpPr/>
          <p:nvPr/>
        </p:nvSpPr>
        <p:spPr>
          <a:xfrm>
            <a:off x="792000" y="1650960"/>
            <a:ext cx="7344000" cy="33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000" rIns="45000" tIns="45000" bIns="45000" anchor="t">
            <a:spAutoFit/>
          </a:bodyPr>
          <a:p>
            <a:pPr marL="212760" indent="-212760">
              <a:buClr>
                <a:srgbClr val="000000"/>
              </a:buClr>
              <a:buSzPct val="45000"/>
              <a:buFont typeface="Helvetica"/>
              <a:buChar char="●"/>
              <a:tabLst>
                <a:tab algn="l" pos="203040"/>
                <a:tab algn="l" pos="660240"/>
                <a:tab algn="l" pos="1104840"/>
                <a:tab algn="l" pos="1549440"/>
                <a:tab algn="l" pos="2006640"/>
                <a:tab algn="l" pos="2451240"/>
                <a:tab algn="l" pos="2908440"/>
                <a:tab algn="l" pos="3352680"/>
                <a:tab algn="l" pos="3797280"/>
                <a:tab algn="l" pos="4254480"/>
                <a:tab algn="l" pos="4699080"/>
                <a:tab algn="l" pos="5143680"/>
                <a:tab algn="l" pos="5600880"/>
                <a:tab algn="l" pos="6045120"/>
                <a:tab algn="l" pos="6502320"/>
                <a:tab algn="l" pos="6946920"/>
                <a:tab algn="l" pos="7391520"/>
                <a:tab algn="l" pos="7848720"/>
                <a:tab algn="l" pos="8292960"/>
                <a:tab algn="l" pos="8737560"/>
                <a:tab algn="l" pos="91947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is is the one-touch ver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28760" indent="-216000">
              <a:lnSpc>
                <a:spcPct val="100000"/>
              </a:lnSpc>
              <a:buClr>
                <a:srgbClr val="000000"/>
              </a:buClr>
              <a:buSzPct val="45000"/>
              <a:buFont typeface="Helvetica"/>
              <a:buChar char="●"/>
              <a:tabLst>
                <a:tab algn="l" pos="203040"/>
                <a:tab algn="l" pos="660240"/>
                <a:tab algn="l" pos="1104840"/>
                <a:tab algn="l" pos="1549440"/>
                <a:tab algn="l" pos="2006640"/>
                <a:tab algn="l" pos="2451240"/>
                <a:tab algn="l" pos="2908440"/>
                <a:tab algn="l" pos="3352680"/>
                <a:tab algn="l" pos="3797280"/>
                <a:tab algn="l" pos="4254480"/>
                <a:tab algn="l" pos="4699080"/>
                <a:tab algn="l" pos="5143680"/>
                <a:tab algn="l" pos="5600880"/>
                <a:tab algn="l" pos="6045120"/>
                <a:tab algn="l" pos="6502320"/>
                <a:tab algn="l" pos="6946920"/>
                <a:tab algn="l" pos="7391520"/>
                <a:tab algn="l" pos="7848720"/>
                <a:tab algn="l" pos="8292960"/>
                <a:tab algn="l" pos="8737560"/>
                <a:tab algn="l" pos="91947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Rekey provisions removed from this to make it as minimal as poss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28760" indent="-216000">
              <a:lnSpc>
                <a:spcPct val="100000"/>
              </a:lnSpc>
              <a:buClr>
                <a:srgbClr val="000000"/>
              </a:buClr>
              <a:buSzPct val="45000"/>
              <a:buFont typeface="Helvetica"/>
              <a:buChar char="●"/>
              <a:tabLst>
                <a:tab algn="l" pos="203040"/>
                <a:tab algn="l" pos="660240"/>
                <a:tab algn="l" pos="1104840"/>
                <a:tab algn="l" pos="1549440"/>
                <a:tab algn="l" pos="2006640"/>
                <a:tab algn="l" pos="2451240"/>
                <a:tab algn="l" pos="2908440"/>
                <a:tab algn="l" pos="3352680"/>
                <a:tab algn="l" pos="3797280"/>
                <a:tab algn="l" pos="4254480"/>
                <a:tab algn="l" pos="4699080"/>
                <a:tab algn="l" pos="5143680"/>
                <a:tab algn="l" pos="5600880"/>
                <a:tab algn="l" pos="6045120"/>
                <a:tab algn="l" pos="6502320"/>
                <a:tab algn="l" pos="6946920"/>
                <a:tab algn="l" pos="7391520"/>
                <a:tab algn="l" pos="7848720"/>
                <a:tab algn="l" pos="8292960"/>
                <a:tab algn="l" pos="8737560"/>
                <a:tab algn="l" pos="91947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racking updates from OSCOAP and EDHO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28760" indent="-216000">
              <a:lnSpc>
                <a:spcPct val="100000"/>
              </a:lnSpc>
              <a:buClr>
                <a:srgbClr val="000000"/>
              </a:buClr>
              <a:buSzPct val="45000"/>
              <a:buFont typeface="Helvetica"/>
              <a:buChar char="●"/>
              <a:tabLst>
                <a:tab algn="l" pos="203040"/>
                <a:tab algn="l" pos="660240"/>
                <a:tab algn="l" pos="1104840"/>
                <a:tab algn="l" pos="1549440"/>
                <a:tab algn="l" pos="2006640"/>
                <a:tab algn="l" pos="2451240"/>
                <a:tab algn="l" pos="2908440"/>
                <a:tab algn="l" pos="3352680"/>
                <a:tab algn="l" pos="3797280"/>
                <a:tab algn="l" pos="4254480"/>
                <a:tab algn="l" pos="4699080"/>
                <a:tab algn="l" pos="5143680"/>
                <a:tab algn="l" pos="5600880"/>
                <a:tab algn="l" pos="6045120"/>
                <a:tab algn="l" pos="6502320"/>
                <a:tab algn="l" pos="6946920"/>
                <a:tab algn="l" pos="7391520"/>
                <a:tab algn="l" pos="7848720"/>
                <a:tab algn="l" pos="8292960"/>
                <a:tab algn="l" pos="8737560"/>
                <a:tab algn="l" pos="91947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ome complications to proxy mechanism as a result of changes in EDHOC relating to SIGMA-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644400" indent="-215640">
              <a:lnSpc>
                <a:spcPct val="100000"/>
              </a:lnSpc>
              <a:buClr>
                <a:srgbClr val="000000"/>
              </a:buClr>
              <a:buSzPct val="45000"/>
              <a:buFont typeface="Helvetica"/>
              <a:buChar char="●"/>
              <a:tabLst>
                <a:tab algn="l" pos="203040"/>
                <a:tab algn="l" pos="660240"/>
                <a:tab algn="l" pos="1104840"/>
                <a:tab algn="l" pos="1549440"/>
                <a:tab algn="l" pos="2006640"/>
                <a:tab algn="l" pos="2451240"/>
                <a:tab algn="l" pos="2908440"/>
                <a:tab algn="l" pos="3352680"/>
                <a:tab algn="l" pos="3797280"/>
                <a:tab algn="l" pos="4254480"/>
                <a:tab algn="l" pos="4699080"/>
                <a:tab algn="l" pos="5143680"/>
                <a:tab algn="l" pos="5600880"/>
                <a:tab algn="l" pos="6045120"/>
                <a:tab algn="l" pos="6502320"/>
                <a:tab algn="l" pos="6946920"/>
                <a:tab algn="l" pos="7391520"/>
                <a:tab algn="l" pos="7848720"/>
                <a:tab algn="l" pos="8292960"/>
                <a:tab algn="l" pos="8737560"/>
                <a:tab algn="l" pos="91947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nsidering to add a 6TiSCH-specific CoAP option for stateless proxy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644400" indent="-215640">
              <a:lnSpc>
                <a:spcPct val="100000"/>
              </a:lnSpc>
              <a:buClr>
                <a:srgbClr val="000000"/>
              </a:buClr>
              <a:buSzPct val="45000"/>
              <a:buFont typeface="Helvetica"/>
              <a:buChar char="●"/>
              <a:tabLst>
                <a:tab algn="l" pos="203040"/>
                <a:tab algn="l" pos="660240"/>
                <a:tab algn="l" pos="1104840"/>
                <a:tab algn="l" pos="1549440"/>
                <a:tab algn="l" pos="2006640"/>
                <a:tab algn="l" pos="2451240"/>
                <a:tab algn="l" pos="2908440"/>
                <a:tab algn="l" pos="3352680"/>
                <a:tab algn="l" pos="3797280"/>
                <a:tab algn="l" pos="4254480"/>
                <a:tab algn="l" pos="4699080"/>
                <a:tab algn="l" pos="5143680"/>
                <a:tab algn="l" pos="5600880"/>
                <a:tab algn="l" pos="6045120"/>
                <a:tab algn="l" pos="6502320"/>
                <a:tab algn="l" pos="6946920"/>
                <a:tab algn="l" pos="7391520"/>
                <a:tab algn="l" pos="7848720"/>
                <a:tab algn="l" pos="8292960"/>
                <a:tab algn="l" pos="8737560"/>
                <a:tab algn="l" pos="91947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iscussions on Core list with Klaus Hartk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28760" indent="-216000">
              <a:lnSpc>
                <a:spcPct val="100000"/>
              </a:lnSpc>
              <a:buClr>
                <a:srgbClr val="000000"/>
              </a:buClr>
              <a:buSzPct val="45000"/>
              <a:buFont typeface="Helvetica"/>
              <a:buChar char="●"/>
              <a:tabLst>
                <a:tab algn="l" pos="203040"/>
                <a:tab algn="l" pos="660240"/>
                <a:tab algn="l" pos="1104840"/>
                <a:tab algn="l" pos="1549440"/>
                <a:tab algn="l" pos="2006640"/>
                <a:tab algn="l" pos="2451240"/>
                <a:tab algn="l" pos="2908440"/>
                <a:tab algn="l" pos="3352680"/>
                <a:tab algn="l" pos="3797280"/>
                <a:tab algn="l" pos="4254480"/>
                <a:tab algn="l" pos="4699080"/>
                <a:tab algn="l" pos="5143680"/>
                <a:tab algn="l" pos="5600880"/>
                <a:tab algn="l" pos="6045120"/>
                <a:tab algn="l" pos="6502320"/>
                <a:tab algn="l" pos="6946920"/>
                <a:tab algn="l" pos="7391520"/>
                <a:tab algn="l" pos="7848720"/>
                <a:tab algn="l" pos="8292960"/>
                <a:tab algn="l" pos="8737560"/>
                <a:tab algn="l" pos="91947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nsidering to add passive flow in the asymmetric key mode triggered by a CoAP mess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28760" indent="-216000">
              <a:lnSpc>
                <a:spcPct val="100000"/>
              </a:lnSpc>
              <a:buClr>
                <a:srgbClr val="000000"/>
              </a:buClr>
              <a:buSzPct val="45000"/>
              <a:buFont typeface="Helvetica"/>
              <a:buChar char="●"/>
              <a:tabLst>
                <a:tab algn="l" pos="203040"/>
                <a:tab algn="l" pos="660240"/>
                <a:tab algn="l" pos="1104840"/>
                <a:tab algn="l" pos="1549440"/>
                <a:tab algn="l" pos="2006640"/>
                <a:tab algn="l" pos="2451240"/>
                <a:tab algn="l" pos="2908440"/>
                <a:tab algn="l" pos="3352680"/>
                <a:tab algn="l" pos="3797280"/>
                <a:tab algn="l" pos="4254480"/>
                <a:tab algn="l" pos="4699080"/>
                <a:tab algn="l" pos="5143680"/>
                <a:tab algn="l" pos="5600880"/>
                <a:tab algn="l" pos="6045120"/>
                <a:tab algn="l" pos="6502320"/>
                <a:tab algn="l" pos="6946920"/>
                <a:tab algn="l" pos="7391520"/>
                <a:tab algn="l" pos="7848720"/>
                <a:tab algn="l" pos="8292960"/>
                <a:tab algn="l" pos="8737560"/>
                <a:tab algn="l" pos="91947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eneral rewriting of the text to make it more explic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AFDBF5-7C1D-4ECC-8029-E76296E6AB1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17F2FC-44CD-46A7-A7C6-D2C7984BFEE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aft-ietf-6tisch-dtsecurity-secure-jo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826920" y="2060640"/>
            <a:ext cx="8082000" cy="44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792000" y="1650960"/>
            <a:ext cx="7344000" cy="43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4200" indent="-2142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his is the zero-touch ver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moving text from this document to move it to minimal-security as appropri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idering abandonning fully passive mode for hybr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64620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ledge uses minimal EDHOC process to build secure relationshi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64620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RC drives enrollment, providing certificate via CoMI inte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64620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ill some wiggle room as to whether ownership voucher is transfered during EDHOC process vs occurs in CoMI inte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216000">
              <a:lnSpc>
                <a:spcPct val="100000"/>
              </a:lnSpc>
              <a:tabLst>
                <a:tab algn="l" pos="0"/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4200" indent="-214200">
              <a:tabLst>
                <a:tab algn="l" pos="0"/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3T05:55:25Z</dcterms:created>
  <dc:creator>Thomas</dc:creator>
  <dc:description/>
  <cp:keywords/>
  <dc:language>en-US</dc:language>
  <cp:lastModifiedBy>Pascal Thubert (pthubert)</cp:lastModifiedBy>
  <dcterms:modified xsi:type="dcterms:W3CDTF">2017-03-03T14:30:24Z</dcterms:modified>
  <cp:revision>10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