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F21AAD-3D2B-4B82-B42B-782C2F59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1565E2A-48A7-415A-B6CD-27D018A4D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E340D-4B75-485C-B2FB-8DC24F98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A18FE-428B-454A-A443-FCA16C55E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A057D-D426-40CA-9DCA-59F7E1BE6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1C6A-E1EB-4E30-94F5-AABE6874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ED744A-422C-4C7A-86BD-9969FE44A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D4EABA8-4427-411D-BEF3-C013CB5435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CDD389E-E4D6-4BB1-BD49-7850E2B95E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4A19E79-EF19-40BA-B5F5-AC00CDEEB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1406A5A-457C-4855-A0CA-E2FDD26A3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4589495-1095-4F2E-A3E5-68A909850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2779B52-52C5-4303-9A84-455401188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DDE16AF-E5B8-449F-A6F7-418D3E5C0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8553F83-FC61-4D7E-B5C3-4B21D3502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D2977-E872-4447-B256-5AE4C9DE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3975-FFB9-4492-9013-393FD3258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4910A-F346-4F61-B6A2-34D2D049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3F28-CDCA-4A66-A5B0-C0256E52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DFF8-DE75-4C2C-9DE3-D33C2170F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03C3-DA57-4C1F-82A4-87E64E3C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C743-72E3-4780-8917-3A58EDF35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4FE4-58EE-430A-8277-3CB76D17B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BD6F-1F11-4E84-83B6-15C5D81AFA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0CDD-42D1-4330-B90C-F5C6ABFC1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23F0-6E38-46D5-96CB-A72A8018E5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2194-3532-4BB4-AA6B-B63153E37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BBE8-7CD9-4306-9297-4D23B4A40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A64D-FCDA-4BA9-9882-05FB20CFF7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EFF7-5E55-4602-9D38-C07C8F17F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5174-9BDC-4DC6-9517-8D7A96791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0D43-A86B-45DA-AE6D-D6795C746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1384-BBDC-4157-85AD-319F0A117B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058C-EBEA-4C2C-964C-2622E625F6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D20F-5114-4E31-98AF-E8087DD9C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841B-5F15-4A81-AF5C-1DB4E489CD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C06-27E4-4E60-874B-D30B450061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E73-2902-4DC6-9CAE-9384337ED2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A20-F4FA-484D-AE2F-8FBBAC8E43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083-BA4C-49BB-AA3A-0F1649CF47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1E3-531D-418E-A25A-FE706B5AB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6DCE-A38E-43AF-B1AD-2C2DCC3FC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BD6-E0DB-4679-8830-D96F6B16B9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DDF-87C6-4E60-A3E3-BC07113FC7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703-D695-4F3D-BF26-8FEA0094AB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79-02B7-4A7F-9423-3836B8F989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12E-1230-4835-B872-6CC94E6C02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EF-6135-4E57-9737-128840D55F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7FA-6DC8-4585-91A7-BB366324D8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E2E03-A288-480C-91D8-E22E94087B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5A8AE-0E2E-4368-A7D4-A934D6ABA7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F520-DF7E-41A1-8527-52A45F2EA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C48D-1538-4CCF-AA7E-39596F9EA8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7275-D049-4BAC-84F6-A73E242637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E1998-0994-40FE-95D3-EE628A5D1E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0D4A-CDCA-4BC9-BB81-A2381E7DC6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FDE4D-40C0-423A-9D84-5185A62087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076F-48E9-4E23-AF6E-4656A21A51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A8B8-734B-4FAB-AC4D-3E93B42F9A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FFFF1-7E83-4BB2-9391-E6D3834B38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0136F-2F21-4A7C-AB4B-2022EC3A4E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DEE3E-C7F5-4851-8453-F559BF12D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B63D-C9A7-4F4F-A4C7-485900F51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2945-E8AE-46B6-A43E-B9B6BE397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D9DC-9656-47E3-8BD2-6C64A1DD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E6BF-C22E-4983-A4F3-8E1EF897C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D44C-2060-4BA8-9D32-E5B3E83DF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409E4AF-6C74-44AF-8A32-A31FDCFD82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DB7F8761-47F4-4316-BBAA-6F6BC2F22E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2"/>
          <p:cNvSpPr/>
          <p:nvPr/>
        </p:nvSpPr>
        <p:spPr>
          <a:xfrm>
            <a:off x="160920" y="6400800"/>
            <a:ext cx="25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1.png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 fontScale="71000"/>
          </a:bodyPr>
          <a:p>
            <a:pPr marL="24336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457680" y="6350040"/>
            <a:ext cx="360360" cy="372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GB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5601FA0-3CE0-43E8-B9D0-A9C3BFC87871}" type="slidenum"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600" y="6400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@IETF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F7E31B5-8300-417F-8E86-673A4507F7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review-ietf-6tisch-minimal-19-opsdir-lc-kumari-2017-02-12/" TargetMode="External"/><Relationship Id="rId2" Type="http://schemas.openxmlformats.org/officeDocument/2006/relationships/hyperlink" Target="https://datatracker.ietf.org/doc/review-ietf-6tisch-minimal-19-secdir-telechat-kivinen-2017-02-15/" TargetMode="External"/><Relationship Id="rId3" Type="http://schemas.openxmlformats.org/officeDocument/2006/relationships/hyperlink" Target="https://datatracker.ietf.org/doc/review-ietf-6tisch-minimal-19-genart-telechat-carpenter-2017-02-04/" TargetMode="External"/><Relationship Id="rId4" Type="http://schemas.openxmlformats.org/officeDocument/2006/relationships/hyperlink" Target="https://datatracker.ietf.org/doc/review-ietf-6tisch-minimal-17-secdir-lc-kivinen-2016-12-22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 March 2017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0C749-01D6-4B8F-BCB3-6C7D0CE1AF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8085-5A47-44F5-8BE8-01260E3218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minimal-re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92000" y="16527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rekey from minimal to new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for CoMI managed access to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key is managed by slow process of JRC reaching out to all nodes and writing new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new keys includes timeout on old key, after switch-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s accept traffic from old keys and new keys, uses old keys for transmission until use of new key is se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 over from old to new keys triggers expiration of old keys based upon ti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addresses are also managed in this interface, short addresses timeout based upon AS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can garbage collect short-addresses by initiate rek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ING WG adoption and co-auth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5957-CCA9-40FB-B49B-61942345D8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D99FA-3B40-4AD1-9B38-7BEA57BB0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join-enhanced-bea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92000" y="1652760"/>
            <a:ext cx="73440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ed for definition of extension to enhanced-beacon made clear by join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IANA registry created by draft-kivinen-802-15-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cludes some bits to help hosts (aka non-RPL leaf nodes) to find correct network, and give hint about using unicast Router Solit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 ID is based upon SHA256 of DODAGID to identify net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s that EB is not encrypted, so inappropriate to put much information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s bit to indicate if sender is available as a Join Proxy; L3 address is implied by SLAAC configuation of Link-Local address from EUI-64 of s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 algn="ctr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EKING WG adoption and co-auth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Cells in DELETE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84280"/>
            <a:ext cx="82281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Version| T | R |     Code      |     SFID      | SeqNum|  GEN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Metadata            |  CellOptions  |   NumCells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CellList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ells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The number of cells from the specified CellList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wants to delete from the schedule of both sender and receiv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List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A list of 0, 1 or multiple 6P Cell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 The CellLis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aque set of bytes, sent unmodified to the SF. 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MMENDED format of each 6P Cell is defined in Section 4.2.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F MAY redefine the format of the CellLis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"/>
          <p:cNvSpPr/>
          <p:nvPr/>
        </p:nvSpPr>
        <p:spPr>
          <a:xfrm>
            <a:off x="297360" y="5661000"/>
            <a:ext cx="85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say that NumCells MUST be equal to the number of cells in the CellLi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just remove the NumCells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"/>
          <p:cNvSpPr/>
          <p:nvPr/>
        </p:nvSpPr>
        <p:spPr>
          <a:xfrm>
            <a:off x="-22392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6P ADD Request Format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  . . . . . . . . . . . . . . 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6P STATUS Request Format  . . . . . . . . . . . . . .  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6P LIST Request Format 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6P CLEAR Request Format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6P RELOCATE Request Format  . . . . . . . . . . . . .  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6P Response Format  . . . . . . . . . . . . . . . . . 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6P Confirmation Format 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7.  Adding Cells with 2-step Transaction 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51280" y="1341360"/>
            <a:ext cx="280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ZoneTexte 1"/>
          <p:cNvSpPr/>
          <p:nvPr/>
        </p:nvSpPr>
        <p:spPr>
          <a:xfrm>
            <a:off x="380844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ques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sponse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Generic 6P Confirmation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6P Commands and Oper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Add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Dele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Retrieving th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Lis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Relocating a c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remote, Michael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: Xavi and Qin 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O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n mi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0F2-8756-4C63-A131-55A2BB725C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0160" y="5331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…-6tisch-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6CDD277-29F4-49E6-A862-D453E274B0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60A23C-8009-4838-8073-EF40F3381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EB1F71D-73D2-4CD2-8360-1CE88C2DC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F84A2C0-9907-4249-B1DC-94B54EFAAD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810A684-45B0-4FA0-9EED-B6D3A0E84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3E082C5-54C5-4E4C-A285-24CB3D4E3B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E3267BE-43DE-4FAF-8E28-6D6B2289B4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51B1AA2-7155-4830-AFDD-54948BAF49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6788A8-0593-444D-ACDE-8644C09FB9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24191AF-5A28-44B8-85BB-8796C54D14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22CB226-A1D2-4CC8-8F4A-629AC7563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 draft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 (Michael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 (Xavi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(Pasc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205FEB9-A311-4690-9D2D-342849C923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AA02239-52CB-4C2E-B27D-9C961A0801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minimal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OPSDIR Last Call Review (of -20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SECDIR Telechat Review (of -19): Ha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3"/>
              </a:rPr>
              <a:t>GENART Telechat Review (of -19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4"/>
              </a:rPr>
              <a:t>SECDIR Last Call Review (of -17): Seriou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ART Last Call Review (of -17): Almost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5): Ready with N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3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team mee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s occurre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1-17, 2017-01-31, 2017-02-14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2-21 (extra), 2017-02-2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: 2017-03-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pres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ael Richardson, Tero Kivinen, Pascal Thub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, Mališa Vučinić, Göran Selander, Toerless Eckert, Peter van der S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1520" y="5538960"/>
            <a:ext cx="778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Recent minutes so far: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	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https://www.ietf.org/mail-archive/web/6tisch-security/current/msg006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2"/>
          <p:cNvSpPr/>
          <p:nvPr/>
        </p:nvSpPr>
        <p:spPr>
          <a:xfrm>
            <a:off x="8132040" y="6245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fld id="{34EBAC43-2A21-4653-BD45-7E29557708F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hape 23"/>
          <p:cNvSpPr/>
          <p:nvPr/>
        </p:nvSpPr>
        <p:spPr>
          <a:xfrm>
            <a:off x="6553080" y="6245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hape 24"/>
          <p:cNvSpPr/>
          <p:nvPr/>
        </p:nvSpPr>
        <p:spPr>
          <a:xfrm>
            <a:off x="457200" y="5565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aft-ietf-6tisch-minimal-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hape 25"/>
          <p:cNvSpPr/>
          <p:nvPr/>
        </p:nvSpPr>
        <p:spPr>
          <a:xfrm>
            <a:off x="792000" y="1650960"/>
            <a:ext cx="73440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45000" bIns="45000" anchor="t">
            <a:spAutoFit/>
          </a:bodyPr>
          <a:p>
            <a:pPr marL="212760" indent="-212760"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one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key provisions removed from this to make it as minimal a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updates from OSCOAP and EDH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complications to proxy mechanism as a result of changes in EDHOC relating to SIGMA-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a 6TiSCH-specific CoAP option for stateless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s on Core list with Klaus Hart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passive flow in the asymmetric key mode triggered by a C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rewriting of the text to make it more explic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6C1B-3D79-4405-8BB4-27FE9DC29C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41FF-3499-441B-8F58-709D7370C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dtsecurity-secure-j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92000" y="16509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is the zero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ing text from this document to move it to minimal-security as appropr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ing abandonning fully passive mode for 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dge uses minimal EDHOC process to build secure relation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drives enrollment, providing certificate via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some wiggle room as to whether ownership voucher is transfered during EDHOC process vs occurs in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7-03-03T14:30:24Z</dcterms:modified>
  <cp:revision>10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