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5"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6" name="PlaceHolder 1"/>
          <p:cNvSpPr>
            <a:spLocks noGrp="1"/>
          </p:cNvSpPr>
          <p:nvPr>
            <p:ph type="dt" idx="4"/>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7"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8"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0" name="PlaceHolder 4"/>
          <p:cNvSpPr>
            <a:spLocks noGrp="1"/>
          </p:cNvSpPr>
          <p:nvPr>
            <p:ph type="sldNum" idx="5"/>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C21ED01-460B-42C2-8A3A-FDCF8CE0F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37BC9C0-B77F-4B49-AC38-548201B6253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E13CF8B-E062-4453-AE99-FE71925F969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D4E58D6-388F-4FB6-A9D3-12A320DD2D3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D4362D3-D2CD-46A1-BCAC-B59ECCAB0EE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BE1956F-188C-4B65-96E5-8D31A94FD26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8B56FD6-2CC6-410C-844D-5639FF8D0C8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F072540-E731-444D-B8DF-9F2F0F223D2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F8BE066-3F93-45DA-AB5D-C490B96DFF1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300BD12-C2FF-493C-B645-01F9B6E269F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9EF3518-76B7-4990-A2AF-611783681EB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F4A257E-22A1-4F71-861E-0219E29854B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2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27A1764-A735-4ADB-ABD2-88491B88437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1C46FE4-0F93-472A-AECF-C53007405AA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5E11556-B459-4212-81D3-02DDDB54D1B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7EAFD14-0D79-46F7-B7BE-C38ACEFA208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08AB67B-BC06-45DC-87EE-804FC696D36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6021B1-6631-445F-A3B0-23ED39D390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FF0493-5078-4324-9476-BB63501B42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8AC5E-198E-4A20-8BD4-4E860B92C1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1B5776-F001-4561-8913-FDD3F47038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5E6EBC-7335-4140-BC2F-174FFF69DD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D28075-9E17-49F1-9ECB-103667547C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096A3C-E7B1-4575-94FE-8634D87BDD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23FFF91-F277-49B2-B5F7-890056BEF1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342BE505-8E2E-4B0D-9BA9-C64BF23F0D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87CDC59-6DB9-4D67-BC65-A245E0920D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0B2CF58-E52A-4D1D-B53A-70A9DA800A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E8815-AD04-48AC-B605-327AD75953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AB14D6-333C-4C0C-B277-AEC4BCDEAE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E07351E-5FBE-4F38-8625-E1A0C7B567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239618D-2E26-449F-91A2-5D5C38843B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90F2236-9F9E-4EF9-A907-0D242A7CA3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1604085-557C-43CF-A1E0-0073EDCB019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4532FFE-F0F9-4972-895E-A8217B87963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1B6B43-E2BD-4E91-B8EC-5613658B11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DA15480-3A16-4CB4-BC27-3D6DF9F6C99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3B26B10-682E-4D43-8F92-495C93176A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E5E4954-6C4C-409A-A239-98711E8A47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C7C35-0326-45A7-A181-DF0FF7FE802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BEF8937-4119-4149-AB5D-E4FD9A6F2F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7D9B9FE-AF09-44A4-AD1B-A8C7B02623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597B5E1-1EA2-46D2-BB0F-3B2AF761FC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721F621-3F55-4424-9A49-D42D1D3541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47AE6A8-3CB9-48E8-8C8C-60FA8D60DA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6F4C2D8-920E-41BF-9DB0-A1A44AF84B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50A19AA-2748-472A-8566-C2790D966C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0C04DF-CBD5-4DBB-A354-9F339B1131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26557A-71EB-4CD2-969C-6E52824776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58082D9-5A31-482F-B26E-23BB3DD025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9F6DE-AA94-457A-8FAB-3B7CF7C9C9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9B3D9-97FC-431B-AED7-2BB0B4947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B2540-9246-4D48-B012-B1EF1D9585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4 April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AC87F56-2651-4AB3-8822-FCE4B5500A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4 April 2017</a:t>
            </a:r>
            <a:endParaRPr b="0" lang="en-US" sz="1400" spc="-1" strike="noStrike">
              <a:solidFill>
                <a:srgbClr val="ffffff"/>
              </a:solidFill>
              <a:latin typeface="Arial"/>
            </a:endParaRPr>
          </a:p>
        </p:txBody>
      </p:sp>
      <p:pic>
        <p:nvPicPr>
          <p:cNvPr id="42" name="Picture 4" descr=""/>
          <p:cNvPicPr/>
          <p:nvPr/>
        </p:nvPicPr>
        <p:blipFill>
          <a:blip r:embed="rId2"/>
          <a:stretch/>
        </p:blipFill>
        <p:spPr>
          <a:xfrm>
            <a:off x="7848720" y="76320"/>
            <a:ext cx="1218960" cy="836640"/>
          </a:xfrm>
          <a:prstGeom prst="rect">
            <a:avLst/>
          </a:prstGeom>
          <a:ln w="0">
            <a:noFill/>
          </a:ln>
        </p:spPr>
      </p:pic>
      <p:sp>
        <p:nvSpPr>
          <p:cNvPr id="4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2"/>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GB"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D5362B0-097A-4264-9CCC-C8476B0ACBCE}"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4 April 2017</a:t>
            </a:r>
            <a:endParaRPr b="0" lang="en-US" sz="1400" spc="-1" strike="noStrike">
              <a:solidFill>
                <a:srgbClr val="ffffff"/>
              </a:solidFill>
              <a:latin typeface="Arial"/>
            </a:endParaRPr>
          </a:p>
        </p:txBody>
      </p:sp>
      <p:pic>
        <p:nvPicPr>
          <p:cNvPr id="83" name="Picture 4" descr=""/>
          <p:cNvPicPr/>
          <p:nvPr/>
        </p:nvPicPr>
        <p:blipFill>
          <a:blip r:embed="rId2"/>
          <a:stretch/>
        </p:blipFill>
        <p:spPr>
          <a:xfrm>
            <a:off x="7848720" y="76320"/>
            <a:ext cx="1218960" cy="836640"/>
          </a:xfrm>
          <a:prstGeom prst="rect">
            <a:avLst/>
          </a:prstGeom>
          <a:ln w="0">
            <a:noFill/>
          </a:ln>
        </p:spPr>
      </p:pic>
      <p:sp>
        <p:nvSpPr>
          <p:cNvPr id="8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sldNum" idx="3"/>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GB"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BEACCDD-F03B-45D7-8FFF-8CAFC2AA5874}"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132"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133"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14 April 2017 Webex</a:t>
            </a:r>
            <a:endParaRPr b="0" lang="en-US" sz="4400" spc="-1" strike="noStrike">
              <a:solidFill>
                <a:srgbClr val="ffffff"/>
              </a:solidFill>
              <a:latin typeface="Arial"/>
            </a:endParaRPr>
          </a:p>
        </p:txBody>
      </p:sp>
      <p:pic>
        <p:nvPicPr>
          <p:cNvPr id="134"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FC17C23-9880-4F0B-B1D9-519BB1F95A4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6B59235-0334-4539-969D-78C6F757F71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6P and SF0</a:t>
            </a:r>
            <a:endParaRPr b="0" lang="en-US" sz="3200" spc="-1" strike="noStrike">
              <a:solidFill>
                <a:srgbClr val="ffffff"/>
              </a:solidFill>
              <a:latin typeface="Arial"/>
            </a:endParaRPr>
          </a:p>
        </p:txBody>
      </p:sp>
      <p:sp>
        <p:nvSpPr>
          <p:cNvPr id="173"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Launch last call?</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74"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6P</a:t>
            </a:r>
            <a:endParaRPr b="0" lang="en-US" sz="4400" spc="-1" strike="noStrike">
              <a:solidFill>
                <a:srgbClr val="ffffff"/>
              </a:solidFill>
              <a:latin typeface="Arial"/>
            </a:endParaRPr>
          </a:p>
        </p:txBody>
      </p:sp>
      <p:sp>
        <p:nvSpPr>
          <p:cNvPr id="17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06AA5F2-A567-48CB-A2F2-5C0CC521AC0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108342D-1E38-403E-9EA2-8C7F0B3A719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Charlie’s review of</a:t>
            </a:r>
            <a:br>
              <a:rPr sz="3200"/>
            </a:br>
            <a:r>
              <a:rPr b="0" lang="en-US" sz="3200" spc="-1" strike="noStrike">
                <a:solidFill>
                  <a:srgbClr val="000000"/>
                </a:solidFill>
                <a:latin typeface="Arial"/>
                <a:ea typeface="ＭＳ Ｐゴシック"/>
              </a:rPr>
              <a:t>draft-ietf-6tisch-6top-protocol-04</a:t>
            </a:r>
            <a:endParaRPr b="0" lang="en-US" sz="3200" spc="-1" strike="noStrike">
              <a:solidFill>
                <a:srgbClr val="ffffff"/>
              </a:solidFill>
              <a:latin typeface="Arial"/>
            </a:endParaRPr>
          </a:p>
        </p:txBody>
      </p:sp>
      <p:sp>
        <p:nvSpPr>
          <p:cNvPr id="179" name="Text Box 7"/>
          <p:cNvSpPr/>
          <p:nvPr/>
        </p:nvSpPr>
        <p:spPr>
          <a:xfrm>
            <a:off x="684360" y="1484280"/>
            <a:ext cx="8081640" cy="475308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 think the document has issues, some technical, mostly editorial.  They can be easily fixed but some decisions have to be made.  All of my comments can be found in the attached output of 'rfcdiff'.  The editorial suggestions I mostly incorporated into a revised version of the file, which is also visible in the output of 'rfcdiff'.  If this is unclear, please let me know.  I think that there should be a new section for "Terminology", and various TSCH, 6TiSCH, and 6top terms explained in that section for convenience.</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Here are some of my technical comments about the document.  Some of my questions might arise from my own misunderstandings, in which case perhaps a few more sentences or cross-references could be inserted for explanations.</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ERR_EOL is defined as an error, but it is used as a flag for protocol signaling</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Why is any negotiation needed for node A to delete 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f a negotiation is needed, then isn't NumCells needed somewhere in the message forma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3, If you have a Candidate CellList, don't you also need "NumCand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GEN and SeqNum play similar roles.  The protocol could be cleaner if their roles were combined.  Plus you would have more bits, making rollover far less frequen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Some of the suggestions for SF specification seem impractical.</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why LIST and COUNT are needed except possibly for reboot or operating system error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how to abort the CONFIRMATION step of a 3-step transaction.</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4, is NumCells needed for the RELOCATE Response?</a:t>
            </a:r>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000000"/>
                </a:solidFill>
                <a:latin typeface="Arial"/>
              </a:rPr>
              <a:t>Technical comments about</a:t>
            </a:r>
            <a:br>
              <a:rPr sz="5400"/>
            </a:br>
            <a:r>
              <a:rPr b="0" lang="en-US" sz="5400" spc="-1" strike="noStrike">
                <a:solidFill>
                  <a:srgbClr val="000000"/>
                </a:solidFill>
                <a:latin typeface="Arial"/>
              </a:rPr>
              <a:t>draft-ietf-6tisch-6top-protocol-04</a:t>
            </a:r>
            <a:endParaRPr b="0" lang="en-US" sz="5400" spc="-1" strike="noStrike">
              <a:solidFill>
                <a:srgbClr val="000000"/>
              </a:solidFill>
              <a:latin typeface="Arial"/>
            </a:endParaRPr>
          </a:p>
        </p:txBody>
      </p:sp>
      <p:sp>
        <p:nvSpPr>
          <p:cNvPr id="181"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pril 14, 2017 interim teleconference</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harles Perkins</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uturew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1</a:t>
            </a:r>
            <a:endParaRPr b="0" lang="en-US" sz="4400" spc="-1" strike="noStrike">
              <a:solidFill>
                <a:srgbClr val="000000"/>
              </a:solidFill>
              <a:latin typeface="Arial"/>
            </a:endParaRPr>
          </a:p>
        </p:txBody>
      </p:sp>
      <p:sp>
        <p:nvSpPr>
          <p:cNvPr id="183"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ERR_EOL is defined as an error, but it is used as a flag for protocol signaling</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Why is any negotiation needed for node A to delete 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f a negotiation is needed, then isn't NumCells needed somewhere in the message forma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3, If you have a Candidate CellList, don't you also need "NumCand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GEN and SeqNum play similar roles.  The protocol could be cleaner if their roles were combined.  Plus you would have more bits, making rollover far less frequen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2</a:t>
            </a:r>
            <a:endParaRPr b="0" lang="en-US" sz="4400" spc="-1" strike="noStrike">
              <a:solidFill>
                <a:srgbClr val="000000"/>
              </a:solidFill>
              <a:latin typeface="Arial"/>
            </a:endParaRPr>
          </a:p>
        </p:txBody>
      </p:sp>
      <p:sp>
        <p:nvSpPr>
          <p:cNvPr id="185"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ome of the suggestions for SF specification seem impractical.</a:t>
            </a:r>
            <a:endParaRPr b="0" lang="en-US" sz="27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a:t>
            </a:r>
            <a:r>
              <a:rPr b="0" lang="en-US" sz="2400" spc="-1" strike="noStrike">
                <a:solidFill>
                  <a:srgbClr val="000000"/>
                </a:solidFill>
                <a:latin typeface="Arial"/>
              </a:rPr>
              <a:t>MUST specify the behavior of a node when it boots.”</a:t>
            </a:r>
            <a:endParaRPr b="0" lang="en-US" sz="24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Do we really need a registry of application domains?</a:t>
            </a:r>
            <a:endParaRPr b="0" lang="en-US" sz="24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why LIST and COUNT are needed except possibly for reboot or operating system errors.</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how to abort the CONFIRMATION step of a 3-step transaction.</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4, is NumCells needed for the RELOCATE Response?</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86"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18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88"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8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Research Liaison Task Force</a:t>
            </a:r>
            <a:endParaRPr b="0" lang="en-US" sz="4400" spc="-1" strike="noStrike">
              <a:solidFill>
                <a:srgbClr val="ffffff"/>
              </a:solidFill>
              <a:latin typeface="Arial"/>
            </a:endParaRPr>
          </a:p>
        </p:txBody>
      </p:sp>
      <p:sp>
        <p:nvSpPr>
          <p:cNvPr id="19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Research Liaison idea</a:t>
            </a:r>
            <a:endParaRPr b="0" lang="en-US" sz="4400" spc="-1" strike="noStrike">
              <a:solidFill>
                <a:srgbClr val="000000"/>
              </a:solidFill>
              <a:latin typeface="Arial"/>
            </a:endParaRPr>
          </a:p>
        </p:txBody>
      </p:sp>
      <p:sp>
        <p:nvSpPr>
          <p:cNvPr id="192"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idea</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sue requests for simulation, implementation</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Gather feedback/performance results</a:t>
            </a:r>
            <a:endParaRPr b="0" lang="en-US" sz="24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 “research” the right term?</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How to liaise with the community? Wiki? I-D?</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Propose to have one person in charge of:</a:t>
            </a:r>
            <a:endParaRPr b="0" lang="en-US" sz="24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Issuing calls</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Coordinating results to WG</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Maintain list of ongoing work (papers, group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The 6TiSCH simulator</a:t>
            </a:r>
            <a:endParaRPr b="0" lang="en-US" sz="6000" spc="-1" strike="noStrike">
              <a:solidFill>
                <a:srgbClr val="000000"/>
              </a:solidFill>
              <a:latin typeface="Arial"/>
            </a:endParaRPr>
          </a:p>
        </p:txBody>
      </p:sp>
      <p:sp>
        <p:nvSpPr>
          <p:cNvPr id="194" name="PlaceHolder 2"/>
          <p:cNvSpPr>
            <a:spLocks noGrp="1"/>
          </p:cNvSpPr>
          <p:nvPr>
            <p:ph type="subTitle"/>
          </p:nvPr>
        </p:nvSpPr>
        <p:spPr>
          <a:xfrm>
            <a:off x="893520" y="3527280"/>
            <a:ext cx="7358040" cy="1268640"/>
          </a:xfrm>
          <a:prstGeom prst="rect">
            <a:avLst/>
          </a:prstGeom>
          <a:noFill/>
          <a:ln w="0">
            <a:noFill/>
          </a:ln>
        </p:spPr>
        <p:txBody>
          <a:bodyPr lIns="90000" rIns="90000" tIns="46800" bIns="46800" anchor="t">
            <a:noAutofit/>
          </a:bodyPr>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Thomas Watteyne</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Kazushi Muraoka</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Nicola Accettura</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Xavier Vilajosana</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u="sng">
                <a:solidFill>
                  <a:srgbClr val="000000"/>
                </a:solidFill>
                <a:uFillTx/>
                <a:latin typeface="Arial"/>
              </a:rPr>
              <a:t>Mališa Vučinić</a:t>
            </a:r>
            <a:endParaRPr b="0" lang="en-US" sz="2200" spc="-1" strike="noStrike">
              <a:solidFill>
                <a:srgbClr val="000000"/>
              </a:solidFill>
              <a:latin typeface="Arial"/>
            </a:endParaRPr>
          </a:p>
        </p:txBody>
      </p:sp>
      <p:sp>
        <p:nvSpPr>
          <p:cNvPr id="195" name="Shape 121"/>
          <p:cNvSpPr/>
          <p:nvPr/>
        </p:nvSpPr>
        <p:spPr>
          <a:xfrm>
            <a:off x="1933560" y="5702040"/>
            <a:ext cx="3714480" cy="345960"/>
          </a:xfrm>
          <a:prstGeom prst="rect">
            <a:avLst/>
          </a:prstGeom>
          <a:noFill/>
          <a:ln w="0">
            <a:noFill/>
          </a:ln>
        </p:spPr>
        <p:style>
          <a:lnRef idx="0"/>
          <a:fillRef idx="0"/>
          <a:effectRef idx="0"/>
          <a:fontRef idx="minor"/>
        </p:style>
        <p:txBody>
          <a:bodyPr wrap="none" lIns="35640" rIns="35640" tIns="35640" bIns="3564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https://bitbucket.org/6tisch/simulator</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51FE7C5-8F91-4A02-ABA6-426442D3283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36"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90620C4-14D5-4B1B-9F0C-A0DE9157E10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37"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138"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197" name="PlaceHolder 2"/>
          <p:cNvSpPr>
            <a:spLocks noGrp="1"/>
          </p:cNvSpPr>
          <p:nvPr>
            <p:ph/>
          </p:nvPr>
        </p:nvSpPr>
        <p:spPr>
          <a:xfrm>
            <a:off x="704880" y="1517400"/>
            <a:ext cx="3124080" cy="442116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redict the performance of a 6TiSCH network</a:t>
            </a:r>
            <a:endParaRPr b="0" lang="en-US" sz="32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eedback to protocol designers</a:t>
            </a:r>
            <a:endParaRPr b="0" lang="en-US" sz="32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Research tool</a:t>
            </a:r>
            <a:endParaRPr b="0" lang="en-US" sz="3200" spc="-1" strike="noStrike">
              <a:solidFill>
                <a:srgbClr val="000000"/>
              </a:solidFill>
              <a:latin typeface="Arial"/>
            </a:endParaRPr>
          </a:p>
        </p:txBody>
      </p:sp>
      <p:pic>
        <p:nvPicPr>
          <p:cNvPr id="198" name="Screen Shot 2017-04-14 at 11.09.42.png" descr=""/>
          <p:cNvPicPr/>
          <p:nvPr/>
        </p:nvPicPr>
        <p:blipFill>
          <a:blip r:embed="rId1"/>
          <a:stretch/>
        </p:blipFill>
        <p:spPr>
          <a:xfrm>
            <a:off x="3898800" y="3262320"/>
            <a:ext cx="5037120" cy="2654280"/>
          </a:xfrm>
          <a:prstGeom prst="rect">
            <a:avLst/>
          </a:prstGeom>
          <a:ln w="0">
            <a:noFill/>
          </a:ln>
        </p:spPr>
      </p:pic>
      <p:pic>
        <p:nvPicPr>
          <p:cNvPr id="199" name="logo_6tisch.png" descr=""/>
          <p:cNvPicPr/>
          <p:nvPr/>
        </p:nvPicPr>
        <p:blipFill>
          <a:blip r:embed="rId2"/>
          <a:stretch/>
        </p:blipFill>
        <p:spPr>
          <a:xfrm>
            <a:off x="5311800" y="1638360"/>
            <a:ext cx="2211480" cy="1519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201" name="PlaceHolder 2"/>
          <p:cNvSpPr>
            <a:spLocks noGrp="1"/>
          </p:cNvSpPr>
          <p:nvPr>
            <p:ph/>
          </p:nvPr>
        </p:nvSpPr>
        <p:spPr>
          <a:xfrm>
            <a:off x="669960" y="1829880"/>
            <a:ext cx="3247920" cy="382284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Discrete-event simulator</a:t>
            </a:r>
            <a:endParaRPr b="0" lang="en-US" sz="3200" spc="-1" strike="noStrike">
              <a:solidFill>
                <a:srgbClr val="000000"/>
              </a:solidFill>
              <a:latin typeface="Arial"/>
            </a:endParaRPr>
          </a:p>
          <a:p>
            <a:pPr lvl="1" marL="457200" indent="0">
              <a:spcBef>
                <a:spcPts val="7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Time proceeds in TSCH slots</a:t>
            </a:r>
            <a:endParaRPr b="0" lang="en-US" sz="28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Written in Python</a:t>
            </a:r>
            <a:endParaRPr b="0" lang="en-US" sz="3200" spc="-1" strike="noStrike">
              <a:solidFill>
                <a:srgbClr val="000000"/>
              </a:solidFill>
              <a:latin typeface="Arial"/>
            </a:endParaRPr>
          </a:p>
        </p:txBody>
      </p:sp>
      <p:graphicFrame>
        <p:nvGraphicFramePr>
          <p:cNvPr id="202" name=""/>
          <p:cNvGraphicFramePr/>
          <p:nvPr/>
        </p:nvGraphicFramePr>
        <p:xfrm>
          <a:off x="4232160" y="1862280"/>
          <a:ext cx="4334040" cy="3763800"/>
        </p:xfrm>
        <a:graphic>
          <a:graphicData uri="http://schemas.openxmlformats.org/drawingml/2006/table">
            <a:tbl>
              <a:tblPr/>
              <a:tblGrid>
                <a:gridCol w="2013120"/>
                <a:gridCol w="2320920"/>
              </a:tblGrid>
              <a:tr h="62676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SCH</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pple Color Emoji"/>
                          <a:ea typeface="Apple Color Emoji"/>
                        </a:rPr>
                        <a:t>✔️</a:t>
                      </a:r>
                      <a:endParaRPr b="0" lang="en-US" sz="10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568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al schedule</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pple Color Emoji"/>
                          <a:ea typeface="Apple Color Emoji"/>
                        </a:rPr>
                        <a:t>✔️</a:t>
                      </a:r>
                      <a:endParaRPr b="0" lang="en-US" sz="10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PL with source routing</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pple Color Emoji"/>
                          <a:ea typeface="Apple Color Emoji"/>
                        </a:rPr>
                        <a:t>✔️</a:t>
                      </a:r>
                      <a:endParaRPr b="0" lang="en-US" sz="10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top</a:t>
                      </a:r>
                      <a:r>
                        <a:rPr b="0" lang="en-GB" sz="1800" spc="-1" strike="noStrike" baseline="32000">
                          <a:solidFill>
                            <a:srgbClr val="000000"/>
                          </a:solidFill>
                          <a:latin typeface="Arial"/>
                        </a:rPr>
                        <a:t>1</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pple Color Emoji"/>
                          <a:ea typeface="Apple Color Emoji"/>
                        </a:rPr>
                        <a:t>✔️</a:t>
                      </a:r>
                      <a:endParaRPr b="0" lang="en-US" sz="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the-fly</a:t>
                      </a:r>
                      <a:r>
                        <a:rPr b="0" lang="en-GB" sz="1800" spc="-1" strike="noStrike" baseline="32000">
                          <a:solidFill>
                            <a:srgbClr val="000000"/>
                          </a:solidFill>
                          <a:latin typeface="Arial"/>
                        </a:rPr>
                        <a:t>2</a:t>
                      </a:r>
                      <a:r>
                        <a:rPr b="0" lang="en-GB" sz="1800" spc="-1" strike="noStrike">
                          <a:solidFill>
                            <a:srgbClr val="000000"/>
                          </a:solidFill>
                          <a:latin typeface="Arial"/>
                        </a:rPr>
                        <a:t> scheduling</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pple Color Emoji"/>
                          <a:ea typeface="Apple Color Emoji"/>
                        </a:rPr>
                        <a:t>✔️</a:t>
                      </a:r>
                      <a:endParaRPr b="0" lang="en-US" sz="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in process</a:t>
                      </a:r>
                      <a:r>
                        <a:rPr b="0" lang="en-GB" sz="1800" spc="-1" strike="noStrike" baseline="32000">
                          <a:solidFill>
                            <a:srgbClr val="000000"/>
                          </a:solidFill>
                          <a:latin typeface="Arial"/>
                        </a:rPr>
                        <a:t>3</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pple Color Emoji"/>
                          <a:ea typeface="Apple Color Emoji"/>
                        </a:rPr>
                        <a:t>✔️</a:t>
                      </a:r>
                      <a:endParaRPr b="0" lang="en-US" sz="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Shape 131"/>
          <p:cNvSpPr/>
          <p:nvPr/>
        </p:nvSpPr>
        <p:spPr>
          <a:xfrm>
            <a:off x="6370200" y="6026040"/>
            <a:ext cx="2164320" cy="573840"/>
          </a:xfrm>
          <a:prstGeom prst="rect">
            <a:avLst/>
          </a:prstGeom>
          <a:noFill/>
          <a:ln w="0">
            <a:noFill/>
          </a:ln>
        </p:spPr>
        <p:style>
          <a:lnRef idx="0"/>
          <a:fillRef idx="0"/>
          <a:effectRef idx="0"/>
          <a:fontRef idx="minor"/>
        </p:style>
        <p:txBody>
          <a:bodyPr wrap="none" lIns="35640" rIns="35640" tIns="35640" bIns="3564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100" spc="-1" strike="noStrike" baseline="32000">
                <a:solidFill>
                  <a:srgbClr val="000000"/>
                </a:solidFill>
                <a:latin typeface="Arial"/>
              </a:rPr>
              <a:t>1 - http://tools.ietf.org/html/draft-wang-6tisch-6top-sublayer</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100" spc="-1" strike="noStrike" baseline="32000">
                <a:solidFill>
                  <a:srgbClr val="000000"/>
                </a:solidFill>
                <a:latin typeface="Arial"/>
              </a:rPr>
              <a:t>2 - http://tools.ietf.org/html/draft-dujovne-6tisch-on-the-fly</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100" spc="-1" strike="noStrike" baseline="32000">
                <a:solidFill>
                  <a:srgbClr val="000000"/>
                </a:solidFill>
                <a:latin typeface="Arial"/>
              </a:rPr>
              <a:t>3 - generic</a:t>
            </a:r>
            <a:endParaRPr b="0" lang="en-US" sz="11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Metrics</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Energy consumption</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erformance of Slotted-Aloha cell</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Reliability</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Latency</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Duration of the join process, time until first beacon</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and many more…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90680"/>
                <a:tab algn="l" pos="981000"/>
                <a:tab algn="l" pos="1471680"/>
                <a:tab algn="l" pos="1962000"/>
                <a:tab algn="l" pos="2452680"/>
                <a:tab algn="l" pos="2943360"/>
                <a:tab algn="l" pos="3433680"/>
                <a:tab algn="l" pos="3924360"/>
                <a:tab algn="l" pos="4414680"/>
                <a:tab algn="l" pos="4905360"/>
                <a:tab algn="l" pos="5396040"/>
                <a:tab algn="l" pos="5886360"/>
                <a:tab algn="l" pos="6377040"/>
                <a:tab algn="l" pos="6867360"/>
                <a:tab algn="l" pos="7358040"/>
                <a:tab algn="l" pos="7848720"/>
                <a:tab algn="l" pos="8339040"/>
                <a:tab algn="l" pos="8829720"/>
                <a:tab algn="l" pos="9320040"/>
                <a:tab algn="l" pos="9810720"/>
              </a:tabLst>
            </a:pPr>
            <a:r>
              <a:rPr b="0" lang="en-US" sz="4000" spc="-1" strike="noStrike">
                <a:solidFill>
                  <a:srgbClr val="000000"/>
                </a:solidFill>
                <a:latin typeface="Arial"/>
              </a:rPr>
              <a:t>early results on join process</a:t>
            </a:r>
            <a:endParaRPr b="0" lang="en-US" sz="4000" spc="-1" strike="noStrike">
              <a:solidFill>
                <a:srgbClr val="000000"/>
              </a:solidFill>
              <a:latin typeface="Arial"/>
            </a:endParaRPr>
          </a:p>
        </p:txBody>
      </p:sp>
      <p:pic>
        <p:nvPicPr>
          <p:cNvPr id="207" name="cdf_2_exchanges_beaconPeriod_10.0_slotframeLength_11.pdf" descr=""/>
          <p:cNvPicPr/>
          <p:nvPr/>
        </p:nvPicPr>
        <p:blipFill>
          <a:blip r:embed="rId1"/>
          <a:stretch/>
        </p:blipFill>
        <p:spPr>
          <a:xfrm>
            <a:off x="-169920" y="2151000"/>
            <a:ext cx="5048280" cy="3787920"/>
          </a:xfrm>
          <a:prstGeom prst="rect">
            <a:avLst/>
          </a:prstGeom>
          <a:ln w="0">
            <a:noFill/>
          </a:ln>
        </p:spPr>
      </p:pic>
      <p:pic>
        <p:nvPicPr>
          <p:cNvPr id="208" name="duration_vs_numMotes_beaconPeriod_10.0_slotframeLength_11.pdf" descr=""/>
          <p:cNvPicPr/>
          <p:nvPr/>
        </p:nvPicPr>
        <p:blipFill>
          <a:blip r:embed="rId2"/>
          <a:stretch/>
        </p:blipFill>
        <p:spPr>
          <a:xfrm>
            <a:off x="4465800" y="2152800"/>
            <a:ext cx="5045040" cy="3784320"/>
          </a:xfrm>
          <a:prstGeom prst="rect">
            <a:avLst/>
          </a:prstGeom>
          <a:ln w="0">
            <a:noFill/>
          </a:ln>
        </p:spPr>
      </p:pic>
      <p:sp>
        <p:nvSpPr>
          <p:cNvPr id="209" name="Shape 139"/>
          <p:cNvSpPr/>
          <p:nvPr/>
        </p:nvSpPr>
        <p:spPr>
          <a:xfrm>
            <a:off x="3397320" y="6174000"/>
            <a:ext cx="2443320" cy="528120"/>
          </a:xfrm>
          <a:prstGeom prst="rect">
            <a:avLst/>
          </a:prstGeom>
          <a:noFill/>
          <a:ln w="0">
            <a:noFill/>
          </a:ln>
        </p:spPr>
        <p:style>
          <a:lnRef idx="0"/>
          <a:fillRef idx="0"/>
          <a:effectRef idx="0"/>
          <a:fontRef idx="minor"/>
        </p:style>
        <p:txBody>
          <a:bodyPr wrap="none" lIns="35640" rIns="35640" tIns="35640" bIns="35640" anchor="ctr">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500" spc="-1" strike="noStrike">
                <a:solidFill>
                  <a:srgbClr val="000000"/>
                </a:solidFill>
                <a:latin typeface="Arial"/>
              </a:rPr>
              <a:t>slotframe length = 11 (slots)</a:t>
            </a:r>
            <a:endParaRPr b="0" lang="en-US" sz="15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500" spc="-1" strike="noStrike">
                <a:solidFill>
                  <a:srgbClr val="000000"/>
                </a:solidFill>
                <a:latin typeface="Arial"/>
              </a:rPr>
              <a:t>beacon period = 10 (s)</a:t>
            </a:r>
            <a:endParaRPr b="0" lang="en-US" sz="15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210"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211"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12"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213"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EE2F265-301E-4DD6-8517-C00DEA9EE30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0"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0C71F37-8CCE-4CDF-BEB6-F4EFD57EA53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1"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F725311-D3AB-4FF5-9259-5F98B034E38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2"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D2C41F7-3806-40C2-A9CB-2E1A42D1FF9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3"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144"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AA7A416-54AB-449F-AFD5-E2B07397C89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6"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797DC62-352D-4835-AF08-97E8F8F42A1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7"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C3EA2A2-18DF-4DA8-B838-05B0409E7BE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8"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464EFB1-5F0D-417E-999D-EDAA7B75182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9"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B7C2B48-FE5D-4E4A-AA20-37AF8FC0B23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0"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151" name="Text Box 7"/>
          <p:cNvSpPr/>
          <p:nvPr/>
        </p:nvSpPr>
        <p:spPr>
          <a:xfrm>
            <a:off x="179280" y="1219320"/>
            <a:ext cx="8651880" cy="4601880"/>
          </a:xfrm>
          <a:prstGeom prst="rect">
            <a:avLst/>
          </a:prstGeom>
          <a:noFill/>
          <a:ln w="0">
            <a:noFill/>
          </a:ln>
        </p:spPr>
        <p:style>
          <a:lnRef idx="0"/>
          <a:fillRef idx="0"/>
          <a:effectRef idx="0"/>
          <a:fontRef idx="minor"/>
        </p:style>
        <p:txBody>
          <a:bodyPr anchor="t">
            <a:normAutofit fontScale="91000"/>
          </a:bodyPr>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min]</a:t>
            </a:r>
            <a:endParaRPr b="0" lang="en-US" sz="24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Status of drafts (chairs)</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option of Michael’s drafts on security – co authors?</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Terminology draft</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6TiSCH for detnet</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6P and SF0 – launching last calls?</a:t>
            </a:r>
            <a:endParaRPr b="0" lang="en-US" sz="18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Thomas,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pdate on security (Michael/Malisa)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Research Liaison Task Force (Thomas)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CBE69BE-9D01-4E87-A2BB-9781CE7D937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3"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A134012-5662-40A8-9441-02F38AA0696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4"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Plugtests</a:t>
            </a:r>
            <a:endParaRPr b="0" lang="en-US" sz="3200" spc="-1" strike="noStrike">
              <a:solidFill>
                <a:srgbClr val="ffffff"/>
              </a:solidFill>
              <a:latin typeface="Arial"/>
            </a:endParaRPr>
          </a:p>
        </p:txBody>
      </p:sp>
      <p:sp>
        <p:nvSpPr>
          <p:cNvPr id="155" name="Text Box 7"/>
          <p:cNvSpPr/>
          <p:nvPr/>
        </p:nvSpPr>
        <p:spPr>
          <a:xfrm>
            <a:off x="611280" y="1484280"/>
            <a:ext cx="8082000" cy="442296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Discussion between Thomas, Xavi, Carsten</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Idea: joint 6TiSCH+CoAP?+6lo? plugtest at IETF99 Prague</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Tentative dates: Friday 14 July afternoon, Saturday 15 July all days</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e are discussing with ETSI</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e are discussin with CoRE/6lo about possible co-located events</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Scope for 6TiSCH? Minimal, 6P, SF0, minimal-security? Something else?</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e might be able to use the F-interop testing platform</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56" name="Text Box 1"/>
          <p:cNvSpPr/>
          <p:nvPr/>
        </p:nvSpPr>
        <p:spPr>
          <a:xfrm>
            <a:off x="468360" y="227664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 status</a:t>
            </a:r>
            <a:endParaRPr b="0" lang="en-US" sz="4400" spc="-1" strike="noStrike">
              <a:solidFill>
                <a:srgbClr val="ffffff"/>
              </a:solidFill>
              <a:latin typeface="Arial"/>
            </a:endParaRPr>
          </a:p>
        </p:txBody>
      </p:sp>
      <p:sp>
        <p:nvSpPr>
          <p:cNvPr id="15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956FB2C-4046-4BE2-B987-96CD513E558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9"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41BAAF9-D3EC-4D5B-B7A2-8AA0F6C8A57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0"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Michael’s drafts on security</a:t>
            </a:r>
            <a:endParaRPr b="0" lang="en-US" sz="3200" spc="-1" strike="noStrike">
              <a:solidFill>
                <a:srgbClr val="ffffff"/>
              </a:solidFill>
              <a:latin typeface="Arial"/>
            </a:endParaRPr>
          </a:p>
        </p:txBody>
      </p:sp>
      <p:sp>
        <p:nvSpPr>
          <p:cNvPr id="161"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join-enhanced-beacon-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EEE802.15.4 Informational Element encapsulation of 6tisch Join Information </a:t>
            </a:r>
            <a:endParaRPr b="0" lang="en-US" sz="20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minimal-rekey-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Minimal Security rekeying mechanism for 6TiSCH </a:t>
            </a:r>
            <a:endParaRPr b="0" lang="en-US" sz="20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80028D1-B468-47C0-B064-807A075996E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3"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A5930FE-EEEA-4282-8DD5-CADBE0B03C5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4"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Terminology</a:t>
            </a:r>
            <a:endParaRPr b="0" lang="en-US" sz="3200" spc="-1" strike="noStrike">
              <a:solidFill>
                <a:srgbClr val="ffffff"/>
              </a:solidFill>
              <a:latin typeface="Arial"/>
            </a:endParaRPr>
          </a:p>
        </p:txBody>
      </p:sp>
      <p:sp>
        <p:nvSpPr>
          <p:cNvPr id="165"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Complete?</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D419D27-44F0-487C-BD89-CD7536B5A1D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88CE4E5-B3FC-48AF-9452-E90563D2123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6TiSCH for DetNet</a:t>
            </a:r>
            <a:endParaRPr b="0" lang="en-US" sz="3200" spc="-1" strike="noStrike">
              <a:solidFill>
                <a:srgbClr val="ffffff"/>
              </a:solidFill>
              <a:latin typeface="Arial"/>
            </a:endParaRPr>
          </a:p>
        </p:txBody>
      </p:sp>
      <p:sp>
        <p:nvSpPr>
          <p:cNvPr id="169"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Complete? Missing items?</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is there a need for a doc beyond retrofit in Archie?</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If so, Adop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Goal: Leave as is or Publish one day?</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Pascal Thubert (pthubert)</cp:lastModifiedBy>
  <dcterms:modified xsi:type="dcterms:W3CDTF">2017-04-14T14:04:48Z</dcterms:modified>
  <cp:revision>11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