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5"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6" name="PlaceHolder 1"/>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7"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0" name="PlaceHolder 4"/>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157DF86-B54A-4165-9A94-E8B86F9FA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7B3E471-9C78-411C-9AFC-C946C65796E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7D924ED-BDB6-4560-8A30-360ABDFAD62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D478D4B-4AA0-4DE2-874F-4E690B5BAB4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F97CE4F-1B2E-4DEF-B4F0-960F565E592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A149A96-4ADF-4F89-8DBE-F1DAFF2DF9F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BDD9597-8DEA-4D45-A3F9-3B79B3D29FF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D942670-E93B-47A9-AEA3-3831D0306A0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8312B28-B7BC-40FA-A4BD-739D3C5BE76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3B8E3E7-FF91-4345-85F1-2D2B39EC4E7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C7ED7A5-3F9F-4CD2-B67B-8FF001DE4BB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639DB29-009D-4AD8-8B05-1117695251A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2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11E8F5E-6748-4BC9-9133-C00FA64F597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6F2E556-A297-403A-A950-4EB48974757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696A84A-BF49-4BAA-BC2D-B2B033A3034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5F6A0ED-FEBD-4A56-B7AE-9AC5BA23765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E571BE4-4EE8-46C8-A3F8-775E0820118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CF504-5EF2-4456-8EB2-F8D3C4EBC7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8CC36-E143-4BA7-962D-9E1648F5A2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3612EE-35AA-410A-BDAB-CA6D2318C9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B010A8-0D9B-4DFC-9BE0-A22FFC31B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97DF07-A97D-42B4-A37B-608ED71694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895D7C-7F88-440D-814C-4B4FBC86E9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938BDE-F3BD-47A0-A559-2877C83EF4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20A3FF-04A9-488C-B372-9F9DA380E9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C4AE5DD-7180-4251-B4E0-E4607E5C88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1E82E5D-D37E-4482-9D40-9D88B15D43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BA4B1F4-CEDC-4A68-97E3-DEE9CA70A0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30BF-710F-4BC7-B7A4-03DFF166CF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6A39BB-1411-4DED-84DC-1E4D66DAF0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CBF164-C715-48EC-A444-F1DF664226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386E6EE-5248-4DC9-AFE6-27D14FCA72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031DEE9-C2A4-47BD-B607-7B37F63721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C3B391-ECCA-4E05-82E0-498FC43365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657FAD-5C27-4D9E-9C4C-7057826A5E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CE330E-DCC5-4215-87FA-53143E08E4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A95A21-D220-4AA1-8632-5EF0715E8D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3245C76-A7DC-46F6-B0B7-6AC4CD5CD8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E7F30C1-F916-4D80-AFB0-92E4D4375A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D25F4-07F2-4E59-AC01-5365521D99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5C22412-57E2-4811-9DCA-D26D563B08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30C222D-C994-41A1-8D51-6BE8DD3175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DEB8DA1-0FC0-404D-8FA7-04FEB98997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F6DD3DA-4090-48D8-A1AF-111B7F38A6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C345EB9-A8C6-447D-8573-826561C3A9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DDDCBCA-64A3-4D61-A0F1-AAE37AB2E6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9489B10-0816-4062-B144-95CDE0FA6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D02A3-BC6A-4211-9EFE-B8C8F992CB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61AE98-6BFB-4A56-B435-E685F0DAFB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64627F-55A3-4258-965B-D5E2B74AFA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B896C-949B-4539-952C-7C8A498B6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0FB00-158A-43F7-8D41-DAF82C2255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3F7F6-EF61-4C95-9AD4-5A30A5AE99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D15DD89-4209-4C6D-8D61-1AB44A2DDA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42" name="Picture 4" descr=""/>
          <p:cNvPicPr/>
          <p:nvPr/>
        </p:nvPicPr>
        <p:blipFill>
          <a:blip r:embed="rId2"/>
          <a:stretch/>
        </p:blipFill>
        <p:spPr>
          <a:xfrm>
            <a:off x="7848720" y="76320"/>
            <a:ext cx="1218960" cy="836640"/>
          </a:xfrm>
          <a:prstGeom prst="rect">
            <a:avLst/>
          </a:prstGeom>
          <a:ln w="0">
            <a:noFill/>
          </a:ln>
        </p:spPr>
      </p:pic>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F0B613E-61EB-447A-BA73-841FCA90F86C}"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83" name="Picture 4" descr=""/>
          <p:cNvPicPr/>
          <p:nvPr/>
        </p:nvPicPr>
        <p:blipFill>
          <a:blip r:embed="rId2"/>
          <a:stretch/>
        </p:blipFill>
        <p:spPr>
          <a:xfrm>
            <a:off x="7848720" y="76320"/>
            <a:ext cx="1218960" cy="836640"/>
          </a:xfrm>
          <a:prstGeom prst="rect">
            <a:avLst/>
          </a:prstGeom>
          <a:ln w="0">
            <a:noFill/>
          </a:ln>
        </p:spPr>
      </p:pic>
      <p:sp>
        <p:nvSpPr>
          <p:cNvPr id="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3"/>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0050E1B-E872-43E8-AA32-6422FCC7640A}"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132"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133"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4 April 2017 Webex</a:t>
            </a:r>
            <a:endParaRPr b="0" lang="en-US" sz="4400" spc="-1" strike="noStrike">
              <a:solidFill>
                <a:srgbClr val="ffffff"/>
              </a:solidFill>
              <a:latin typeface="Arial"/>
            </a:endParaRPr>
          </a:p>
        </p:txBody>
      </p:sp>
      <p:pic>
        <p:nvPicPr>
          <p:cNvPr id="134"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72C36E1-EB76-4567-A05B-E0CF1C5F269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AF9AD41-612F-4B21-9F29-DE8D13852CF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17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Launch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1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D3A65CC-091F-4317-B370-C9E1ADA3255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55E7AB6-E2CD-4691-81E3-4B1241AF47F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17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18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18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18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8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8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The 6TiSCH simulator</a:t>
            </a:r>
            <a:endParaRPr b="0" lang="en-US" sz="6000" spc="-1" strike="noStrike">
              <a:solidFill>
                <a:srgbClr val="000000"/>
              </a:solidFill>
              <a:latin typeface="Arial"/>
            </a:endParaRPr>
          </a:p>
        </p:txBody>
      </p:sp>
      <p:sp>
        <p:nvSpPr>
          <p:cNvPr id="194" name="PlaceHolder 2"/>
          <p:cNvSpPr>
            <a:spLocks noGrp="1"/>
          </p:cNvSpPr>
          <p:nvPr>
            <p:ph type="subTitle"/>
          </p:nvPr>
        </p:nvSpPr>
        <p:spPr>
          <a:xfrm>
            <a:off x="893520" y="3527280"/>
            <a:ext cx="7358040" cy="1268640"/>
          </a:xfrm>
          <a:prstGeom prst="rect">
            <a:avLst/>
          </a:prstGeom>
          <a:noFill/>
          <a:ln w="0">
            <a:noFill/>
          </a:ln>
        </p:spPr>
        <p:txBody>
          <a:bodyPr lIns="90000" rIns="90000" tIns="46800" bIns="46800" anchor="t">
            <a:noAutofit/>
          </a:bodyPr>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Thomas Watteyne</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Kazushi Muraok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Nicola Accettur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Xavier Vilajosan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u="sng">
                <a:solidFill>
                  <a:srgbClr val="000000"/>
                </a:solidFill>
                <a:uFillTx/>
                <a:latin typeface="Arial"/>
              </a:rPr>
              <a:t>Mališa Vučinić</a:t>
            </a:r>
            <a:endParaRPr b="0" lang="en-US" sz="2200" spc="-1" strike="noStrike">
              <a:solidFill>
                <a:srgbClr val="000000"/>
              </a:solidFill>
              <a:latin typeface="Arial"/>
            </a:endParaRPr>
          </a:p>
        </p:txBody>
      </p:sp>
      <p:sp>
        <p:nvSpPr>
          <p:cNvPr id="195" name="Shape 121"/>
          <p:cNvSpPr/>
          <p:nvPr/>
        </p:nvSpPr>
        <p:spPr>
          <a:xfrm>
            <a:off x="1933560" y="5702040"/>
            <a:ext cx="3714480" cy="34596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https://bitbucket.org/6tisch/simulator</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7549732-E47E-4EE6-974F-B50D2AE1ECD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5780C33-86B2-4B1B-8CF4-363122DA2BF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7"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138"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197" name="PlaceHolder 2"/>
          <p:cNvSpPr>
            <a:spLocks noGrp="1"/>
          </p:cNvSpPr>
          <p:nvPr>
            <p:ph/>
          </p:nvPr>
        </p:nvSpPr>
        <p:spPr>
          <a:xfrm>
            <a:off x="704880" y="1517400"/>
            <a:ext cx="3124080" cy="442116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redict the performance of a 6TiSCH network</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eedback to protocol designers</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search tool</a:t>
            </a:r>
            <a:endParaRPr b="0" lang="en-US" sz="3200" spc="-1" strike="noStrike">
              <a:solidFill>
                <a:srgbClr val="000000"/>
              </a:solidFill>
              <a:latin typeface="Arial"/>
            </a:endParaRPr>
          </a:p>
        </p:txBody>
      </p:sp>
      <p:pic>
        <p:nvPicPr>
          <p:cNvPr id="198" name="Screen Shot 2017-04-14 at 11.09.42.png" descr=""/>
          <p:cNvPicPr/>
          <p:nvPr/>
        </p:nvPicPr>
        <p:blipFill>
          <a:blip r:embed="rId1"/>
          <a:stretch/>
        </p:blipFill>
        <p:spPr>
          <a:xfrm>
            <a:off x="3898800" y="3262320"/>
            <a:ext cx="5037120" cy="2654280"/>
          </a:xfrm>
          <a:prstGeom prst="rect">
            <a:avLst/>
          </a:prstGeom>
          <a:ln w="0">
            <a:noFill/>
          </a:ln>
        </p:spPr>
      </p:pic>
      <p:pic>
        <p:nvPicPr>
          <p:cNvPr id="199" name="logo_6tisch.png" descr=""/>
          <p:cNvPicPr/>
          <p:nvPr/>
        </p:nvPicPr>
        <p:blipFill>
          <a:blip r:embed="rId2"/>
          <a:stretch/>
        </p:blipFill>
        <p:spPr>
          <a:xfrm>
            <a:off x="5311800" y="1638360"/>
            <a:ext cx="2211480" cy="1519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201" name="PlaceHolder 2"/>
          <p:cNvSpPr>
            <a:spLocks noGrp="1"/>
          </p:cNvSpPr>
          <p:nvPr>
            <p:ph/>
          </p:nvPr>
        </p:nvSpPr>
        <p:spPr>
          <a:xfrm>
            <a:off x="669960" y="1829880"/>
            <a:ext cx="3247920" cy="382284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iscrete-event simulator</a:t>
            </a:r>
            <a:endParaRPr b="0" lang="en-US" sz="3200" spc="-1" strike="noStrike">
              <a:solidFill>
                <a:srgbClr val="000000"/>
              </a:solidFill>
              <a:latin typeface="Arial"/>
            </a:endParaRPr>
          </a:p>
          <a:p>
            <a:pPr lvl="1" marL="457200" indent="0">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Time proceeds in TSCH slots</a:t>
            </a:r>
            <a:endParaRPr b="0" lang="en-US" sz="28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ritten in Python</a:t>
            </a:r>
            <a:endParaRPr b="0" lang="en-US" sz="3200" spc="-1" strike="noStrike">
              <a:solidFill>
                <a:srgbClr val="000000"/>
              </a:solidFill>
              <a:latin typeface="Arial"/>
            </a:endParaRPr>
          </a:p>
        </p:txBody>
      </p:sp>
      <p:graphicFrame>
        <p:nvGraphicFramePr>
          <p:cNvPr id="202" name=""/>
          <p:cNvGraphicFramePr/>
          <p:nvPr/>
        </p:nvGraphicFramePr>
        <p:xfrm>
          <a:off x="4232160" y="1862280"/>
          <a:ext cx="4334040" cy="3763800"/>
        </p:xfrm>
        <a:graphic>
          <a:graphicData uri="http://schemas.openxmlformats.org/drawingml/2006/table">
            <a:tbl>
              <a:tblPr/>
              <a:tblGrid>
                <a:gridCol w="2013120"/>
                <a:gridCol w="2320920"/>
              </a:tblGrid>
              <a:tr h="6267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SCH</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al schedule</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PL with source rout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top</a:t>
                      </a:r>
                      <a:r>
                        <a:rPr b="0" lang="en-GB" sz="1800" spc="-1" strike="noStrike" baseline="32000">
                          <a:solidFill>
                            <a:srgbClr val="000000"/>
                          </a:solidFill>
                          <a:latin typeface="Arial"/>
                        </a:rPr>
                        <a:t>1</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the-fly</a:t>
                      </a:r>
                      <a:r>
                        <a:rPr b="0" lang="en-GB" sz="1800" spc="-1" strike="noStrike" baseline="32000">
                          <a:solidFill>
                            <a:srgbClr val="000000"/>
                          </a:solidFill>
                          <a:latin typeface="Arial"/>
                        </a:rPr>
                        <a:t>2</a:t>
                      </a:r>
                      <a:r>
                        <a:rPr b="0" lang="en-GB" sz="1800" spc="-1" strike="noStrike">
                          <a:solidFill>
                            <a:srgbClr val="000000"/>
                          </a:solidFill>
                          <a:latin typeface="Arial"/>
                        </a:rPr>
                        <a:t> schedul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in process</a:t>
                      </a:r>
                      <a:r>
                        <a:rPr b="0" lang="en-GB" sz="1800" spc="-1" strike="noStrike" baseline="32000">
                          <a:solidFill>
                            <a:srgbClr val="000000"/>
                          </a:solidFill>
                          <a:latin typeface="Arial"/>
                        </a:rPr>
                        <a:t>3</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Shape 131"/>
          <p:cNvSpPr/>
          <p:nvPr/>
        </p:nvSpPr>
        <p:spPr>
          <a:xfrm>
            <a:off x="6370200" y="6026040"/>
            <a:ext cx="2164320" cy="57384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1 - http://tools.ietf.org/html/draft-wang-6tisch-6top-sublaye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2 - http://tools.ietf.org/html/draft-dujovne-6tisch-on-the-fly</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3 - generic</a:t>
            </a:r>
            <a:endParaRPr b="0" lang="en-US" sz="11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etric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Energy consumpti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erformance of Slotted-Aloha cell</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Latenc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uration of the join process, time until first beac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nd many more…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4000" spc="-1" strike="noStrike">
                <a:solidFill>
                  <a:srgbClr val="000000"/>
                </a:solidFill>
                <a:latin typeface="Arial"/>
              </a:rPr>
              <a:t>early results on join process</a:t>
            </a:r>
            <a:endParaRPr b="0" lang="en-US" sz="4000" spc="-1" strike="noStrike">
              <a:solidFill>
                <a:srgbClr val="000000"/>
              </a:solidFill>
              <a:latin typeface="Arial"/>
            </a:endParaRPr>
          </a:p>
        </p:txBody>
      </p:sp>
      <p:pic>
        <p:nvPicPr>
          <p:cNvPr id="207" name="cdf_2_exchanges_beaconPeriod_10.0_slotframeLength_11.pdf" descr=""/>
          <p:cNvPicPr/>
          <p:nvPr/>
        </p:nvPicPr>
        <p:blipFill>
          <a:blip r:embed="rId1"/>
          <a:stretch/>
        </p:blipFill>
        <p:spPr>
          <a:xfrm>
            <a:off x="-169920" y="2151000"/>
            <a:ext cx="5048280" cy="3787920"/>
          </a:xfrm>
          <a:prstGeom prst="rect">
            <a:avLst/>
          </a:prstGeom>
          <a:ln w="0">
            <a:noFill/>
          </a:ln>
        </p:spPr>
      </p:pic>
      <p:pic>
        <p:nvPicPr>
          <p:cNvPr id="208" name="duration_vs_numMotes_beaconPeriod_10.0_slotframeLength_11.pdf" descr=""/>
          <p:cNvPicPr/>
          <p:nvPr/>
        </p:nvPicPr>
        <p:blipFill>
          <a:blip r:embed="rId2"/>
          <a:stretch/>
        </p:blipFill>
        <p:spPr>
          <a:xfrm>
            <a:off x="4465800" y="2152800"/>
            <a:ext cx="5045040" cy="3784320"/>
          </a:xfrm>
          <a:prstGeom prst="rect">
            <a:avLst/>
          </a:prstGeom>
          <a:ln w="0">
            <a:noFill/>
          </a:ln>
        </p:spPr>
      </p:pic>
      <p:sp>
        <p:nvSpPr>
          <p:cNvPr id="209" name="Shape 139"/>
          <p:cNvSpPr/>
          <p:nvPr/>
        </p:nvSpPr>
        <p:spPr>
          <a:xfrm>
            <a:off x="3397320" y="6174000"/>
            <a:ext cx="2443320" cy="528120"/>
          </a:xfrm>
          <a:prstGeom prst="rect">
            <a:avLst/>
          </a:prstGeom>
          <a:noFill/>
          <a:ln w="0">
            <a:noFill/>
          </a:ln>
        </p:spPr>
        <p:style>
          <a:lnRef idx="0"/>
          <a:fillRef idx="0"/>
          <a:effectRef idx="0"/>
          <a:fontRef idx="minor"/>
        </p:style>
        <p:txBody>
          <a:bodyPr wrap="none" lIns="35640" rIns="35640" tIns="35640" bIns="3564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slotframe length = 11 (slots)</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beacon period = 10 (s)</a:t>
            </a:r>
            <a:endParaRPr b="0" lang="en-US" sz="15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21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21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1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1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1AE1F19-8127-4FB3-9488-80C1CE15087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0FBB8FC-E4F6-4D85-9917-7EBF4981485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1"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D4BE86A-F76A-4D74-9B8F-4CE2DA93488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2"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05C928A-BC9E-41CF-84AB-9E77E06D597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3"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44"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1B0B7A6-7C9F-49EB-BEDF-3ACEEFCA343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6D884B4-51BE-4ABA-A535-76B9CA74427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7"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4D98C75-4455-4F32-9E52-43F4AD9B13A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8"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07D7804-A235-41C6-A722-4981FA72856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9"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A726BB0-C59C-4C57-9CE5-55A64861C63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0"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51"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1000"/>
          </a:bodyPr>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rminology draf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 for detne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92E6AB0-20B2-4B08-9E30-A76B73B0726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27C15C-1F46-493F-BCD9-32A8DE193A7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s</a:t>
            </a:r>
            <a:endParaRPr b="0" lang="en-US" sz="3200" spc="-1" strike="noStrike">
              <a:solidFill>
                <a:srgbClr val="ffffff"/>
              </a:solidFill>
              <a:latin typeface="Arial"/>
            </a:endParaRPr>
          </a:p>
        </p:txBody>
      </p:sp>
      <p:sp>
        <p:nvSpPr>
          <p:cNvPr id="155" name="Text Box 7"/>
          <p:cNvSpPr/>
          <p:nvPr/>
        </p:nvSpPr>
        <p:spPr>
          <a:xfrm>
            <a:off x="611280" y="148428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scussion between Thomas, Xavi, Carsten</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Idea: joint 6TiSCH+CoAP?+6lo? plugtest at IETF99 Pragu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ntative dates: Friday 14 July afternoon, Saturday 15 July all day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g with ETSI</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 with CoRE/6lo about possible co-located event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Scope for 6TiSCH? Minimal, 6P, SF0, minimal-security? Something els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might be able to use the F-interop testing platform</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56"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15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E14F7E6-2EEC-401F-8294-89CC32CA655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F0BB544-3E3D-4DE5-914D-4C7BA7F8547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161"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616A157-48D2-401D-9C98-2331B503511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7A58D01-72DA-4CF4-9CE6-B1933C56AAB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rminology</a:t>
            </a:r>
            <a:endParaRPr b="0" lang="en-US" sz="3200" spc="-1" strike="noStrike">
              <a:solidFill>
                <a:srgbClr val="ffffff"/>
              </a:solidFill>
              <a:latin typeface="Arial"/>
            </a:endParaRPr>
          </a:p>
        </p:txBody>
      </p:sp>
      <p:sp>
        <p:nvSpPr>
          <p:cNvPr id="165"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354E2B4-DAD7-4C34-BCFC-3472D2F1E8A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6C1F06A-0B71-42E1-B5CA-850ACE3934D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TiSCH for DetNet</a:t>
            </a:r>
            <a:endParaRPr b="0" lang="en-US" sz="3200" spc="-1" strike="noStrike">
              <a:solidFill>
                <a:srgbClr val="ffffff"/>
              </a:solidFill>
              <a:latin typeface="Arial"/>
            </a:endParaRPr>
          </a:p>
        </p:txBody>
      </p:sp>
      <p:sp>
        <p:nvSpPr>
          <p:cNvPr id="169"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 Missing items?</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s there a need for a doc beyond retrofit in Archi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f so, Adop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Goal: Leave as is or Publish one day?</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14T14:04:48Z</dcterms:modified>
  <cp:revision>1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