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4" name="PlaceHolder 1"/>
          <p:cNvSpPr>
            <a:spLocks noGrp="1"/>
          </p:cNvSpPr>
          <p:nvPr>
            <p:ph type="dt" idx="2"/>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8" name="PlaceHolder 4"/>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5C51F32-6AEE-4FAB-AA31-56F8D282EF7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D290718-61E9-4D71-8C17-B0CE37C71A8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AF3463D-F246-43AB-A483-ACFAF98448A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B617797-23ED-41BC-8576-48A6BB389EE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79CE877-B543-4D29-9C6B-224B66EEB16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7455263-F5F0-4819-A1D3-4CA5B5E20EB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B7F3E18-5AAA-48A5-BCDC-7525FEB235A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C84C386-66D6-4287-9996-D96D03A31C7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F7C6E11-91BC-44FD-9A65-2708C56B45F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A96F122-2EA4-48DC-BBA7-11A2CCA7A79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2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CCB5060-3F73-4B69-9456-C3D1E2DFB40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A6CE056-C9FB-4D48-9053-5CD3F4554A1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1FF966A-B322-4D4C-A8A6-15F0A361C33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4B21855-05B6-4D56-B3CD-014CB597803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194F88D-3666-4522-B682-6BB3E1F3F2A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13CFB-EF5A-4398-83E8-F109989EB9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B1326-F2AA-4A7D-AF08-BCA2708990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54C91C-153E-4BC7-866D-CFA42B95F9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F7596F-1158-49AD-BFCE-CAA3C4B075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5CE68-94B9-47D3-9951-42536F8213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02D44-2FD0-45D5-8A90-B23F210860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CA7EE-C4BD-4EA5-AB92-A741D14F54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A8B705-073D-48F8-8123-37621A0B68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CA6C9C7-BC1F-4179-BE4D-0E95496F5E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935F4-A62F-4A80-9508-3004425446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BF39B-3347-4495-8A30-9C2612F869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29E2A-8B7A-46E8-9DC9-995088A6DD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56240" y="6400800"/>
            <a:ext cx="24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28 April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F1F1D28-7394-442B-B481-214E91BF8B6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5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5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28 April 2017 Webex</a:t>
            </a:r>
            <a:endParaRPr b="0" lang="en-US" sz="4400" spc="-1" strike="noStrike">
              <a:solidFill>
                <a:srgbClr val="ffffff"/>
              </a:solidFill>
              <a:latin typeface="Arial"/>
            </a:endParaRPr>
          </a:p>
        </p:txBody>
      </p:sp>
      <p:pic>
        <p:nvPicPr>
          <p:cNvPr id="5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73DE364-BCA9-4340-A8B4-AC8FA35B080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FB61D26-6B9F-4924-B0BD-7BC33290BE5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Charlie’s review of</a:t>
            </a:r>
            <a:br>
              <a:rPr sz="3200"/>
            </a:br>
            <a:r>
              <a:rPr b="0" lang="en-US" sz="3200" spc="-1" strike="noStrike">
                <a:solidFill>
                  <a:srgbClr val="000000"/>
                </a:solidFill>
                <a:latin typeface="Arial"/>
                <a:ea typeface="ＭＳ Ｐゴシック"/>
              </a:rPr>
              <a:t>draft-ietf-6tisch-6top-protocol-04</a:t>
            </a:r>
            <a:endParaRPr b="0" lang="en-US" sz="3200" spc="-1" strike="noStrike">
              <a:solidFill>
                <a:srgbClr val="ffffff"/>
              </a:solidFill>
              <a:latin typeface="Arial"/>
            </a:endParaRPr>
          </a:p>
        </p:txBody>
      </p:sp>
      <p:sp>
        <p:nvSpPr>
          <p:cNvPr id="89" name="Text Box 7"/>
          <p:cNvSpPr/>
          <p:nvPr/>
        </p:nvSpPr>
        <p:spPr>
          <a:xfrm>
            <a:off x="684360" y="1484280"/>
            <a:ext cx="8081640" cy="475308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 think the document has issues, some technical, mostly editorial.  They can be easily fixed but some decisions have to be made.  All of my comments can be found in the attached output of 'rfcdiff'.  The editorial suggestions I mostly incorporated into a revised version of the file, which is also visible in the output of 'rfcdiff'.  If this is unclear, please let me know.  I think that there should be a new section for "Terminology", and various TSCH, 6TiSCH, and 6top terms explained in that section for convenience.</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Here are some of my technical comments about the document.  Some of my questions might arise from my own misunderstandings, in which case perhaps a few more sentences or cross-references could be inserted for explanations.</a:t>
            </a:r>
            <a:endParaRPr b="0" lang="en-US" sz="12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ERR_EOL is defined as an error, but it is used as a flag for protocol signaling</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Why is any negotiation needed for node A to delete 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f a negotiation is needed, then isn't NumCells needed somewhere in the message forma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3, If you have a Candidate CellList, don't you also need "NumCandCell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GEN and SeqNum play similar roles.  The protocol could be cleaner if their roles were combined.  Plus you would have more bits, making rollover far less frequent.</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Some of the suggestions for SF specification seem impractical.</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why LIST and COUNT are needed except possibly for reboot or operating system errors.</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Not clear how to abort the CONFIRMATION step of a 3-step transaction.</a:t>
            </a:r>
            <a:endParaRPr b="0" lang="en-US" sz="12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1200" spc="-1" strike="noStrike">
                <a:solidFill>
                  <a:srgbClr val="000000"/>
                </a:solidFill>
                <a:latin typeface="Arial"/>
                <a:ea typeface="ＭＳ Ｐゴシック"/>
              </a:rPr>
              <a:t>In Figure 14, is NumCells needed for the RELOCATE Response?</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000000"/>
                </a:solidFill>
                <a:latin typeface="Arial"/>
              </a:rPr>
              <a:t>Technical comments about</a:t>
            </a:r>
            <a:br>
              <a:rPr sz="5400"/>
            </a:br>
            <a:r>
              <a:rPr b="0" lang="en-US" sz="5400" spc="-1" strike="noStrike">
                <a:solidFill>
                  <a:srgbClr val="000000"/>
                </a:solidFill>
                <a:latin typeface="Arial"/>
              </a:rPr>
              <a:t>draft-ietf-6tisch-6top-protocol-04</a:t>
            </a:r>
            <a:endParaRPr b="0" lang="en-US" sz="5400" spc="-1" strike="noStrike">
              <a:solidFill>
                <a:srgbClr val="000000"/>
              </a:solidFill>
              <a:latin typeface="Arial"/>
            </a:endParaRPr>
          </a:p>
        </p:txBody>
      </p:sp>
      <p:sp>
        <p:nvSpPr>
          <p:cNvPr id="91"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pril 14, 2017 interim teleconference</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harles Perkins</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uturewe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1</a:t>
            </a:r>
            <a:endParaRPr b="0" lang="en-US" sz="4400" spc="-1" strike="noStrike">
              <a:solidFill>
                <a:srgbClr val="000000"/>
              </a:solidFill>
              <a:latin typeface="Arial"/>
            </a:endParaRPr>
          </a:p>
        </p:txBody>
      </p:sp>
      <p:sp>
        <p:nvSpPr>
          <p:cNvPr id="93"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ERR_EOL is defined as an error, but it is used as a flag for protocol signaling</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Why is any negotiation needed for node A to delete 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f a negotiation is needed, then isn't NumCells needed somewhere in the message forma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3, If you have a Candidate CellList, don't you also need "NumCandCells"?</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GEN and SeqNum play similar roles.  The protocol could be cleaner if their roles were combined.  Plus you would have more bits, making rollover far less frequent.</a:t>
            </a:r>
            <a:endParaRPr b="0" lang="en-US" sz="2700" spc="-1" strike="noStrike">
              <a:solidFill>
                <a:srgbClr val="000000"/>
              </a:solidFill>
              <a:latin typeface="Arial"/>
            </a:endParaRPr>
          </a:p>
          <a:p>
            <a:pPr marL="343080" indent="-3430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Technical comments, page 2</a:t>
            </a:r>
            <a:endParaRPr b="0" lang="en-US" sz="4400" spc="-1" strike="noStrike">
              <a:solidFill>
                <a:srgbClr val="000000"/>
              </a:solidFill>
              <a:latin typeface="Arial"/>
            </a:endParaRPr>
          </a:p>
        </p:txBody>
      </p:sp>
      <p:sp>
        <p:nvSpPr>
          <p:cNvPr id="95"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ome of the suggestions for SF specification seem impractical.</a:t>
            </a:r>
            <a:endParaRPr b="0" lang="en-US" sz="27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a:t>
            </a:r>
            <a:r>
              <a:rPr b="0" lang="en-US" sz="2400" spc="-1" strike="noStrike">
                <a:solidFill>
                  <a:srgbClr val="000000"/>
                </a:solidFill>
                <a:latin typeface="Arial"/>
              </a:rPr>
              <a:t>MUST specify the behavior of a node when it boots.”</a:t>
            </a:r>
            <a:endParaRPr b="0" lang="en-US" sz="2400" spc="-1" strike="noStrike">
              <a:solidFill>
                <a:srgbClr val="000000"/>
              </a:solidFill>
              <a:latin typeface="Arial"/>
            </a:endParaRPr>
          </a:p>
          <a:p>
            <a:pPr lvl="1" marL="743040" indent="-285840">
              <a:lnSpc>
                <a:spcPct val="9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Do we really need a registry of application domains?</a:t>
            </a:r>
            <a:endParaRPr b="0" lang="en-US" sz="24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why LIST and COUNT are needed except possibly for reboot or operating system errors.</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Not clear how to abort the CONFIRMATION step of a 3-step transaction.</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In Figure 14, is NumCells needed for the RELOCATE Response?</a:t>
            </a:r>
            <a:endParaRPr b="0" lang="en-US" sz="2700" spc="-1" strike="noStrike">
              <a:solidFill>
                <a:srgbClr val="000000"/>
              </a:solidFill>
              <a:latin typeface="Arial"/>
            </a:endParaRPr>
          </a:p>
          <a:p>
            <a:pPr marL="343080" indent="-343080">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96"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97"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98"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826920" y="1916280"/>
            <a:ext cx="7632720" cy="1800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595959"/>
                </a:solidFill>
                <a:latin typeface="Arial"/>
              </a:rPr>
              <a:t>Goal to advance 6TiSCH minimal to WG LC by IETF 99 and the zerotouch soon after.</a:t>
            </a:r>
            <a:endParaRPr b="0" lang="en-US" sz="2800" spc="-1" strike="noStrike">
              <a:solidFill>
                <a:srgbClr val="ffffff"/>
              </a:solidFill>
              <a:latin typeface="Arial"/>
            </a:endParaRPr>
          </a:p>
          <a:p>
            <a:pPr marL="285840" indent="-285840">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595959"/>
                </a:solidFill>
                <a:latin typeface="Arial"/>
              </a:rPr>
              <a:t>Dependencies on EDHOC which needs a WG, likely ACE, waiting for the chairs/ADs. </a:t>
            </a:r>
            <a:endParaRPr b="0" lang="en-US" sz="2800" spc="-1" strike="noStrike">
              <a:solidFill>
                <a:srgbClr val="ffffff"/>
              </a:solidFill>
              <a:latin typeface="Arial"/>
            </a:endParaRPr>
          </a:p>
        </p:txBody>
      </p:sp>
      <p:sp>
        <p:nvSpPr>
          <p:cNvPr id="100" name="Title 1"/>
          <p:cNvSpPr/>
          <p:nvPr/>
        </p:nvSpPr>
        <p:spPr>
          <a:xfrm>
            <a:off x="457200" y="274680"/>
            <a:ext cx="8228160" cy="1141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ea typeface="Droid Sans Fallback"/>
              </a:rPr>
              <a:t>Statu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01"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Research Liaison Task Force</a:t>
            </a:r>
            <a:endParaRPr b="0" lang="en-US" sz="4400" spc="-1" strike="noStrike">
              <a:solidFill>
                <a:srgbClr val="ffffff"/>
              </a:solidFill>
              <a:latin typeface="Arial"/>
            </a:endParaRPr>
          </a:p>
        </p:txBody>
      </p:sp>
      <p:sp>
        <p:nvSpPr>
          <p:cNvPr id="102"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Research Liaison idea</a:t>
            </a:r>
            <a:endParaRPr b="0" lang="en-US" sz="4400" spc="-1" strike="noStrike">
              <a:solidFill>
                <a:srgbClr val="000000"/>
              </a:solidFill>
              <a:latin typeface="Arial"/>
            </a:endParaRPr>
          </a:p>
        </p:txBody>
      </p:sp>
      <p:sp>
        <p:nvSpPr>
          <p:cNvPr id="104"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idea</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sue requests for simulation, implementation</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Gather feedback/performance results</a:t>
            </a:r>
            <a:endParaRPr b="0" lang="en-US" sz="24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Is “research” the right term?</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How to liaise with the community? Wiki? I-D?</a:t>
            </a:r>
            <a:endParaRPr b="0" lang="en-US" sz="24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Propose to have one person in charge of:</a:t>
            </a:r>
            <a:endParaRPr b="0" lang="en-US" sz="24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Issuing calls</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Coordinating results to WG</a:t>
            </a:r>
            <a:endParaRPr b="0" lang="en-US" sz="2000" spc="-1" strike="noStrike">
              <a:solidFill>
                <a:srgbClr val="000000"/>
              </a:solidFill>
              <a:latin typeface="Arial"/>
            </a:endParaRPr>
          </a:p>
          <a:p>
            <a:pPr lvl="2" marL="1257480" indent="-457200">
              <a:spcBef>
                <a:spcPts val="601"/>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000000"/>
                </a:solidFill>
                <a:latin typeface="Arial"/>
              </a:rPr>
              <a:t>Maintain list of ongoing work (papers, group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105"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10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10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10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267BD44-D514-48DE-A3A1-9662D6D5F78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61B26AC-41C3-4345-8568-9C9D10C95E8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5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FBD2E12-EE05-46B9-8906-F6AA2A1A7FF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E10BF41-7B07-483B-BFFF-1AE8FB16FEE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2056315-D2CF-41AC-8B40-45209C24F41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396016E-B1BD-4FA7-9398-07A0FD17AE8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6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822A672-276C-4856-A50D-3240ACDD881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AA7D54C-DF01-4BEB-ACED-6F04A754DC0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71228C0-93F1-443E-8397-3570928CEF2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8465A20-6EBD-4767-BACD-EBFED30F8C1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1819593-9B7E-4FF0-BF2B-DD398A2CA6A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69" name="Text Box 7"/>
          <p:cNvSpPr/>
          <p:nvPr/>
        </p:nvSpPr>
        <p:spPr>
          <a:xfrm>
            <a:off x="179280" y="1219320"/>
            <a:ext cx="8651880" cy="4601880"/>
          </a:xfrm>
          <a:prstGeom prst="rect">
            <a:avLst/>
          </a:prstGeom>
          <a:noFill/>
          <a:ln w="0">
            <a:noFill/>
          </a:ln>
        </p:spPr>
        <p:style>
          <a:lnRef idx="0"/>
          <a:fillRef idx="0"/>
          <a:effectRef idx="0"/>
          <a:fontRef idx="minor"/>
        </p:style>
        <p:txBody>
          <a:bodyPr anchor="t">
            <a:normAutofit fontScale="97000"/>
          </a:bodyPr>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min]</a:t>
            </a:r>
            <a:endParaRPr b="0" lang="en-US" sz="24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Status of drafts (chairs)</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option of Michael’s drafts on security – co authors?</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6P and SF0 – launching last calls?</a:t>
            </a:r>
            <a:endParaRPr b="0" lang="en-US" sz="18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Thomas,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pdate on security (Michael/Malisa)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Research Liaison Task Force (Thomas)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5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F3A6451-80DE-49BA-BBB4-C5756521654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CED90A1-AF26-408B-9EF7-36612071E1D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to-do’s</a:t>
            </a:r>
            <a:endParaRPr b="0" lang="en-US" sz="3200" spc="-1" strike="noStrike">
              <a:solidFill>
                <a:srgbClr val="ffffff"/>
              </a:solidFill>
              <a:latin typeface="Arial"/>
            </a:endParaRPr>
          </a:p>
        </p:txBody>
      </p:sp>
      <p:sp>
        <p:nvSpPr>
          <p:cNvPr id="73" name="Text Box 7"/>
          <p:cNvSpPr/>
          <p:nvPr/>
        </p:nvSpPr>
        <p:spPr>
          <a:xfrm>
            <a:off x="625320" y="1822320"/>
            <a:ext cx="8082000" cy="442296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Randy to check IETF documents on 6TiSCH vs. DetNet (https://tools.ietf.org/html/draft-ietf-detnet-use-cases-12 and https://tools.ietf.org/html/draft-ietf-6tisch-architecture-11) and come back to us on whether there is a need to maintain another document, if so whether https://tools.ietf.org/html/draft-thubert-6tisch-4detnet-01 is a good start</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74" name="Text Box 1"/>
          <p:cNvSpPr/>
          <p:nvPr/>
        </p:nvSpPr>
        <p:spPr>
          <a:xfrm>
            <a:off x="468360" y="227664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Draft status</a:t>
            </a:r>
            <a:endParaRPr b="0" lang="en-US" sz="4400" spc="-1" strike="noStrike">
              <a:solidFill>
                <a:srgbClr val="ffffff"/>
              </a:solidFill>
              <a:latin typeface="Arial"/>
            </a:endParaRPr>
          </a:p>
        </p:txBody>
      </p:sp>
      <p:sp>
        <p:nvSpPr>
          <p:cNvPr id="7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E154352-8653-4B88-91B7-3528FF43406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7"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6E7C766-F26D-4787-83F5-648B5230D38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8"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Michael’s drafts on security</a:t>
            </a:r>
            <a:endParaRPr b="0" lang="en-US" sz="3200" spc="-1" strike="noStrike">
              <a:solidFill>
                <a:srgbClr val="ffffff"/>
              </a:solidFill>
              <a:latin typeface="Arial"/>
            </a:endParaRPr>
          </a:p>
        </p:txBody>
      </p:sp>
      <p:sp>
        <p:nvSpPr>
          <p:cNvPr id="79" name="Text Box 7"/>
          <p:cNvSpPr/>
          <p:nvPr/>
        </p:nvSpPr>
        <p:spPr>
          <a:xfrm>
            <a:off x="604800" y="1620720"/>
            <a:ext cx="8082000" cy="442296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join-enhanced-beacon-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EEE802.15.4 Informational Element encapsulation of 6tisch Join Information </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Diego volunteered as co author. </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Idea is refresh and adoption call</a:t>
            </a:r>
            <a:endParaRPr b="0" lang="en-US" sz="20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draft-richardson-6tisch-minimal-rekey-01</a:t>
            </a:r>
            <a:endParaRPr b="0" lang="en-US" sz="24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Minimal Security rekeying mechanism for 6TiSCH </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Peter volunteered to help</a:t>
            </a:r>
            <a:endParaRPr b="0" lang="en-US" sz="2000" spc="-1" strike="noStrike">
              <a:solidFill>
                <a:srgbClr val="ffffff"/>
              </a:solidFill>
              <a:latin typeface="Arial"/>
            </a:endParaRPr>
          </a:p>
          <a:p>
            <a:pPr lvl="1" marL="743040" indent="-343080">
              <a:spcBef>
                <a:spcPts val="700"/>
              </a:spcBef>
              <a:tabLst>
                <a:tab algn="l" pos="0"/>
                <a:tab algn="r" pos="8229600"/>
                <a:tab algn="l" pos="8656560"/>
                <a:tab algn="l" pos="9112320"/>
                <a:tab algn="l" pos="9567720"/>
                <a:tab algn="l" pos="10023480"/>
                <a:tab algn="l" pos="10479240"/>
                <a:tab algn="l" pos="10934640"/>
              </a:tabLst>
            </a:pPr>
            <a:r>
              <a:rPr b="0" lang="en-US" sz="2000" spc="-1" strike="noStrike">
                <a:solidFill>
                  <a:srgbClr val="000000"/>
                </a:solidFill>
                <a:latin typeface="Arial"/>
                <a:ea typeface="ＭＳ Ｐゴシック"/>
              </a:rPr>
              <a:t>Refresh?</a:t>
            </a:r>
            <a:endParaRPr b="0" lang="en-US" sz="20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201E2FB-8A3E-4C3C-A090-5BA493DD481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F2595CD-27D4-407C-BD2B-F6703812A3D2}"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8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6P and SF0</a:t>
            </a:r>
            <a:endParaRPr b="0" lang="en-US" sz="3200" spc="-1" strike="noStrike">
              <a:solidFill>
                <a:srgbClr val="ffffff"/>
              </a:solidFill>
              <a:latin typeface="Arial"/>
            </a:endParaRPr>
          </a:p>
        </p:txBody>
      </p:sp>
      <p:sp>
        <p:nvSpPr>
          <p:cNvPr id="83" name="Text Box 7"/>
          <p:cNvSpPr/>
          <p:nvPr/>
        </p:nvSpPr>
        <p:spPr>
          <a:xfrm>
            <a:off x="826920" y="2060640"/>
            <a:ext cx="8082000" cy="4422600"/>
          </a:xfrm>
          <a:prstGeom prst="rect">
            <a:avLst/>
          </a:prstGeom>
          <a:noFill/>
          <a:ln w="0">
            <a:noFill/>
          </a:ln>
        </p:spPr>
        <p:style>
          <a:lnRef idx="0"/>
          <a:fillRef idx="0"/>
          <a:effectRef idx="0"/>
          <a:fontRef idx="minor"/>
        </p:style>
        <p:txBody>
          <a:bodyPr anchor="t">
            <a:normAutofit/>
          </a:bodyPr>
          <a:p>
            <a:pPr marL="343080" indent="-343080">
              <a:spcBef>
                <a:spcPts val="799"/>
              </a:spcBef>
              <a:tabLst>
                <a:tab algn="l" pos="0"/>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ffffff"/>
              </a:solidFill>
              <a:latin typeface="Arial"/>
            </a:endParaRPr>
          </a:p>
          <a:p>
            <a:pPr marL="343080" indent="-34308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Publish update before last call?</a:t>
            </a:r>
            <a:endParaRPr b="0" lang="en-US" sz="2400" spc="-1" strike="noStrike">
              <a:solidFill>
                <a:srgbClr val="ffffff"/>
              </a:solidFill>
              <a:latin typeface="Arial"/>
            </a:endParaRPr>
          </a:p>
          <a:p>
            <a:pPr marL="343080" indent="-343080">
              <a:spcBef>
                <a:spcPts val="799"/>
              </a:spcBef>
              <a:tabLst>
                <a:tab algn="l" pos="0"/>
                <a:tab algn="r" pos="8229600"/>
                <a:tab algn="l" pos="8656560"/>
                <a:tab algn="l" pos="9112320"/>
                <a:tab algn="l" pos="9567720"/>
                <a:tab algn="l" pos="10023480"/>
                <a:tab algn="l" pos="10479240"/>
                <a:tab algn="l" pos="1093464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4"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6P</a:t>
            </a:r>
            <a:endParaRPr b="0" lang="en-US" sz="4400" spc="-1" strike="noStrike">
              <a:solidFill>
                <a:srgbClr val="ffffff"/>
              </a:solidFill>
              <a:latin typeface="Arial"/>
            </a:endParaRPr>
          </a:p>
        </p:txBody>
      </p:sp>
      <p:sp>
        <p:nvSpPr>
          <p:cNvPr id="8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Pascal Thubert (pthubert)</cp:lastModifiedBy>
  <dcterms:modified xsi:type="dcterms:W3CDTF">2017-04-28T13:06:16Z</dcterms:modified>
  <cp:revision>11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