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wmf" ContentType="image/x-wmf"/>
  <Override PartName="/ppt/media/image12.wmf" ContentType="image/x-wmf"/>
  <Override PartName="/ppt/media/image11.jpeg" ContentType="image/jpeg"/>
  <Override PartName="/ppt/media/image9.jpeg" ContentType="image/jpeg"/>
  <Override PartName="/ppt/media/image7.wmf" ContentType="image/x-wmf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wmf" ContentType="image/x-wmf"/>
  <Override PartName="/ppt/media/image22.jpeg" ContentType="image/jpeg"/>
  <Override PartName="/ppt/media/image14.png" ContentType="image/png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E66F-85F6-47DC-83A8-3BF8DF465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800E-4659-4B46-B564-8B3379FC5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1D21-2762-43AF-94F6-00F6F8C44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A413-81ED-4024-A1DA-83F3BB348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A81C-ED79-4CF0-99FB-823F4B26A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0BA9-9B75-4B12-87B1-DF8CA3E29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CE9B-4EE5-4FB5-AEAA-F2EB8F32D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040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068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976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040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068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CC4C-AEA3-4F00-8392-D5CA9FBB8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29760" y="907560"/>
            <a:ext cx="84898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D902-FA53-4CA8-B262-24B38454C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040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068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976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040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068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3BA3-D1D0-43E0-897B-4175BC8BF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883E-F8B9-4318-94B1-90E7D95B7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0809-5C23-41C5-89CE-255B4D2C1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9760" y="907560"/>
            <a:ext cx="84898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A3C1-1B55-4F39-B426-4F025B458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F96A-05DE-44E9-B139-E76AC637E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A771-AA0A-4744-B314-B07270D16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EC30-5D34-4CDC-B6C1-47ABBC49C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12000" y="633708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221B-D85C-4261-A46F-EF2B31064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2" descr="Black1024"/>
          <p:cNvPicPr/>
          <p:nvPr/>
        </p:nvPicPr>
        <p:blipFill>
          <a:blip r:embed="rId2"/>
          <a:stretch/>
        </p:blipFill>
        <p:spPr>
          <a:xfrm>
            <a:off x="0" y="0"/>
            <a:ext cx="914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Black1024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24000" y="6244920"/>
            <a:ext cx="84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.ucl.ac.uk/~ipsaras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.ucl.ac.uk/~ipsaras/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K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word-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B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d Mobil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pp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cation Sharing through Information-Centric Connectiv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3933720"/>
            <a:ext cx="3887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r Ioannis Psa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PSRC Fellow / Lectu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ty College Lond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.psaras@ucl.ac.u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b: </a:t>
            </a:r>
            <a:r>
              <a:rPr b="0" lang="en-GB" sz="1600" spc="-1" strike="noStrike" u="sng">
                <a:solidFill>
                  <a:srgbClr val="a8c0d1"/>
                </a:solidFill>
                <a:uFillTx/>
                <a:latin typeface="Arial"/>
                <a:hlinkClick r:id="rId1"/>
              </a:rPr>
              <a:t>http://www.ee.ucl.ac.uk/~ipsaras/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27080" y="6237360"/>
            <a:ext cx="5243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. Psaras, S. Rene, K.V. Katsaros, V. Sourlas, N. Bezirgiannidi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. Diamantopoulos, I. Komnios, V. Tsaoussidis, G. Pavl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076720" y="4724280"/>
            <a:ext cx="2808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NRG Interim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uly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6"/>
          <p:cNvSpPr/>
          <p:nvPr/>
        </p:nvSpPr>
        <p:spPr>
          <a:xfrm>
            <a:off x="4788000" y="3284640"/>
            <a:ext cx="3313080" cy="93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Paper A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M MobiArch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Centric Naming (App ID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9760" y="2133720"/>
            <a:ext cx="84898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s to support fine-grained description of the desired process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par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DN hierarchical naming, longes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s to guarantee compatibility between appl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define static content: </a:t>
            </a:r>
            <a:r>
              <a:rPr b="0" lang="en-US" sz="1700" spc="-1" strike="noStrike">
                <a:solidFill>
                  <a:srgbClr val="0000ff"/>
                </a:solidFill>
                <a:latin typeface="Consolas"/>
                <a:ea typeface="ＭＳ Ｐゴシック"/>
              </a:rPr>
              <a:t>/NewsApp/politics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invoke computation: </a:t>
            </a:r>
            <a:r>
              <a:rPr b="0" lang="en-US" sz="1700" spc="-1" strike="noStrike">
                <a:solidFill>
                  <a:srgbClr val="0000ff"/>
                </a:solidFill>
                <a:latin typeface="Consolas"/>
                <a:ea typeface="ＭＳ Ｐゴシック"/>
              </a:rPr>
              <a:t>/myTravelAdvisor/Top10Res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 GUI indicates naming, users do not have to be aware of na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htag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e keywords to assist applic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al matching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responses to reques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nsolas"/>
                <a:ea typeface="ＭＳ Ｐゴシック"/>
              </a:rPr>
              <a:t>/myTravelAdvisor/Top10Restos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ff0000"/>
                </a:solidFill>
                <a:latin typeface="Consolas"/>
                <a:ea typeface="ＭＳ Ｐゴシック"/>
              </a:rPr>
              <a:t>#userRating; #London; #indi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nsolas"/>
                <a:ea typeface="ＭＳ Ｐゴシック"/>
              </a:rPr>
              <a:t>/routeFinder/tube </a:t>
            </a:r>
            <a:r>
              <a:rPr b="0" lang="en-US" sz="1700" spc="-1" strike="noStrike">
                <a:solidFill>
                  <a:srgbClr val="ff0000"/>
                </a:solidFill>
                <a:latin typeface="Consolas"/>
                <a:ea typeface="ＭＳ Ｐゴシック"/>
              </a:rPr>
              <a:t>#euston; #waterlo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33908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wifi2.jpg"/>
          <p:cNvPicPr/>
          <p:nvPr/>
        </p:nvPicPr>
        <p:blipFill>
          <a:blip r:embed="rId1"/>
          <a:stretch/>
        </p:blipFill>
        <p:spPr>
          <a:xfrm rot="21442200">
            <a:off x="781200" y="410364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wifi2.jpg"/>
          <p:cNvPicPr/>
          <p:nvPr/>
        </p:nvPicPr>
        <p:blipFill>
          <a:blip r:embed="rId2"/>
          <a:stretch/>
        </p:blipFill>
        <p:spPr>
          <a:xfrm rot="1384800">
            <a:off x="1572840" y="42904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wifi2.jpg"/>
          <p:cNvPicPr/>
          <p:nvPr/>
        </p:nvPicPr>
        <p:blipFill>
          <a:blip r:embed="rId3"/>
          <a:stretch/>
        </p:blipFill>
        <p:spPr>
          <a:xfrm rot="18382200">
            <a:off x="2962080" y="4533480"/>
            <a:ext cx="793800" cy="793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Centric Connectiv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specific 802.11 broadcast domains, through Basic Service Set(s),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a “hook” between BSS and the corresponding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KEBAPP application advertises its own SSID,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i Direc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i Neighbour-Awareness Networking (NA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find applications behind BSSs – also optimised for energy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smartphone.png"/>
          <p:cNvPicPr/>
          <p:nvPr/>
        </p:nvPicPr>
        <p:blipFill>
          <a:blip r:embed="rId4"/>
          <a:stretch/>
        </p:blipFill>
        <p:spPr>
          <a:xfrm rot="1922400">
            <a:off x="343080" y="480852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709560" y="3933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1759320" y="4086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p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2809440" y="43657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uteF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smartphone.jpg"/>
          <p:cNvPicPr/>
          <p:nvPr/>
        </p:nvPicPr>
        <p:blipFill>
          <a:blip r:embed="rId5"/>
          <a:stretch/>
        </p:blipFill>
        <p:spPr>
          <a:xfrm rot="19492800">
            <a:off x="3468600" y="4886280"/>
            <a:ext cx="876240" cy="1170000"/>
          </a:xfrm>
          <a:prstGeom prst="rect">
            <a:avLst/>
          </a:prstGeom>
          <a:ln w="0">
            <a:noFill/>
          </a:ln>
        </p:spPr>
      </p:pic>
      <p:sp>
        <p:nvSpPr>
          <p:cNvPr id="134" name="Rounded Rectangle 3"/>
          <p:cNvSpPr/>
          <p:nvPr/>
        </p:nvSpPr>
        <p:spPr>
          <a:xfrm>
            <a:off x="3276720" y="6165720"/>
            <a:ext cx="5256000" cy="621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K.V. Katsaros et. al.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Information-Centric Connectivit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EEE Communications Magazine, August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outeFinder2.pdf"/>
          <p:cNvPicPr/>
          <p:nvPr/>
        </p:nvPicPr>
        <p:blipFill>
          <a:blip r:embed="rId6"/>
          <a:stretch/>
        </p:blipFill>
        <p:spPr>
          <a:xfrm>
            <a:off x="4429080" y="3933720"/>
            <a:ext cx="4714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-Centric Forward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build on a modified version of N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 messages to single-hop broadcasting (BSS) dom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-hop ope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wifi2.jpg"/>
          <p:cNvPicPr/>
          <p:nvPr/>
        </p:nvPicPr>
        <p:blipFill>
          <a:blip r:embed="rId1"/>
          <a:stretch/>
        </p:blipFill>
        <p:spPr>
          <a:xfrm rot="21442200">
            <a:off x="909720" y="41878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wifi2.jpg"/>
          <p:cNvPicPr/>
          <p:nvPr/>
        </p:nvPicPr>
        <p:blipFill>
          <a:blip r:embed="rId2"/>
          <a:stretch/>
        </p:blipFill>
        <p:spPr>
          <a:xfrm rot="2059200">
            <a:off x="1703160" y="437508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wifi2.jpg"/>
          <p:cNvPicPr/>
          <p:nvPr/>
        </p:nvPicPr>
        <p:blipFill>
          <a:blip r:embed="rId3"/>
          <a:stretch/>
        </p:blipFill>
        <p:spPr>
          <a:xfrm rot="18382200">
            <a:off x="6746760" y="521604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smartphone.png"/>
          <p:cNvPicPr/>
          <p:nvPr/>
        </p:nvPicPr>
        <p:blipFill>
          <a:blip r:embed="rId4"/>
          <a:stretch/>
        </p:blipFill>
        <p:spPr>
          <a:xfrm rot="1922400">
            <a:off x="390240" y="48924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833400" y="40053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1862640" y="41702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6237000" y="50450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F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smartphone.jpg"/>
          <p:cNvPicPr/>
          <p:nvPr/>
        </p:nvPicPr>
        <p:blipFill>
          <a:blip r:embed="rId5"/>
          <a:stretch/>
        </p:blipFill>
        <p:spPr>
          <a:xfrm rot="19492800">
            <a:off x="7254720" y="5570280"/>
            <a:ext cx="87660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4764240" y="3900600"/>
          <a:ext cx="4271760" cy="1112760"/>
        </p:xfrm>
        <a:graphic>
          <a:graphicData uri="http://schemas.openxmlformats.org/drawingml/2006/table">
            <a:tbl>
              <a:tblPr/>
              <a:tblGrid>
                <a:gridCol w="2182680"/>
                <a:gridCol w="1531800"/>
                <a:gridCol w="557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me Pre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SS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/travel/tripAdvisor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#x #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ipAd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/gaming/gameX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#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a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11160" y="5877000"/>
          <a:ext cx="3768840" cy="741240"/>
        </p:xfrm>
        <a:graphic>
          <a:graphicData uri="http://schemas.openxmlformats.org/drawingml/2006/table">
            <a:tbl>
              <a:tblPr/>
              <a:tblGrid>
                <a:gridCol w="2040120"/>
                <a:gridCol w="1152360"/>
                <a:gridCol w="576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me Pre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SS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/travel/routeFinder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#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oute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48" name="Rounded Rectangle 15"/>
          <p:cNvSpPr/>
          <p:nvPr/>
        </p:nvSpPr>
        <p:spPr>
          <a:xfrm>
            <a:off x="468360" y="2781360"/>
            <a:ext cx="820908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Broadcast domains are considered as nod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FIB is populated with neighbouring BSS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node.eps"/>
          <p:cNvPicPr/>
          <p:nvPr/>
        </p:nvPicPr>
        <p:blipFill>
          <a:blip r:embed="rId1"/>
          <a:stretch/>
        </p:blipFill>
        <p:spPr>
          <a:xfrm>
            <a:off x="34920" y="692280"/>
            <a:ext cx="6846840" cy="47782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"/>
          <p:cNvSpPr/>
          <p:nvPr/>
        </p:nvSpPr>
        <p:spPr>
          <a:xfrm>
            <a:off x="5651640" y="2278080"/>
            <a:ext cx="871560" cy="2098800"/>
          </a:xfrm>
          <a:custGeom>
            <a:avLst/>
            <a:gdLst/>
            <a:ahLst/>
            <a:rect l="l" t="t" r="r" b="b"/>
            <a:pathLst>
              <a:path w="870997" h="2099734">
                <a:moveTo>
                  <a:pt x="0" y="0"/>
                </a:moveTo>
                <a:cubicBezTo>
                  <a:pt x="395111" y="214489"/>
                  <a:pt x="790222" y="428978"/>
                  <a:pt x="863600" y="778934"/>
                </a:cubicBezTo>
                <a:cubicBezTo>
                  <a:pt x="936978" y="1128890"/>
                  <a:pt x="440267" y="2099734"/>
                  <a:pt x="440267" y="209973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 rot="1417800">
            <a:off x="6238080" y="1523880"/>
            <a:ext cx="2869200" cy="91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WiFi 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opu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IB with hierarchical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dvertised by 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 rot="948600">
            <a:off x="6652080" y="3438000"/>
            <a:ext cx="223668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SSIDs are the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6114240" y="5516640"/>
            <a:ext cx="2833920" cy="1191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rver part of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internal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entry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SSID to specific app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listens to this SS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1490040" y="5805360"/>
            <a:ext cx="28216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ne PIT entry per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asibility – RouteFinder Ap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250920" y="1773360"/>
            <a:ext cx="4825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trace from 3300 users in a Stockho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way station throughout one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Users-time.png"/>
          <p:cNvPicPr/>
          <p:nvPr/>
        </p:nvPicPr>
        <p:blipFill>
          <a:blip r:embed="rId1"/>
          <a:stretch/>
        </p:blipFill>
        <p:spPr>
          <a:xfrm>
            <a:off x="5219640" y="1413000"/>
            <a:ext cx="3745080" cy="2808000"/>
          </a:xfrm>
          <a:prstGeom prst="rect">
            <a:avLst/>
          </a:prstGeom>
          <a:ln w="0">
            <a:noFill/>
          </a:ln>
        </p:spPr>
      </p:pic>
      <p:sp>
        <p:nvSpPr>
          <p:cNvPr id="158" name="Oval 16"/>
          <p:cNvSpPr/>
          <p:nvPr/>
        </p:nvSpPr>
        <p:spPr>
          <a:xfrm>
            <a:off x="1403280" y="2782800"/>
            <a:ext cx="3097440" cy="1150920"/>
          </a:xfrm>
          <a:prstGeom prst="ellipse">
            <a:avLst/>
          </a:prstGeom>
          <a:solidFill>
            <a:srgbClr val="7f7f7f"/>
          </a:soli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1908000" y="2781360"/>
            <a:ext cx="19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users: 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8"/>
          <p:cNvSpPr/>
          <p:nvPr/>
        </p:nvSpPr>
        <p:spPr>
          <a:xfrm>
            <a:off x="1763640" y="3141720"/>
            <a:ext cx="2016360" cy="799920"/>
          </a:xfrm>
          <a:prstGeom prst="ellipse">
            <a:avLst/>
          </a:prstGeom>
          <a:solidFill>
            <a:srgbClr val="bfbfbf"/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2556000" y="32130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BA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s (1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1"/>
          <p:cNvSpPr/>
          <p:nvPr/>
        </p:nvSpPr>
        <p:spPr>
          <a:xfrm>
            <a:off x="1763640" y="3357720"/>
            <a:ext cx="836640" cy="4474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f2f2f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-36360" y="30686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Fi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25"/>
          <p:cNvCxnSpPr/>
          <p:nvPr/>
        </p:nvCxnSpPr>
        <p:spPr>
          <a:xfrm>
            <a:off x="1331640" y="3500280"/>
            <a:ext cx="648360" cy="145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65" name="Straight Arrow Connector 10"/>
          <p:cNvCxnSpPr/>
          <p:nvPr/>
        </p:nvCxnSpPr>
        <p:spPr>
          <a:xfrm flipV="1">
            <a:off x="3563640" y="3068280"/>
            <a:ext cx="2377080" cy="289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pic>
        <p:nvPicPr>
          <p:cNvPr id="166" name="Picture 2" descr="FRT without 1%.png"/>
          <p:cNvPicPr/>
          <p:nvPr/>
        </p:nvPicPr>
        <p:blipFill>
          <a:blip r:embed="rId2"/>
          <a:stretch/>
        </p:blipFill>
        <p:spPr>
          <a:xfrm>
            <a:off x="5508720" y="4132440"/>
            <a:ext cx="3633840" cy="2725560"/>
          </a:xfrm>
          <a:prstGeom prst="rect">
            <a:avLst/>
          </a:prstGeom>
          <a:ln w="0">
            <a:noFill/>
          </a:ln>
        </p:spPr>
      </p:pic>
      <p:cxnSp>
        <p:nvCxnSpPr>
          <p:cNvPr id="167" name="Straight Arrow Connector 14"/>
          <p:cNvCxnSpPr/>
          <p:nvPr/>
        </p:nvCxnSpPr>
        <p:spPr>
          <a:xfrm>
            <a:off x="3348000" y="3789360"/>
            <a:ext cx="2953440" cy="19440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pic>
        <p:nvPicPr>
          <p:cNvPr id="168" name="Picture 3" descr="RR without 1%.png"/>
          <p:cNvPicPr/>
          <p:nvPr/>
        </p:nvPicPr>
        <p:blipFill>
          <a:blip r:embed="rId3"/>
          <a:stretch/>
        </p:blipFill>
        <p:spPr>
          <a:xfrm>
            <a:off x="12600" y="4140360"/>
            <a:ext cx="3622680" cy="2717640"/>
          </a:xfrm>
          <a:prstGeom prst="rect">
            <a:avLst/>
          </a:prstGeom>
          <a:ln w="0">
            <a:noFill/>
          </a:ln>
        </p:spPr>
      </p:pic>
      <p:cxnSp>
        <p:nvCxnSpPr>
          <p:cNvPr id="169" name="Straight Arrow Connector 11"/>
          <p:cNvCxnSpPr/>
          <p:nvPr/>
        </p:nvCxnSpPr>
        <p:spPr>
          <a:xfrm flipH="1">
            <a:off x="1618920" y="3789360"/>
            <a:ext cx="1152720" cy="792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0" name="Straight Arrow Connector 27"/>
          <p:cNvCxnSpPr>
            <a:stCxn id="163" idx="2"/>
          </p:cNvCxnSpPr>
          <p:nvPr/>
        </p:nvCxnSpPr>
        <p:spPr>
          <a:xfrm>
            <a:off x="734760" y="3714840"/>
            <a:ext cx="237240" cy="5068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enir Black Oblique"/>
              </a:rPr>
              <a:t>Route Finder Ap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routefinder_request.png"/>
          <p:cNvPicPr/>
          <p:nvPr/>
        </p:nvPicPr>
        <p:blipFill>
          <a:blip r:embed="rId1"/>
          <a:stretch/>
        </p:blipFill>
        <p:spPr>
          <a:xfrm>
            <a:off x="179280" y="1700280"/>
            <a:ext cx="2808360" cy="4992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routefinder_result.png"/>
          <p:cNvPicPr/>
          <p:nvPr/>
        </p:nvPicPr>
        <p:blipFill>
          <a:blip r:embed="rId2"/>
          <a:stretch/>
        </p:blipFill>
        <p:spPr>
          <a:xfrm>
            <a:off x="5508720" y="692280"/>
            <a:ext cx="3384360" cy="6016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nfd_routes.png"/>
          <p:cNvPicPr/>
          <p:nvPr/>
        </p:nvPicPr>
        <p:blipFill>
          <a:blip r:embed="rId3"/>
          <a:stretch/>
        </p:blipFill>
        <p:spPr>
          <a:xfrm>
            <a:off x="2484360" y="4218120"/>
            <a:ext cx="280836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ion: An Edge ICN IoT Platform based on Information-Centric Connectiv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-term plan is to develop a platform for Io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build applications or 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should be lightweight and easy to use, e.g., IFTTT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pplications already implemented in Raspberry PIs – plan to extend to WiFi APs through OpenW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960" y="576360"/>
            <a:ext cx="849024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implement KEBAPP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9880" y="1050840"/>
            <a:ext cx="55375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roid implementatio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939960" y="1598760"/>
            <a:ext cx="7664400" cy="4854600"/>
            <a:chOff x="939960" y="1598760"/>
            <a:chExt cx="7664400" cy="4854600"/>
          </a:xfrm>
        </p:grpSpPr>
        <p:sp>
          <p:nvSpPr>
            <p:cNvPr id="180" name="Rectangle 6"/>
            <p:cNvSpPr/>
            <p:nvPr/>
          </p:nvSpPr>
          <p:spPr>
            <a:xfrm>
              <a:off x="2485080" y="2532960"/>
              <a:ext cx="1222200" cy="75240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77000"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EBAPP Application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4056480" y="2532960"/>
              <a:ext cx="1235160" cy="75240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77000"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EBAPP Applicatio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2485080" y="1983600"/>
              <a:ext cx="2780640" cy="46908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EBAPP Application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" name="Straight Arrow Connector 9"/>
            <p:cNvCxnSpPr/>
            <p:nvPr/>
          </p:nvCxnSpPr>
          <p:spPr>
            <a:xfrm>
              <a:off x="1691280" y="3501000"/>
              <a:ext cx="4460040" cy="2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4" name="Rectangle 10"/>
            <p:cNvSpPr/>
            <p:nvPr/>
          </p:nvSpPr>
          <p:spPr>
            <a:xfrm>
              <a:off x="2195280" y="1674000"/>
              <a:ext cx="3240000" cy="171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3485160" y="1598760"/>
              <a:ext cx="180648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81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EBAPP 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2195280" y="3620520"/>
              <a:ext cx="3240000" cy="212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3724920" y="3569400"/>
              <a:ext cx="180648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82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EBAPP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4"/>
            <p:cNvSpPr/>
            <p:nvPr/>
          </p:nvSpPr>
          <p:spPr>
            <a:xfrm>
              <a:off x="2372400" y="4024080"/>
              <a:ext cx="1358640" cy="101268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81000"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jndn (java lib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2570400" y="5373360"/>
              <a:ext cx="2610720" cy="28764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43000"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WiFiDirect li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"/>
            <p:cNvSpPr/>
            <p:nvPr/>
          </p:nvSpPr>
          <p:spPr>
            <a:xfrm>
              <a:off x="4137480" y="4029840"/>
              <a:ext cx="1008360" cy="100656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jndn-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Straight Arrow Connector 17"/>
            <p:cNvCxnSpPr>
              <a:stCxn id="180" idx="3"/>
              <a:endCxn id="181" idx="1"/>
            </p:cNvCxnSpPr>
            <p:nvPr/>
          </p:nvCxnSpPr>
          <p:spPr>
            <a:xfrm>
              <a:off x="3707640" y="2908800"/>
              <a:ext cx="349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92" name="Straight Arrow Connector 18"/>
            <p:cNvCxnSpPr/>
            <p:nvPr/>
          </p:nvCxnSpPr>
          <p:spPr>
            <a:xfrm flipV="1">
              <a:off x="4530960" y="3276000"/>
              <a:ext cx="2880" cy="34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93" name="Text Box 20"/>
            <p:cNvSpPr/>
            <p:nvPr/>
          </p:nvSpPr>
          <p:spPr>
            <a:xfrm>
              <a:off x="5459400" y="3989160"/>
              <a:ext cx="235224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27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aming / partial matching fun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5499000" y="2060280"/>
              <a:ext cx="245664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27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pplication model / functiona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2"/>
            <p:cNvSpPr/>
            <p:nvPr/>
          </p:nvSpPr>
          <p:spPr>
            <a:xfrm>
              <a:off x="5531400" y="2628720"/>
              <a:ext cx="2280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KEBAPP background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3"/>
            <p:cNvSpPr/>
            <p:nvPr/>
          </p:nvSpPr>
          <p:spPr>
            <a:xfrm>
              <a:off x="957240" y="2523960"/>
              <a:ext cx="125100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98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KEBAPP Foreground app 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4"/>
            <p:cNvSpPr/>
            <p:nvPr/>
          </p:nvSpPr>
          <p:spPr>
            <a:xfrm>
              <a:off x="5429880" y="4653000"/>
              <a:ext cx="209376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27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FD&lt;-&gt;WiFiDirect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5"/>
            <p:cNvSpPr/>
            <p:nvPr/>
          </p:nvSpPr>
          <p:spPr>
            <a:xfrm>
              <a:off x="939960" y="4087080"/>
              <a:ext cx="1391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13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D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ables / routing / fwd op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6"/>
            <p:cNvSpPr/>
            <p:nvPr/>
          </p:nvSpPr>
          <p:spPr>
            <a:xfrm>
              <a:off x="5459400" y="5243040"/>
              <a:ext cx="30006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27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ice discovery / connecti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Straight Arrow Connector 26"/>
            <p:cNvCxnSpPr/>
            <p:nvPr/>
          </p:nvCxnSpPr>
          <p:spPr>
            <a:xfrm>
              <a:off x="1403280" y="5949360"/>
              <a:ext cx="475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1" name="Rectangle 27"/>
            <p:cNvSpPr/>
            <p:nvPr/>
          </p:nvSpPr>
          <p:spPr>
            <a:xfrm>
              <a:off x="2570400" y="6165720"/>
              <a:ext cx="2610720" cy="28764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43000"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etwork de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9"/>
            <p:cNvSpPr/>
            <p:nvPr/>
          </p:nvSpPr>
          <p:spPr>
            <a:xfrm>
              <a:off x="5733360" y="2997000"/>
              <a:ext cx="287100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64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KEBAPP APP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0"/>
            <p:cNvSpPr/>
            <p:nvPr/>
          </p:nvSpPr>
          <p:spPr>
            <a:xfrm>
              <a:off x="5805360" y="5515560"/>
              <a:ext cx="2583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rmAutofit fontScale="79000"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KEBAPP middle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1"/>
            <p:cNvSpPr/>
            <p:nvPr/>
          </p:nvSpPr>
          <p:spPr>
            <a:xfrm>
              <a:off x="5373000" y="6030000"/>
              <a:ext cx="1563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920" bIns="43920" anchor="t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droid 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Straight Arrow Connector 31"/>
            <p:cNvCxnSpPr/>
            <p:nvPr/>
          </p:nvCxnSpPr>
          <p:spPr>
            <a:xfrm flipH="1" flipV="1">
              <a:off x="3875040" y="5748120"/>
              <a:ext cx="1080" cy="417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206" name="Rectangle 32"/>
            <p:cNvSpPr/>
            <p:nvPr/>
          </p:nvSpPr>
          <p:spPr>
            <a:xfrm>
              <a:off x="2485080" y="4375440"/>
              <a:ext cx="1117080" cy="63684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F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" name="Straight Arrow Connector 33"/>
            <p:cNvCxnSpPr>
              <a:endCxn id="190" idx="2"/>
            </p:cNvCxnSpPr>
            <p:nvPr/>
          </p:nvCxnSpPr>
          <p:spPr>
            <a:xfrm flipV="1">
              <a:off x="4625280" y="5036760"/>
              <a:ext cx="16920" cy="34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208" name="Straight Arrow Connector 34"/>
            <p:cNvCxnSpPr>
              <a:stCxn id="190" idx="1"/>
              <a:endCxn id="188" idx="3"/>
            </p:cNvCxnSpPr>
            <p:nvPr/>
          </p:nvCxnSpPr>
          <p:spPr>
            <a:xfrm flipH="1" flipV="1">
              <a:off x="3730680" y="4529880"/>
              <a:ext cx="40680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79280" y="1916280"/>
            <a:ext cx="5832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 Ioannis Psa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y College Lon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8c0d1"/>
                </a:solidFill>
                <a:uFillTx/>
                <a:latin typeface="Arial"/>
                <a:ea typeface="ＭＳ Ｐゴシック"/>
                <a:hlinkClick r:id="rId1"/>
              </a:rPr>
              <a:t>http://www.ee.ucl.ac.uk/~ipsaras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merican Typewriter"/>
                <a:ea typeface="ＭＳ Ｐゴシック"/>
              </a:rPr>
              <a:t>i.psaras@ucl.ac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question-mark4.png"/>
          <p:cNvPicPr/>
          <p:nvPr/>
        </p:nvPicPr>
        <p:blipFill>
          <a:blip r:embed="rId2"/>
          <a:stretch/>
        </p:blipFill>
        <p:spPr>
          <a:xfrm>
            <a:off x="5364000" y="16509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9760" y="2708280"/>
            <a:ext cx="8489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loud is not enou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9760" y="1844280"/>
            <a:ext cx="8489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a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trying to reach the cloud 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trains, airplances, crowded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 needs to integrate some edge-computing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ud is neither the only nor the best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enormous amounts of computation and storage available around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G has to exploit the computation, storage and software resources of edge devices (smartphones, tablets, Raspberry PIs, WiFi A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ng randomly to the nearest device does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-Centric Connectivit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omes necessity when we need to specify to which of the 100s of smartphone devices to connect 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need does not exist when we always connect to the main cell t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a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autonomous-vehicle-data-intel-100697604-large.jpg"/>
          <p:cNvPicPr/>
          <p:nvPr/>
        </p:nvPicPr>
        <p:blipFill>
          <a:blip r:embed="rId1"/>
          <a:stretch/>
        </p:blipFill>
        <p:spPr>
          <a:xfrm>
            <a:off x="5219640" y="692280"/>
            <a:ext cx="385308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enir Black Oblique"/>
              </a:rPr>
              <a:t>Taxi Share App / Carpool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9760" y="2852280"/>
            <a:ext cx="84898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commuters into taxis/vehicles lo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1 wants to travel from A –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2 wants to travel from A – B, where B is along the route A –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3 travels from A – D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think of many good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 do this locally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airport-taxi-queue.jpg"/>
          <p:cNvPicPr/>
          <p:nvPr/>
        </p:nvPicPr>
        <p:blipFill>
          <a:blip r:embed="rId1"/>
          <a:stretch/>
        </p:blipFill>
        <p:spPr>
          <a:xfrm>
            <a:off x="5610240" y="692280"/>
            <a:ext cx="3454560" cy="1944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carpooling.gif"/>
          <p:cNvPicPr/>
          <p:nvPr/>
        </p:nvPicPr>
        <p:blipFill>
          <a:blip r:embed="rId2"/>
          <a:stretch/>
        </p:blipFill>
        <p:spPr>
          <a:xfrm>
            <a:off x="6588000" y="4221000"/>
            <a:ext cx="252108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9760" y="907920"/>
            <a:ext cx="848988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line vs Offline Micropay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95280" y="2070000"/>
            <a:ext cx="4002120" cy="354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643280" y="2070000"/>
            <a:ext cx="4256280" cy="354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TextBox 5"/>
          <p:cNvSpPr/>
          <p:nvPr/>
        </p:nvSpPr>
        <p:spPr>
          <a:xfrm>
            <a:off x="1485720" y="16383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5808600" y="162864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Micro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7"/>
          <p:cNvSpPr/>
          <p:nvPr/>
        </p:nvSpPr>
        <p:spPr>
          <a:xfrm>
            <a:off x="395280" y="5732640"/>
            <a:ext cx="8209080" cy="1095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Central trusted authority issues certifi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Certificates trusted by nodes who pay with vou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Vouchers later validated when users get back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KEBAPP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Contribu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476360" y="2997360"/>
            <a:ext cx="2079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 Finder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5219640" y="2997360"/>
            <a:ext cx="3622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or Video-Streaming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airplane-passengers-2.jpeg"/>
          <p:cNvPicPr/>
          <p:nvPr/>
        </p:nvPicPr>
        <p:blipFill>
          <a:blip r:embed="rId1"/>
          <a:stretch/>
        </p:blipFill>
        <p:spPr>
          <a:xfrm>
            <a:off x="5029200" y="4149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99" name="Cloud Callout 7"/>
          <p:cNvSpPr/>
          <p:nvPr/>
        </p:nvSpPr>
        <p:spPr>
          <a:xfrm>
            <a:off x="6599160" y="3571920"/>
            <a:ext cx="2509920" cy="793800"/>
          </a:xfrm>
          <a:prstGeom prst="cloudCallout">
            <a:avLst>
              <a:gd name="adj1" fmla="val -31319"/>
              <a:gd name="adj2" fmla="val 162629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uper Bor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busy-tube-station.jpg"/>
          <p:cNvPicPr/>
          <p:nvPr/>
        </p:nvPicPr>
        <p:blipFill>
          <a:blip r:embed="rId2"/>
          <a:stretch/>
        </p:blipFill>
        <p:spPr>
          <a:xfrm>
            <a:off x="457200" y="3654360"/>
            <a:ext cx="4056120" cy="267984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le 6"/>
          <p:cNvSpPr/>
          <p:nvPr/>
        </p:nvSpPr>
        <p:spPr>
          <a:xfrm>
            <a:off x="684360" y="1700280"/>
            <a:ext cx="7848360" cy="1081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lication sharing and information-process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amework for smartphone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pplications does KEBAPP deal with – </a:t>
            </a:r>
            <a:br>
              <a:rPr sz="3000"/>
            </a:br>
            <a:r>
              <a:rPr b="1" lang="en-US" sz="3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esign Spac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9760" y="2133360"/>
            <a:ext cx="8489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and large, smartphone apps targ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c 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ews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sed 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acebook/Twitter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cessed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oute finder,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demand for local services, local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3"/>
          <p:cNvSpPr/>
          <p:nvPr/>
        </p:nvSpPr>
        <p:spPr>
          <a:xfrm>
            <a:off x="611280" y="4508640"/>
            <a:ext cx="7848360" cy="1008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envision a pool of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lication resource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provide D2D access to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cessed and non-personalised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/When do we need KEBAPP</a:t>
            </a:r>
            <a:br>
              <a:rPr sz="30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arget environments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9760" y="2276640"/>
            <a:ext cx="8489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crowded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ports, festivals, stadiums, IETF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ment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disasters (floods, earthquak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(or poorly) connecte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planes, trains, ferries, developing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611280" y="5516640"/>
            <a:ext cx="7848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most of those cases, Internet connectivity is not even necessa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KEBAPP work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480" y="3500280"/>
            <a:ext cx="5537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centric n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s share common name-spaces and support the use of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centric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s manage connectivity by defining and/or joining WiFi broadcast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-centric forwa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ing Named Data Networ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i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4"/>
          <p:cNvSpPr/>
          <p:nvPr/>
        </p:nvSpPr>
        <p:spPr>
          <a:xfrm>
            <a:off x="826920" y="1700280"/>
            <a:ext cx="7345440" cy="863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lications act both as clients and as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node.pdf"/>
          <p:cNvPicPr/>
          <p:nvPr/>
        </p:nvPicPr>
        <p:blipFill>
          <a:blip r:embed="rId1"/>
          <a:stretch/>
        </p:blipFill>
        <p:spPr>
          <a:xfrm>
            <a:off x="5421240" y="4206960"/>
            <a:ext cx="3759120" cy="2606760"/>
          </a:xfrm>
          <a:prstGeom prst="rect">
            <a:avLst/>
          </a:prstGeom>
          <a:ln w="0">
            <a:noFill/>
          </a:ln>
        </p:spPr>
      </p:pic>
      <p:sp>
        <p:nvSpPr>
          <p:cNvPr id="112" name="Rounded Rectangle 5"/>
          <p:cNvSpPr/>
          <p:nvPr/>
        </p:nvSpPr>
        <p:spPr>
          <a:xfrm>
            <a:off x="684360" y="2852640"/>
            <a:ext cx="388764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Mai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node.eps"/>
          <p:cNvPicPr/>
          <p:nvPr/>
        </p:nvPicPr>
        <p:blipFill>
          <a:blip r:embed="rId1"/>
          <a:stretch/>
        </p:blipFill>
        <p:spPr>
          <a:xfrm>
            <a:off x="684360" y="1125360"/>
            <a:ext cx="77817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rmation-Centric Mo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9760" y="1915920"/>
            <a:ext cx="84898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is the addressabl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h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is the routing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h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to the content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 a sock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is secured individ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communication channe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3"/>
          <p:cNvSpPr/>
          <p:nvPr/>
        </p:nvSpPr>
        <p:spPr>
          <a:xfrm>
            <a:off x="1116000" y="5877000"/>
            <a:ext cx="6624720" cy="792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need to keep references of moving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rmation Exposure through Nam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N can enable features not possible with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of information through n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3"/>
          <p:cNvSpPr/>
          <p:nvPr/>
        </p:nvSpPr>
        <p:spPr>
          <a:xfrm>
            <a:off x="539640" y="4437000"/>
            <a:ext cx="7993080" cy="1008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A network-layer naming scheme that enables fine-grained description of the desired process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2:26:50Z</dcterms:created>
  <dc:creator>Simon Brown</dc:creator>
  <dc:description/>
  <dc:language>en-US</dc:language>
  <cp:lastModifiedBy>David Oran</cp:lastModifiedBy>
  <dcterms:modified xsi:type="dcterms:W3CDTF">2017-07-16T07:34:30Z</dcterms:modified>
  <cp:revision>187</cp:revision>
  <dc:subject/>
  <dc:title>Slide 1</dc:title>
</cp:coreProperties>
</file>