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4B1-AEAC-4F7F-8287-AC0C301FC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B34-623D-47A2-B294-1A5D3930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1469-B3E5-4819-8820-FA7ADB36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534-2263-4945-9010-2492FE3A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989-05D4-4AEB-AB11-15F9C092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013-C150-4C9B-977B-F6EA9343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D37-F056-45FC-B2CE-55700A71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B2E-CCCE-47AB-AD4B-D1D9181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A9C-82D0-4A8F-8B9D-07B4C64F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C71-D6E7-4E0A-AAA8-E6155625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0FF5-1A45-4614-8DE9-D909C698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72B-33B7-4BED-BF4B-E14B4619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A873-744F-4A8C-8B6C-8FF137D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E3D6-9748-4BBB-9B27-66D45EB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FE9-2DC8-4615-AEC9-C9B12105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CA7-AFA3-430E-A6A8-864CF8D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4280-FFF9-4673-9220-2AD01A88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FBC5-2CF5-45FC-8C85-4562DF60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29FB-BB80-4705-A963-998D932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340B-E44D-4F12-B72F-1774F3C8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356-9423-465A-ADF0-1BF316C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C93-82F8-48AA-8980-68244380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33D-36DD-4093-A4F8-C8D936D8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2B0-F3B2-46EE-9E7A-97E8760D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381-D16F-453E-A099-F78E029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345-B043-4759-A0C7-9B4C9B1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647-DD1D-4B56-B89B-F61634C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B749-E1DE-4321-9963-AA8FE6DF07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81F-6E89-4980-8F40-CE4561FA97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BGP-Based SPF </a:t>
            </a:r>
            <a:br>
              <a:rPr sz="4600"/>
            </a:b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RTGWG - Jan 2017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ur Patel, Arr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wn Zandi, Linked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nter Van de Velde, Nok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k Yeung, Arr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u Venugopal, 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E49B-F414-497C-B54C-ED00530353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ering Model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5560" y="1066320"/>
            <a:ext cx="794088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 sessions with Route-Reflector or controller hierarc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discovery/liveliness detection outside of BG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 hierarchy can be less than fully connected but must provide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not be dependent on SPF for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r could learn the expected topology through some other means and injec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F Computation is distributed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“Jupiter Rising: A Decade of Clos Topologies and Centralized Control in Google’s Datacenter Net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42A-15B5-4B58-87FD-9A41B31ECD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55560" y="1066320"/>
            <a:ext cx="794088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discu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labo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Draft ad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DD30-A7DE-4A79-9065-20E159B3F6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ly Scalable Data Centers (MSDCs) have implemented simplified layer3 ro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onal simplicity has lead MSDCs to converge on BGP as their routing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support to announce both the underlay routes as well as the overlay routes using separate AFI/SA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 route control using some controller-based solution for simplified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1350-CA62-4384-81F5-5CD2B30FB3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e Controller has a similar functionality as a Route Reflec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flect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atabase for policy enforcements, manage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ever Route Reflector (not in the forwarding path) assumes a presence of an IGP protocol that help resolve bgp nexthop and its adjacencies for its cli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P’s SPF builds directed graphs that ultimately resolves non connected next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GP based MSDCs solves this problem by establishing hop-by-hop (in-band) peering sess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hop is always an address of a directly connecte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osed solution helps towards deployment of Route Controllers and yet preserve operational simplicity by using BGP for underlay as well as the overlay rou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28A5-27CB-4AFD-9AFB-C6120121BB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vantages of BGP SPF over Traditional BGP Distance Vector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55560" y="1904760"/>
            <a:ext cx="794088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have complete view of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when BGP is used as an underlay for other BGP address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network failures (e.g., link) need be advertised vis-à-vis all routes impacted by fail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onver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c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F lends itself better to optimal path selection in Route-Reflector (RR) and controller top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4AEA-5496-44FC-8613-2A94A512E3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 of BGP-Based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ready movement toward BGP as sole MSDC protocol as evidenced by “Use BGP for Routing in Large-Scale Data Centers” work in RTGWG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ust and scalable implementations exi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 Acceptance – minimal learning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aranteed In-order Delive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Upd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al Updates upon session rest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Flooding and selective fil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itself to multiple peering models including those with Route-Reflectors and Controll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EF7F-5E73-4A8A-A940-75222CECEE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 of BGP-Based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oller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rse BGP session topology with session paths for redundancy. Two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channel to every nod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of Route-Reflectors which are directly or loopback connected (with static routes for the latt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GP SPF used for underlay with other BGP AFs used for overlay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er convergence of underlay and services in BG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ler also used for end-to-end traffic engineering paths possibly spanning other networks (e.g., core or access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DEE9-94D8-4526-BC6B-1D922BCEC9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GP based Link-State Rou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55560" y="1521000"/>
            <a:ext cx="79408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d a new SAF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RI format is exactly same as BGP LS Address Family to carry link state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P MP Capability and BGP-LS Node attribute to assure compatibility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Peering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P runs Dijkstra instead of Best Path Decision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5EF-F4B0-4597-83A6-AB4ADC3BF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GP Best-Path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5560" y="1287360"/>
            <a:ext cx="794088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-Hop and Path Attribute basically along for the ride for BGP Link-State Address Family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e announced based on RFC 4271 error hand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Process Phases 1 and 2 replaced by SPF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Process Phase 3 may be short-circuited since NLRI is unique per BGP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ssure the most recent version of NLRI is always used and re-adverti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d by existing protocol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5EA-FED1-412F-943D-AE42C3DF01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GP SPF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55560" y="1287360"/>
            <a:ext cx="794088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with greatly simplified SPF with P2P only links in single area (i.e., SP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cale very well to many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upport computation of LFAs, Segment Routing SIDs, and other IGP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-LS format includes necessary Link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State AF is dual-stack AF since both IPv4 and IPv6 addresses/prefixes advert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-LS format also supports VPNs but SPF behavior not def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needed to define interaction with existing unicast A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ter of local implementation poli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445-05C2-4DFB-B754-3DB7309107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1:54:35Z</dcterms:created>
  <dc:creator>Vishwas Manral</dc:creator>
  <dc:description/>
  <cp:keywords>Crypto</cp:keywords>
  <dc:language>en-US</dc:language>
  <cp:lastModifiedBy>Keyur Patel</cp:lastModifiedBy>
  <dcterms:modified xsi:type="dcterms:W3CDTF">2017-01-24T18:35:07Z</dcterms:modified>
  <cp:revision>373</cp:revision>
  <dc:subject>Crypto Auth for ISIS</dc:subject>
  <dc:title>IS-IS WG</dc:title>
</cp:coreProperties>
</file>