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1489-8786-46A0-8C20-D2DA157A8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D0AB-7933-4046-BE03-E85F385CF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1C00-EE3F-4FFD-B1E3-224D10D39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7F5-936E-4758-BCAC-8FDC85B2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160-8C5C-4AE5-AF86-8B12902A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A17-CC0B-4AA0-A060-6BC93B1A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319-C14D-4E3A-BEDD-AEEC7414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69FD-8FBE-4F5F-BBA0-B59E08BD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1792-B13A-4DD9-80DF-76D8B28B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9A84-D1D2-4B53-9D64-63DA0555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9477-9E35-4F12-9C34-E3AA23B4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BB98-B725-43C6-AE5A-4866A206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9C4D-DA7A-477D-97A6-23E8E4EE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F444-1C59-4434-9CB1-61F9F3C2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CFB2-5050-4DA4-AF59-4BC3B198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C55C-6D75-45DD-9F34-DD4DA4B2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D149-3E40-4E9B-8299-A756A7B0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2AAB-D1A3-4E58-AD5E-05FC5B46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25AF-856F-40D5-B4D1-C2AFEE49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9430-872A-4AE6-AE77-2F572D87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08D-A107-46AC-86E4-72011815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113-A4A8-487C-A590-C8E3C42A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5637-11BA-4DB2-882F-1D8A01D6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BFE-FBA2-49FA-AEA0-7F790CCC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CCA-7327-4145-BA17-3EA7FDBC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2CF-F0B3-4185-913A-97CCBE37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4500-1EA6-4B54-B557-CDAC1725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86A3-EB94-4031-9804-B4AF7D7E68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8BB4-800F-4AE5-8F18-B62570080D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66"/>
                </a:solidFill>
                <a:latin typeface="Arial"/>
              </a:rPr>
              <a:t>BGP-Based SPF </a:t>
            </a:r>
            <a:br>
              <a:rPr sz="4600"/>
            </a:br>
            <a:r>
              <a:rPr b="1" lang="en-US" sz="4600" spc="-1" strike="noStrike">
                <a:solidFill>
                  <a:srgbClr val="330066"/>
                </a:solidFill>
                <a:latin typeface="Arial"/>
              </a:rPr>
              <a:t>RTGWG - Jan 2017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ur Patel, Arrc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e Lindem, Cis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wn Zandi, Linked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nter Van de Velde, Nok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ek Yeung, Arrc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hay Roy, Cis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u Venugopal, Cis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9E61-0871-4943-BC83-356A8C35C0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10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ering Model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55560" y="1066320"/>
            <a:ext cx="794088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P sessions with Route-Reflector or controller hierarc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discovery/liveliness detection outside of BG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 hierarchy can be less than fully connected but must provide 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not be dependent on SPF for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er could learn the expected topology through some other means and injec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F Computation is distributed th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“Jupiter Rising: A Decade of Clos Topologies and Centralized Control in Google’s Datacenter Networ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3E68-7128-4B78-8E67-C4F6CE955E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10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xt Steps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55560" y="1066320"/>
            <a:ext cx="794088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rther discuss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labo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 Draft ad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2EA0-F95C-426A-A803-4FA4A642BB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tiv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55560" y="1521000"/>
            <a:ext cx="79408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ly Scalable Data Centers (MSDCs) have implemented simplified layer3 ro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rational simplicity has lead MSDCs to converge on BGP as their routing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support to announce both the underlay routes as well as the overlay routes using separate AFI/SAF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alized route control using some controller-based solution for simplified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340F-35C7-462A-8BBF-47155A601F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tivation (Cont’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55560" y="1521000"/>
            <a:ext cx="79408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ute Controller has a similar functionality as a Route Reflec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Reflect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Database for policy enforcements, managemen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ever Route Reflector (not in the forwarding path) assumes a presence of an IGP protocol that help resolve bgp nexthop and its adjacencies for its cli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P’s SPF builds directed graphs that ultimately resolves non connected next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GP based MSDCs solves this problem by establishing hop-by-hop (in-band) peering sess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hop is always an address of a directly connected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posed solution helps towards deployment of Route Controllers and yet preserve operational simplicity by using BGP for underlay as well as the overlay rou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85F4-61DE-4E44-9DD5-663453B202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7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vantages of BGP SPF over Traditional BGP Distance Vector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55560" y="1904760"/>
            <a:ext cx="794088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have complete view of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when BGP is used as an underlay for other BGP address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network failures (e.g., link) need be advertised vis-à-vis all routes impacted by fail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converg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ca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F lends itself better to optimal path selection in Route-Reflector (RR) and controller top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8A8B-FB56-44F2-822F-D35F9C0EAA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tages of BGP-Based 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5560" y="1521000"/>
            <a:ext cx="79408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ready movement toward BGP as sole MSDC protocol as evidenced by “Use BGP for Routing in Large-Scale Data Centers” work in RTGWG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bust and scalable implementations exis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e Acceptance – minimal learning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le Trans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uaranteed In-order Delive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al Upda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al Updates upon session rest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Flooding and selective filt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s itself to multiple peering models including those with Route-Reflectors and Controll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84FB-FD60-48FC-B027-053E5E2BFB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tages of BGP-Based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oller 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55560" y="1521000"/>
            <a:ext cx="79408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rse BGP session topology with session paths for redundancy. Two cas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channel to every nod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y of Route-Reflectors which are directly or loopback connected (with static routes for the latter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GP SPF used for underlay with other BGP AFs used for overlay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er convergence of underlay and services in BG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ler also used for end-to-end traffic engineering paths possibly spanning other networks (e.g., core or access)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84EF-A1C4-4747-BA55-4264C6A753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GP based Link-State Rou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55560" y="1521000"/>
            <a:ext cx="79408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d a new SAF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RI format is exactly same as BGP LS Address Family to carry link state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GP MP Capability and BGP-LS Node attribute to assure compatibility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Peering Mod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GP runs Dijkstra instead of Best Path Decision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0C09-33C1-4DB6-9525-950F12F50C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GP Best-Path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55560" y="1287360"/>
            <a:ext cx="794088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-Hop and Path Attribute basically along for the ride for BGP Link-State Address Family any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be announced based on RFC 4271 error hand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Process Phases 1 and 2 replaced by SPF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Process Phase 3 may be short-circuited since NLRI is unique per BGP 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ssure the most recent version of NLRI is always used and re-adverti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ed by existing protocol mechanis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F810-1070-4DD8-B12B-6D26E65CC6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GP SPF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55560" y="1287360"/>
            <a:ext cx="794088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with greatly simplified SPF with P2P only links in single area (i.e., SP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scale very well to many use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support computation of LFAs, Segment Routing SIDs, and other IGP fe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GP-LS format includes necessary Link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-State AF is dual-stack AF since both IPv4 and IPv6 addresses/prefixes adverti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GP-LS format also supports VPNs but SPF behavior not defi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needed to define interaction with existing unicast AF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tter of local implementation poli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91F3-4FCE-4B73-AD9D-CEA4245590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7T11:54:35Z</dcterms:created>
  <dc:creator>Vishwas Manral</dc:creator>
  <dc:description/>
  <cp:keywords>Crypto</cp:keywords>
  <dc:language>en-US</dc:language>
  <cp:lastModifiedBy>Keyur Patel</cp:lastModifiedBy>
  <dcterms:modified xsi:type="dcterms:W3CDTF">2017-01-24T18:35:07Z</dcterms:modified>
  <cp:revision>373</cp:revision>
  <dc:subject>Crypto Auth for ISIS</dc:subject>
  <dc:title>IS-IS WG</dc:title>
</cp:coreProperties>
</file>