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321B-B85C-43BB-9014-9ACC7842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22D3-2DBA-4EB4-ACB2-161E323F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8E3-39CE-46AE-910F-1753979F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E6C-69F5-4D8D-9F81-B06858E5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061-B9D5-47CF-AFDB-DA914C4B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C65-A3FD-4433-8011-EEA7D61E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E6B-13B6-4C09-9AD9-C178775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AD3-4E24-4269-BBC5-F8206A2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0DA-B487-4BB1-AD68-2EA31DA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3F8-7865-46A2-81DF-D7B61D2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5DD-3085-45C7-9D8F-380DC6FD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82A-B42B-499F-B317-15345E8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50E-B11B-4386-BD33-85841E7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C73-961C-4E68-8EBC-7A0C681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4F94-F2E0-4C4D-A736-D2DED8CDDCFB}" type="slidenum">
              <a:rPr b="0" lang="de-DE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 Intent discu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0 March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ent Ciavag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the following questions in support to our discu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(written/offline) inputs to the questions may be useful for further develop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o write the intent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many intent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many domain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gree on levels/hierarchy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/by what is intent processed/compiled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ooding: what are the requirements?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pagation among who? How? Frequency... -&gt; if many “overlapping” intents, (partial) updates may become frequ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understood by node/ASA...? -&gt; model, dictionary..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n an ASA write an intent, e.g. for another ASA?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bout coordination or knowledge writing/receiving intents? Are these functions ASAs/other things.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e right 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ze network enrol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nge VM guest distribution so that (CPU) utilization is &lt; 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prefixes to RAN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premium users traf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ize energy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try to combine 2+ intents together and map them to corresponding nodes/ASAs, and imagine what conflict/overlap may occur and how to solve them using different conceptions / functional design of how intent may be  arranged in an ANIMA networ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23:25:57Z</dcterms:created>
  <dc:creator>Laurent</dc:creator>
  <dc:description/>
  <dc:language>en-US</dc:language>
  <cp:lastModifiedBy>Laurent Ciavaglia</cp:lastModifiedBy>
  <dcterms:modified xsi:type="dcterms:W3CDTF">2019-06-14T05:23:01Z</dcterms:modified>
  <cp:revision>5</cp:revision>
  <dc:subject/>
  <dc:title>ANIMA Intent discussion Virtual meeting</dc:title>
</cp:coreProperties>
</file>