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3AF8-FBE8-426E-9B37-D935DCEC4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AB86-C1E3-425D-826B-1AF41DDE4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4CE-0ED2-4DB5-A8F2-A331B63C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322-2069-48FA-8401-1F8D62E1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750-0FC3-4F8F-8B83-B461E51C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B25-AA0A-4D58-936E-D56875F5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F8F-A49C-4700-B250-4AE63B27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FF0-2DE0-4B1D-A4B0-668FBA2D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5E0-47C0-4D1F-8D23-BF03B6C6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3CD-2E71-4C78-8E1F-C3FA385E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CED-4724-42D9-B293-51178DD4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DD7-8AD1-4B26-BB2E-41C173DD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88A-C302-496A-9C74-8B559E7D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0E3-15AB-42CC-8E1B-8B923C2C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776F-C28E-462E-8937-1DB22D30483C}" type="slidenum">
              <a:rPr b="0" lang="de-DE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 Intent discu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30 March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urent Ciavag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use the following questions in support to our discu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(written/offline) inputs to the questions may be useful for further develop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o write the intents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many intents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many domains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gree on levels/hierarchy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re/by what is intent processed/compiled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looding: what are the requirements?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pagation among who? How? Frequency... -&gt; if many “overlapping” intents, (partial) updates may become frequen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understood by node/ASA...? -&gt; model, dictionary..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n an ASA write an intent, e.g. for another ASA?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about coordination or knowledge writing/receiving intents? Are these functions ASAs/other things..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e right 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ze network enrol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ange VM guest distribution so that (CPU) utilization is &lt; 7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prefixes to RAN n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 premium users traff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ize energy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try to combine 2+ intents together and map them to corresponding nodes/ASAs, and imagine what conflict/overlap may occur and how to solve them using different conceptions / functional design of how intent may be  arranged in an ANIMA network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23:25:57Z</dcterms:created>
  <dc:creator>Laurent</dc:creator>
  <dc:description/>
  <dc:language>en-US</dc:language>
  <cp:lastModifiedBy>Laurent Ciavaglia</cp:lastModifiedBy>
  <dcterms:modified xsi:type="dcterms:W3CDTF">2019-06-14T05:23:01Z</dcterms:modified>
  <cp:revision>5</cp:revision>
  <dc:subject/>
  <dc:title>ANIMA Intent discussion Virtual meeting</dc:title>
</cp:coreProperties>
</file>