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 type="dt" idx="7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5"/>
          <p:cNvSpPr>
            <a:spLocks noGrp="1"/>
          </p:cNvSpPr>
          <p:nvPr>
            <p:ph type="ftr" idx="7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6"/>
          <p:cNvSpPr>
            <a:spLocks noGrp="1"/>
          </p:cNvSpPr>
          <p:nvPr>
            <p:ph type="sldNum" idx="7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9ECFF-FFDF-468D-8F23-772C1BC48A1F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16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9FA5A-E88A-49E6-9CE9-C1144419B821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2F63-06A6-4D1B-8A1F-98EC69E1C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5BC2-1AD4-441B-A928-F19567223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0A774C-3E24-4470-8A5A-B908ED35A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5A8AD1-E99C-4607-B138-F9E987AC7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5C5006-6A22-4E92-8327-6CF532A6B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E44241-3C60-4F1E-B4E2-98E8D93DC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EFBF61-F877-4918-A403-9E25630D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0C5729-69FB-4F0C-81F3-0E75C115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14AAA1-90A5-45F6-9C4A-D47C8BD32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C1F3FB-0EB8-4669-93DC-3BC660478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CE317C-EDDE-4657-BBCA-C9CA93FA6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664C9A-0992-4BDF-AF15-303653C1D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9FFD-E5EF-4D33-9F9C-FF7100DE0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FA27DF-E200-4640-8C5D-A83FB53C9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5DC6DF-D1CC-4CFF-A8D6-D68C3D7EF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BCDAE3-C6F9-43EB-A0B6-CF549B946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0AF4DB-86A3-406F-97D7-AFD98AD82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86A0E1-6A1F-4D4A-B96B-0C3A56DE3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171C6B-57A1-4D0F-AB60-EDAF2265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64E522-22EA-485D-83D0-F69014FF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56F128-C560-422D-AD7E-BF9D18A8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BF07E6-FE3E-4031-9BAA-A556C018E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EAC704-5DDA-4BBF-B3B6-A3EFA5C87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65ED-67D6-427F-B2C4-B2AFEB984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76FF36-00D5-45AD-98CC-8864B3828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012027-6B33-4B1B-B4C0-DA42CD2D7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969608-803F-44BB-9C34-7E16AB0AC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922581-5850-481E-9B8A-0CCEE32A0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812971-D8A8-4384-BF19-70D3CE038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8FDD43-1BFF-47EC-9A94-F2DFF2C10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64FF1F-C913-4ED9-A04E-82882DBB3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FDEFCD-213E-4898-B482-5E8F253A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65E650-1B89-45BA-A27D-17629ED8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524EE7-350C-4EFE-A37B-06CBBF78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47E3E-53C1-412C-9D7D-877EC486B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D61B8C-A721-4180-9D09-1DFBCAB78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2DF0F3-DF9C-48DC-8B22-D9E12014A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2D8D8F-C706-4916-A7BE-E5E30073A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D9C60B-A0FA-4636-890F-027731DDE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0C74A3-2CD2-4C33-BE53-E6887BE3B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F11BE1-E14C-4622-86A6-8D9E71394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3F8481-9FB2-41D3-BAF1-DD3B1DAF8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3006E9-FD4C-42BE-91D8-FE7A1F62D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A3E9BF-22FF-47CA-B792-C8C91385C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893414-E376-4B5D-863C-68CE33CE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62D34-FB6E-4B12-BE64-2ED571C64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151BCB-CB09-49BB-9BC5-31EDA942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A45E42-5DFB-47F3-867F-E77A7CE0B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F916C6-2348-4B41-8B68-CBDF5F3DA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EB9DD9-E25D-4BA4-966D-7C2361533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C101C3-C598-46D5-A46E-6FCBCA909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645C1E-4D30-4512-A00B-9DE0532F5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2B47AD-B11E-4D15-88EB-4FB333253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A18CD2-6992-4DF0-A8B7-2BF0F2166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160816-08DE-4B58-8FB8-A35E625F0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77242B-F14E-445D-9693-97071BD9F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B0E02-C092-41BA-8556-90F12AE1B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C58DD5-0818-4ED7-B6C2-0B9E4DFB1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0A06F2-78E2-4A12-9479-FD4DACD1C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91940B-A216-4A25-B4AF-EA73645D4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707697-1437-447A-9988-D80E2FD68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C827EA-E16E-455B-B995-66104080F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5AC5C4-AA80-4AFD-9F1D-D21C5E858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FF0A2C-9AC0-4713-8DA1-919A1F2EA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9EA39A-4E20-4FDF-8128-9714D02AA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D96326-FD5A-4886-A742-512DD6825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FC9410-F3A5-4736-ADB1-5E8DE14F2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8E9BB-2AFD-4936-B66F-8959F3D9F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7EC2AC-142B-4C36-AE25-2C8423C7E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6D91D8-C802-4F99-A4D0-164BEB9E2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7A9517-AAA1-4A60-A6BF-0EDF11F01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E901A7-5243-4E8B-8834-1EA74A139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194CF4-713D-4750-B969-A214BCD9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EF099F-C079-4021-94E0-4B8B1765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55868C-FB01-43F5-8E3B-12F63268F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A35CB2-9C0A-4441-8D57-F4D8AC244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8EB9BA-6BF5-4D93-8816-6CB9E731B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44C521-C2EA-4491-9BE4-A457B65B7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4609F-88FE-49FF-A4FE-32212B67D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BB1A7F-1DF4-4A63-9430-ED214EB44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18B763-AA51-4AEE-821E-44E5A8332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CFF7AF-8505-436D-AB8C-87B13F2AC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E230D8-933B-44BF-8ED2-C00814689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79AB6B-32AB-4335-AEA1-4D9F69F3D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3F80E0-612E-4A6A-BC26-C11DE9DA6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ED2B11-1A5C-4D65-ABFC-4EC53D504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D00A54-B6E8-4E7A-8185-25A2334B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2AB87F-EE14-47B3-A963-0E1E70420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208194-410C-465A-88A4-5CDE5D77A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8C5C6-9353-4B38-89F9-2012A32A7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437AC5-5C8B-4BCA-96BF-793431614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31DD11-39AB-43F4-ACDD-730893648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AA711B-B979-4C0D-B4C3-0A4CD3D5B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FEF6F4-52CF-4180-A1C0-C256438BF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44006A-79B3-493A-8E88-D063F3C64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510A7F-C378-4694-9859-86DC1475F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40D5FB-1799-4E74-BD9B-B9DCD8DF1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EE3D5D-7025-425C-8A19-98BFCF363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226157-5094-4E08-937C-52D4D2BC9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7EBC7B-65DA-40CF-AD53-22644158F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2FD26-0486-4B8F-B629-940AC5773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E2C75D-E9B1-4A24-9652-7FDD14BFF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79BC2A-E122-4A1D-8E69-9FA6318A1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B24649-A38D-4705-B241-8CB0BA808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CDBB72-613C-462A-A0D8-8A8E3A670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B9F217-E7DF-4ABF-AEFA-E711CC051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5FCEE4-1058-4A90-96CD-1EF65B5D6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389799-B89B-4DB0-9016-CCC64ED05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A9C93C-2AFD-4C08-9DAA-E691BDD7B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90AF32-2438-453A-B972-70A9AB99B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E8F0A3-459F-4A43-ABD7-462E830CB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37D4-ED7B-496A-802F-43E7EB562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4F651-E80A-4C33-AA3E-CA6DE28F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9916F2-358D-4635-8406-75DE4F9FD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913399-5CE7-4C1E-9677-8BDF9ED0F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15C5E3-51EE-4B2A-BEB0-2C0D28784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5A35C1-96A6-4C0F-B19F-C12B14EB1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87B29F-8D30-4B17-AC1B-99A2EF880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E5B6F4-D55D-4934-9BFC-B41E5685E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BBB953-28D6-42FA-823A-5A845966E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494177-0BAB-4F2A-8480-5DAAD1CBE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D7D00E-BF64-4BF3-8192-155CABF0B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5301A7-2290-4FA3-ADAB-660A66C1A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83BC5-73FC-4C33-8041-960CEAC3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CAEBE1-3E48-4288-96B2-A467A73D8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8BE518-BA1A-4F05-99B0-6F96170C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86BB15-8F3B-45E7-817F-089E9C729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C70EC9-A89B-469E-B499-5CC6A8EBA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13B514-9CF8-483B-B121-C975CCA66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7CA476-29DA-41DE-83DC-1D8770F55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2A7E61-2147-426F-8AF1-73BB3419B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738288-2152-4EC8-AF5D-4CE7D4CEB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CBAC6B-8ADD-49B9-9B0D-FEBA823C4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A81EB8-97AB-43D6-B3AB-9941CA58F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B63D8-F5AD-48F5-A1D2-A208ABA4C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074A53-84AE-4EC6-80B2-2388C4962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A2B6AD-45FC-4CDB-90E3-DE4BACFDA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CA2C31-0477-4AA9-83B5-5FCFAF35F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145CB5-026A-4CCB-90C7-2F7037310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12B517-4439-45F1-805D-8537075EB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EAFDFA-FABB-46FE-BA12-97ACC31B4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7D1849-BA96-4727-8AB2-2CE30E152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BD58BA-7800-431A-8004-D420D3A6B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2813C2-FE55-49CF-8224-47E29C4F4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7E7562-3DBF-45A8-B2EE-ACEB156B0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6BC5D-1297-4701-BB31-248A1E275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6B2EA1-9D9D-4CFB-A276-554D87C3F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BA650C-9DDA-496E-B841-69F34A9CE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A91CA8-D3B4-4765-9FD0-FBECE59D2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C961DA-F40E-4F19-8D34-4843039E3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6FDF4E-4B63-43EA-B934-5EB019974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CA704A-6B6F-412B-9FD1-CD56B618B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C87FB4-371C-4CE2-83CB-49911B7E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907B81-DAA4-40B7-8259-A374D932A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5AB15C-0493-4039-AD45-0BC01B537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CBB897-54ED-4F82-93B1-1C46FA945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E44B6-849A-4EF8-A980-80C779627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201D35-FFE5-4D99-A00A-ED401CD40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6B01A6-CF5A-4C69-A476-A13F8831E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606341-3A5B-4449-BC64-C8D95BE0C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4936961-65B8-4AF8-B3AE-ACD25A3DE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CA26A0-30EE-4A22-AE5A-9002527A5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3BCEC8-F590-4196-9EB9-637986342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C769CD-4806-4546-BB39-C33D98104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008A9F-731D-4043-8890-32D060461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639ECA-19ED-49F3-BBA2-2EC6767B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F2BB85-37BB-41A3-AA50-BD27B99EF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5BB39-ED19-4AFD-9563-A88F50E8B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3CCDCE-CC1B-440F-862A-14088AA9D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0103EA-5AE7-4238-973B-F526C3F34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F4DD9E-ED7A-46D4-AAA3-3BB6F2063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60933F9-C47E-42DC-916D-B55DBBFE5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A93D8AB-0683-4E29-89C9-152175A10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9BFCCCF-5F1C-4BAC-B998-D6BE37733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5A68E31-CED8-4D6C-AFBE-5141E6C48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6EF4490-B87E-4EE8-8F48-45CE567B2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66EFFDB-C8E1-4551-BCD9-3E23B3BFA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F1FAAA2-A30E-4A53-82BF-7339DEFB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8634F-68D2-4994-996B-9C3C108AD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74A46AD-D949-4DE1-A14D-48103C34A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5FCEB99-24E4-434A-A17A-C9805EA13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5B42ECA-4AD1-4656-BE9F-79F644120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7483820-7DD1-4CAC-AE4D-906CBCCB7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348B538-5856-48FE-A06E-F4DD7F534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F37AD7F-BEC7-49AC-8D8D-51A3F1E7D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88B1C7A-EE60-4AF0-8FAB-AE49FD205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79A41A6-C971-43F0-A413-758D11698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F8BEB38-33F8-4702-BADB-0DAD710EC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411F0DF-41C2-4BA4-B9C5-5D5A12888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4B2D3-011F-4256-A0F3-09133C84C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EB97039-A2CF-45BE-93FA-7D8D72F99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3C8D9A6-74BC-4AFA-A178-2A3158444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2785E33-CC6E-4AA2-88D7-FA0AAA05F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46FECFC-B5DD-4B37-886D-0C876BC83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6264F81-0D78-452B-9024-5CA813A89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53E24EA-8607-4738-AB39-EF7D2F30E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CCEB78D-225D-4C1B-95B0-0F9F5418B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2869BB0-81AB-4E9E-8661-500E0EB6C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18D57A3-2B90-4FE2-B479-8519B4EAA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29A79A7-72CA-4AC5-9D1D-046537CB6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CD93C-490C-4ED0-A98E-CD4920B38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C12B61E-19BF-4F42-A7F4-1B88A557B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27704CE-6FBE-4019-AE8D-75053ECF1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8FDFAFB-4B41-45D4-BF3A-8CF59B170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0C14D5A-ED9C-46F0-941C-A10E03889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217ABDF-9CC3-49F3-970F-6EF3C52A2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EE65ED9-0EDF-4D8B-9A30-3AB4D363B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F43A4E2-5DF6-40CD-9688-FA200FB12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30F3B0C-B0E2-444A-8E44-0DA20CD9F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0DD76C8-1491-44E3-A0DB-5E1E12733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CEBACC7-ED1F-4EE6-AF53-F9AA2B3AA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273BA-51B1-452F-A598-EC3060099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5CAD6BA-2619-4805-A35F-B5A005813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A3B7F4C-D880-4E43-B28D-0FF21B94B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C35AFE0-375E-45A1-8314-9A96F8893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591F6BC-A628-407E-8B95-E785BF038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75ADD1C-5ADC-4280-88E5-5D4074FFB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DEACC99-443E-416E-BC4C-CC8FE01D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546D5BF-B0F4-499B-817C-6680D61CF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F5570FC-4378-450A-9485-274D81317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79F4045-0D92-4D8F-B6D5-0BA2FC40F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E7F05A0-B1C3-4624-8D25-67F39077A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916B-4A9E-4224-9890-C80E8FEBE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04AFA-E52E-4D06-B261-F23361FE3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FF95754-FBCD-4018-8DEE-1C92DFBFB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11DD3-EBBF-4374-8291-020FCD5E5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FBFD4-3F71-4A38-A9CD-DA746E8A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5DE81-7760-401F-98F4-A170E497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366BC-1D69-4482-828B-075BF1B66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20E3E-314E-4112-9262-53141B8E8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A1455-87E0-4F50-B462-B33189F32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F2F90-371D-407C-9ECF-D6004C3F9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02BDA-04CF-4F79-92D2-4581E6F12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CB7C8-7E0E-41C7-9B7E-B187E8485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988C-E79F-4436-AE10-B07B94281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E3AB54-6847-4BE8-B495-2C42324A7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56F5B-C2BD-4A95-9927-3C692060B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F1A79-21BA-4390-A2AD-CB04D93B9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EE3D5-D3EE-46CA-9793-01576852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2F074-8644-44B9-9898-0B3CD3020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75041-92B0-42A4-A8B4-CE3B67649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F4049-4216-4F42-A892-0DAC88D46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31448-ADF3-4D55-9DDD-8AEFB336F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2C3E5-64C8-4669-88C0-3770D5E92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4A4083-EC86-4460-91FD-91EEEBDD1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DBEA-C794-4723-BDF8-6A7B388AD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026B0-805F-42FA-BB39-4E80D0C9C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F9F3C-3C9A-4A8F-985D-AA62F6D66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EFF3AA-98D5-4446-860F-E3F15123C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1ACFF1-B021-4640-B188-CE50F3B8A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C4CBC4-BDCF-4533-8642-622C951FF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717E5A-FAE4-47C8-ACAA-66538CE7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93A88-C037-4593-B17E-9E394EA42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B840E-FA84-4D9A-9E3C-9DD3DD95E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969501-590E-454D-A43D-3A800F09B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B7944F-3104-4114-8012-7343627C0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9C20-82F0-436C-9A50-B0DD4FDA0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F4F4C-07A4-4CC1-8196-C366590F2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7EB05D-68E2-4875-A35C-0F89591C7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CD38CA-A28E-4EAE-8AF5-D64C847A1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755025-6E3A-4955-96D4-51189D8E6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CE7AE9-B98A-40E9-8E48-CA00B4CCB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BFBDC0-F0F6-4890-914D-B715754EA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F6B4DA-31DA-4E16-93D6-F36BB8579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C72E6-DA43-499C-96D9-6EF15985E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5C3430-1E27-45F4-B8BC-812519DF1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AAEC7C-8298-4D95-B20B-46B9E4C73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50F3-CE19-4D25-9EEC-6E1514CE8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6670EF-112D-475F-91D7-E38769DF3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67DB6A-75BC-42A3-B70E-206BE3CF3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623BC7-DF79-4071-98D0-AD56DC990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716BDC-8DCC-4D0A-9CC6-05446E249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09AF0E-93C3-4B87-AC7A-565CA2A2A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DB3D29-781B-4F8F-8069-044D8F9A2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9C6B8C-F38C-484D-B132-8DB644EB8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D65599-8C38-4FF5-A41E-9ADFEF32E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1FF829-C490-47E3-9A6F-35A10432D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9937A8-28A1-4CA7-B10B-1DDB3F664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9A3E-6E17-42B9-AE5A-F9510EA0C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463786-7E63-48E3-B227-5AA955FE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175AE1-BFE2-4B22-9350-9DCA7F53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183F8C-2747-424D-B94A-F9A2619CF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700A2D-DA41-44D3-B3EE-FA2EDE0E3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6CCB84-FD9D-4B4A-A9EE-FF64262FC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761A07-82A2-4E5F-A729-AA13CF5BA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FB195A-CFAA-48D7-BBCD-87C76A69D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92B57D-A4C5-4A15-9B97-D2714A566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8298B3-BFB2-45F8-A958-4C02BD15E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FC62B8-9AB3-4717-B015-05DB13898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C546-6E31-4190-BCBD-14AA8E0AA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3164B0-BA45-49C7-9034-6B1DDD5AF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FE44D8-EF69-4CA0-BB67-CDFB12E7E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2E7B14-61CF-4443-AFA3-1EEA0D62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C8D582-F4BA-493D-BD40-7513C6BD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CCA41F-F62D-409F-BFF2-88D8DF0BE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E636E4-624D-41F1-9F95-7E2524FD2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673615-67B3-4A9C-94C4-B9C949C65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7CC7B8-8AF8-405A-A60B-8B79680B0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2263AF-E3E4-4E31-B795-1CEE5D8FA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B36EEB-0F23-4BE7-ABB4-B30A562AB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ETF107 BESS Virtual meet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3A330-1768-421B-8F42-25DF1B7B92B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2F3AC-6A9E-4F85-B0DD-568B6AB7CCC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CD0B0-488C-49A0-82E1-EA865EF8B00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3A209-4D65-4F78-BCA0-001C647A270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A012D-ECF1-4365-A43E-640F8615FC9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9C0C6-300E-48C7-8162-72D3CE5D124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5600" indent="-25560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55480" indent="-21240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855720" indent="-1699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198440" indent="-16956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fld id="{1D763179-64D3-44CD-B45E-68E809E44C6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NETCONF IETF 103 Bangkok Nov 03 - 09, 201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en-US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fld id="{912370B2-8D1F-4017-96BC-35FD7B0648B4}" type="slidenum">
              <a:rPr b="0" lang="en-US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5600" indent="-25560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55480" indent="-21240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855720" indent="-1699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198440" indent="-16956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fld id="{20E9FB0E-0CDF-439C-A7AE-329F7FC5155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NETCONF IETF 103 Bangkok Nov 03 - 09, 201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en-US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fld id="{42350C12-F6E4-4D5C-9018-B8722A259ABB}" type="slidenum">
              <a:rPr b="0" lang="en-US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5600" indent="-25560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55480" indent="-21240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855720" indent="-1699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198440" indent="-16956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fld id="{0D5BB104-AF0C-4219-BBB3-48F97041E7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NETCONF IETF 103 Bangkok Nov 03 - 09, 201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en-US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fld id="{5EFEC2FA-759C-46CE-A552-450A3849C3DC}" type="slidenum">
              <a:rPr b="0" lang="en-US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5600" indent="-25560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55480" indent="-21240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855720" indent="-1699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198440" indent="-16956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fld id="{1C664BE5-46C0-4B10-8ABE-605CDB06B7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NETCONF IETF 103 Bangkok Nov 03 - 09, 201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en-US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fld id="{F5723C14-7190-4425-87E9-7A5EECEDCFA8}" type="slidenum">
              <a:rPr b="0" lang="en-US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5600" indent="-25560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55480" indent="-21240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855720" indent="-1699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198440" indent="-16956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fld id="{A77D3E5E-DAED-4ACD-BF0A-63903507600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NETCONF IETF 103 Bangkok Nov 03 - 09, 201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en-US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fld id="{8DC6B79F-44F5-4EBB-ADFD-C3664B4C1127}" type="slidenum">
              <a:rPr b="0" lang="en-US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88DEB-0F5B-4DDB-971B-D0AC3B2F0E5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5600" indent="-25560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55480" indent="-21240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855720" indent="-1699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198440" indent="-16956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fld id="{AD45A8DB-C996-4E67-AD95-A6485DB93FA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NETCONF IETF 103 Bangkok Nov 03 - 09, 201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en-US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fld id="{1269687E-B484-4631-999F-140A91E87D9D}" type="slidenum">
              <a:rPr b="0" lang="en-US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5600" indent="-25560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55480" indent="-21240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855720" indent="-1699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198440" indent="-16956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fld id="{9360514D-DD0F-4282-82C9-1ECE2B2234D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NETCONF IETF 103 Bangkok Nov 03 - 09, 201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en-US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fld id="{ED23AF92-8638-4F8D-928A-79AACD82A448}" type="slidenum">
              <a:rPr b="0" lang="en-US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5600" indent="-25560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55480" indent="-21240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855720" indent="-1699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198440" indent="-16956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fld id="{D5CABB42-2DB3-435A-8782-5896927A60C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NETCONF IETF 103 Bangkok Nov 03 - 09, 201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en-US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fld id="{CADE2891-A1DC-4513-BED4-5157F3B00747}" type="slidenum">
              <a:rPr b="0" lang="en-US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5600" indent="-25560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55480" indent="-21240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855720" indent="-1699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198440" indent="-16956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fld id="{8F9B89DC-1066-4243-8891-C305C3A171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NETCONF IETF 103 Bangkok Nov 03 - 09, 201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en-US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fld id="{A9155000-5A8E-47B2-A30D-DE153595FE54}" type="slidenum">
              <a:rPr b="0" lang="en-US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5600" indent="-25560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55480" indent="-21240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855720" indent="-1699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198440" indent="-16956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fld id="{E0446DD4-A047-4F9A-9C05-DF9743CFDD0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NETCONF IETF 103 Bangkok Nov 03 - 09, 201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en-US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fld id="{AE48FD5B-6DCC-4DC2-8F5E-ABD928F704D5}" type="slidenum">
              <a:rPr b="0" lang="en-US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5600" indent="-25560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55480" indent="-21240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855720" indent="-1699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198440" indent="-16956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fld id="{A38BEE87-FAA9-44C2-AF4C-EBA821A92B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NETCONF IETF 103 Bangkok Nov 03 - 09, 201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en-US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fld id="{ED3E8DBC-7925-45BB-B1E0-BF98C476E415}" type="slidenum">
              <a:rPr b="0" lang="en-US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5600" indent="-25560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55480" indent="-21240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855720" indent="-1699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198440" indent="-16956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5600" indent="-25560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55480" indent="-21240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855720" indent="-1699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198440" indent="-16956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  <a:defRPr b="0" lang="zh-CN" sz="9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fld id="{837462CF-6613-4D0D-8D56-B55A82DB1846}" type="datetime">
              <a:rPr b="0" lang="zh-CN" sz="900" spc="-1" strike="noStrike">
                <a:solidFill>
                  <a:srgbClr val="898989"/>
                </a:solidFill>
                <a:latin typeface="Calibri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  <a:defRPr b="0" lang="en-US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alibri"/>
              </a:rPr>
              <a:t>NETCONF IETF 103 Bangkok Nov 03 - 09, 201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  <a:defRPr b="0" lang="en-US" sz="9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fld id="{169E796A-4631-4F7A-9447-C02BE4407434}" type="slidenum">
              <a:rPr b="0" lang="en-US" sz="9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1F8FE-51FB-44CB-B80A-7E4D4F249D3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B6911-BD58-46BD-B76D-C7C90B36F17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E88B4-B4F7-47F6-8098-5CCF5346FCD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4C2E9-D61F-417B-A57F-198A11E8663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2CE38-4A96-4976-950A-426B954375D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7E6C8-1439-4908-8D76-6E06B5D2DDE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3.png"/><Relationship Id="rId13" Type="http://schemas.openxmlformats.org/officeDocument/2006/relationships/image" Target="../media/image4.png"/><Relationship Id="rId14" Type="http://schemas.openxmlformats.org/officeDocument/2006/relationships/slideLayout" Target="../slideLayouts/slideLayout30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673200" y="1433160"/>
            <a:ext cx="7772400" cy="153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A YANG Model for Network and VPN Service Performance Monitoring</a:t>
            </a:r>
            <a:br>
              <a:rPr sz="4000"/>
            </a:b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raft-www-bess-yang-vpn-service-pm-06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1247760" y="4107960"/>
            <a:ext cx="6400800" cy="19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Qin Wu (Huawe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Mohamed Boucadair (Orang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Oscar Gonzalez de Dios (Telefon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Wen Bin (Comca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hange Liu (China Unico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onglei Xu (China Teleco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ETF 1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pril 28, 20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61CC3-D958-425A-8501-4BEA8EB63D4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ETF107 BESS Virtual meet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30200" y="-360"/>
            <a:ext cx="789768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Re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 txBox="1"/>
          <p:nvPr/>
        </p:nvSpPr>
        <p:spPr>
          <a:xfrm>
            <a:off x="112680" y="649080"/>
            <a:ext cx="893304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ower layer Network performance measurement protocol and methodology for Ethernet traffic, IP traffic, MPLS traffi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P traffic performance measurement protocol such as OWAMP, TWA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P traffic performance metric such as one way delay, roundtrip delay, loss, PD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MPLS traffic performance measurement such as MPLS loss and delay measurement for MPLS[RFC6374], MPLS-TP loss and delay measurement[RFC6375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Ethernet traffic performance measurement such as Y.17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one of these performance monitoring mechanism can be used to report service level or end to end network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is document defines a YANG model for both Network Performance Monitoring and VPN Service Performance Monitoring that can be used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onitor and manage network performance on the topology at higher lay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or the service topology between VPN sit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ETF107 BESS Virtual meet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A7051-DFD3-44C1-9786-C8189E9812C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4928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Status update since Singapore meet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"/>
          <p:cNvSpPr txBox="1"/>
          <p:nvPr/>
        </p:nvSpPr>
        <p:spPr>
          <a:xfrm>
            <a:off x="136440" y="691920"/>
            <a:ext cx="8856720" cy="56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  <a:ea typeface="宋体"/>
              </a:rPr>
              <a:t>Firstly discussed in IETF 103 BESS meeting in Bangkok and there were consensus to adopt this work as BESS work item and It was in the queue for WG adoption.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  <a:ea typeface="宋体"/>
              </a:rPr>
              <a:t>Secondly presented in IETF 106 TEAS meeting in Singapore and solicit input and feedback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  <a:ea typeface="宋体"/>
              </a:rPr>
              <a:t>Update since last version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宋体"/>
              </a:rPr>
              <a:t>Add Mohamed Boucadair and Oscar as new coauthors of this draf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宋体"/>
              </a:rPr>
              <a:t>Add VPN summary statistics parameters at the network level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宋体"/>
              </a:rPr>
              <a:t>Add reference time and measurement interval associated with performance measurement dat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宋体"/>
              </a:rPr>
              <a:t>Replace average-delay-value at the link level with low-delay-percentile, middle-delay-percentile and high-delay-percentil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宋体"/>
              </a:rPr>
              <a:t>Replace average-jitter-value at the link level with low-jitter-percentile, middle-jitter-percentile and high-jitter-percentil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宋体"/>
              </a:rPr>
              <a:t>Add low-percentile, middle-percentile, high-percentile at the network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宋体"/>
              </a:rPr>
              <a:t>YANG data model change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标题 1"/>
          <p:cNvSpPr/>
          <p:nvPr/>
        </p:nvSpPr>
        <p:spPr>
          <a:xfrm>
            <a:off x="106200" y="101160"/>
            <a:ext cx="9448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Use Case:Real Time VPN Service Monito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矩形 406"/>
          <p:cNvSpPr/>
          <p:nvPr/>
        </p:nvSpPr>
        <p:spPr>
          <a:xfrm>
            <a:off x="192240" y="4548240"/>
            <a:ext cx="8813520" cy="19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微软雅黑"/>
              </a:rPr>
              <a:t>Network Performance data source: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微软雅黑"/>
              </a:rPr>
              <a:t>Network device, management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微软雅黑"/>
              </a:rPr>
              <a:t>Performance measurement method: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微软雅黑"/>
              </a:rPr>
              <a:t>IPPM method, MPL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Loss and Delay Measure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微软雅黑"/>
              </a:rPr>
              <a:t>End to end Network performance calculation method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using PCEP solution [RFC8233] [RFC7471] [RFC7810] [RFC8571]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微软雅黑"/>
              </a:rPr>
              <a:t>The goal: Report end to end network performance or service level VPN network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One way delay between PE1 in site A and PE2 in Sit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acket loss between CE1 and PE1 in site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WAN link bandwidth between CE2 and PE2 within Site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文本框 421"/>
          <p:cNvSpPr/>
          <p:nvPr/>
        </p:nvSpPr>
        <p:spPr>
          <a:xfrm>
            <a:off x="6108840" y="2486160"/>
            <a:ext cx="2550960" cy="9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微软雅黑"/>
              </a:rPr>
              <a:t>Measure per link network performance in the underlying network using MPLS loss and delay measurement method and report in aggregated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4" name="Picture 4" descr=""/>
          <p:cNvPicPr/>
          <p:nvPr/>
        </p:nvPicPr>
        <p:blipFill>
          <a:blip r:embed="rId1"/>
          <a:stretch/>
        </p:blipFill>
        <p:spPr>
          <a:xfrm>
            <a:off x="2278080" y="1612800"/>
            <a:ext cx="3673440" cy="1614600"/>
          </a:xfrm>
          <a:prstGeom prst="rect">
            <a:avLst/>
          </a:prstGeom>
          <a:ln w="0">
            <a:noFill/>
          </a:ln>
        </p:spPr>
      </p:pic>
      <p:sp>
        <p:nvSpPr>
          <p:cNvPr id="1085" name="椭圆 365"/>
          <p:cNvSpPr/>
          <p:nvPr/>
        </p:nvSpPr>
        <p:spPr>
          <a:xfrm>
            <a:off x="2405160" y="3726000"/>
            <a:ext cx="2307960" cy="556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椭圆 366"/>
          <p:cNvSpPr/>
          <p:nvPr/>
        </p:nvSpPr>
        <p:spPr>
          <a:xfrm>
            <a:off x="4071960" y="3740040"/>
            <a:ext cx="2309760" cy="55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7" name="Picture 332" descr="图片256"/>
          <p:cNvPicPr/>
          <p:nvPr/>
        </p:nvPicPr>
        <p:blipFill>
          <a:blip r:embed="rId2"/>
          <a:stretch/>
        </p:blipFill>
        <p:spPr>
          <a:xfrm>
            <a:off x="2701800" y="4159080"/>
            <a:ext cx="357480" cy="17640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332" descr="图片256"/>
          <p:cNvPicPr/>
          <p:nvPr/>
        </p:nvPicPr>
        <p:blipFill>
          <a:blip r:embed="rId3"/>
          <a:stretch/>
        </p:blipFill>
        <p:spPr>
          <a:xfrm>
            <a:off x="3476520" y="4202280"/>
            <a:ext cx="357120" cy="176040"/>
          </a:xfrm>
          <a:prstGeom prst="rect">
            <a:avLst/>
          </a:prstGeom>
          <a:ln w="0">
            <a:noFill/>
          </a:ln>
        </p:spPr>
      </p:pic>
      <p:pic>
        <p:nvPicPr>
          <p:cNvPr id="1089" name="Picture 332" descr="图片256"/>
          <p:cNvPicPr/>
          <p:nvPr/>
        </p:nvPicPr>
        <p:blipFill>
          <a:blip r:embed="rId4"/>
          <a:stretch/>
        </p:blipFill>
        <p:spPr>
          <a:xfrm>
            <a:off x="2278080" y="3821040"/>
            <a:ext cx="357120" cy="176400"/>
          </a:xfrm>
          <a:prstGeom prst="rect">
            <a:avLst/>
          </a:prstGeom>
          <a:ln w="0">
            <a:noFill/>
          </a:ln>
        </p:spPr>
      </p:pic>
      <p:pic>
        <p:nvPicPr>
          <p:cNvPr id="1090" name="Picture 332" descr="图片256"/>
          <p:cNvPicPr/>
          <p:nvPr/>
        </p:nvPicPr>
        <p:blipFill>
          <a:blip r:embed="rId5"/>
          <a:stretch/>
        </p:blipFill>
        <p:spPr>
          <a:xfrm>
            <a:off x="2995560" y="3678120"/>
            <a:ext cx="357120" cy="176400"/>
          </a:xfrm>
          <a:prstGeom prst="rect">
            <a:avLst/>
          </a:prstGeom>
          <a:ln w="0">
            <a:noFill/>
          </a:ln>
        </p:spPr>
      </p:pic>
      <p:sp>
        <p:nvSpPr>
          <p:cNvPr id="1091" name="矩形 371"/>
          <p:cNvSpPr/>
          <p:nvPr/>
        </p:nvSpPr>
        <p:spPr>
          <a:xfrm>
            <a:off x="3913200" y="3821040"/>
            <a:ext cx="10238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2" name="Picture 332" descr="图片256"/>
          <p:cNvPicPr/>
          <p:nvPr/>
        </p:nvPicPr>
        <p:blipFill>
          <a:blip r:embed="rId6"/>
          <a:stretch/>
        </p:blipFill>
        <p:spPr>
          <a:xfrm>
            <a:off x="4168800" y="3724200"/>
            <a:ext cx="358920" cy="176400"/>
          </a:xfrm>
          <a:prstGeom prst="rect">
            <a:avLst/>
          </a:prstGeom>
          <a:ln w="0">
            <a:noFill/>
          </a:ln>
        </p:spPr>
      </p:pic>
      <p:pic>
        <p:nvPicPr>
          <p:cNvPr id="1093" name="Picture 332" descr="图片256"/>
          <p:cNvPicPr/>
          <p:nvPr/>
        </p:nvPicPr>
        <p:blipFill>
          <a:blip r:embed="rId7"/>
          <a:stretch/>
        </p:blipFill>
        <p:spPr>
          <a:xfrm>
            <a:off x="4168800" y="4087800"/>
            <a:ext cx="358920" cy="176400"/>
          </a:xfrm>
          <a:prstGeom prst="rect">
            <a:avLst/>
          </a:prstGeom>
          <a:ln w="0">
            <a:noFill/>
          </a:ln>
        </p:spPr>
      </p:pic>
      <p:sp>
        <p:nvSpPr>
          <p:cNvPr id="1094" name="直接连接符 374"/>
          <p:cNvSpPr/>
          <p:nvPr/>
        </p:nvSpPr>
        <p:spPr>
          <a:xfrm>
            <a:off x="4348080" y="3900600"/>
            <a:ext cx="0" cy="18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5" name="Picture 332" descr="图片256"/>
          <p:cNvPicPr/>
          <p:nvPr/>
        </p:nvPicPr>
        <p:blipFill>
          <a:blip r:embed="rId8"/>
          <a:stretch/>
        </p:blipFill>
        <p:spPr>
          <a:xfrm>
            <a:off x="4816440" y="3652920"/>
            <a:ext cx="357120" cy="176040"/>
          </a:xfrm>
          <a:prstGeom prst="rect">
            <a:avLst/>
          </a:prstGeom>
          <a:ln w="0">
            <a:noFill/>
          </a:ln>
        </p:spPr>
      </p:pic>
      <p:pic>
        <p:nvPicPr>
          <p:cNvPr id="1096" name="Picture 332" descr="图片256"/>
          <p:cNvPicPr/>
          <p:nvPr/>
        </p:nvPicPr>
        <p:blipFill>
          <a:blip r:embed="rId9"/>
          <a:stretch/>
        </p:blipFill>
        <p:spPr>
          <a:xfrm>
            <a:off x="5495760" y="3645000"/>
            <a:ext cx="357480" cy="176040"/>
          </a:xfrm>
          <a:prstGeom prst="rect">
            <a:avLst/>
          </a:prstGeom>
          <a:ln w="0">
            <a:noFill/>
          </a:ln>
        </p:spPr>
      </p:pic>
      <p:pic>
        <p:nvPicPr>
          <p:cNvPr id="1097" name="Picture 332" descr="图片256"/>
          <p:cNvPicPr/>
          <p:nvPr/>
        </p:nvPicPr>
        <p:blipFill>
          <a:blip r:embed="rId10"/>
          <a:stretch/>
        </p:blipFill>
        <p:spPr>
          <a:xfrm>
            <a:off x="5173560" y="4202280"/>
            <a:ext cx="357120" cy="176040"/>
          </a:xfrm>
          <a:prstGeom prst="rect">
            <a:avLst/>
          </a:prstGeom>
          <a:ln w="0">
            <a:noFill/>
          </a:ln>
        </p:spPr>
      </p:pic>
      <p:pic>
        <p:nvPicPr>
          <p:cNvPr id="1098" name="Picture 332" descr="图片256"/>
          <p:cNvPicPr/>
          <p:nvPr/>
        </p:nvPicPr>
        <p:blipFill>
          <a:blip r:embed="rId11"/>
          <a:stretch/>
        </p:blipFill>
        <p:spPr>
          <a:xfrm>
            <a:off x="6143760" y="3844800"/>
            <a:ext cx="417240" cy="300240"/>
          </a:xfrm>
          <a:prstGeom prst="rect">
            <a:avLst/>
          </a:prstGeom>
          <a:ln w="0">
            <a:noFill/>
          </a:ln>
        </p:spPr>
      </p:pic>
      <p:pic>
        <p:nvPicPr>
          <p:cNvPr id="1099" name="Picture 528" descr="图片131"/>
          <p:cNvPicPr/>
          <p:nvPr/>
        </p:nvPicPr>
        <p:blipFill>
          <a:blip r:embed="rId12"/>
          <a:stretch/>
        </p:blipFill>
        <p:spPr>
          <a:xfrm>
            <a:off x="1622520" y="3656160"/>
            <a:ext cx="368280" cy="422280"/>
          </a:xfrm>
          <a:prstGeom prst="rect">
            <a:avLst/>
          </a:prstGeom>
          <a:ln w="0">
            <a:noFill/>
          </a:ln>
        </p:spPr>
      </p:pic>
      <p:sp>
        <p:nvSpPr>
          <p:cNvPr id="1100" name="直接连接符 380"/>
          <p:cNvSpPr/>
          <p:nvPr/>
        </p:nvSpPr>
        <p:spPr>
          <a:xfrm>
            <a:off x="1854360" y="3908520"/>
            <a:ext cx="42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1" name="Picture 1364" descr="图片43"/>
          <p:cNvPicPr/>
          <p:nvPr/>
        </p:nvPicPr>
        <p:blipFill>
          <a:blip r:embed="rId13"/>
          <a:stretch/>
        </p:blipFill>
        <p:spPr>
          <a:xfrm>
            <a:off x="7128000" y="3803760"/>
            <a:ext cx="223560" cy="379440"/>
          </a:xfrm>
          <a:prstGeom prst="rect">
            <a:avLst/>
          </a:prstGeom>
          <a:ln w="0">
            <a:noFill/>
          </a:ln>
        </p:spPr>
      </p:pic>
      <p:sp>
        <p:nvSpPr>
          <p:cNvPr id="1102" name="直接连接符 382"/>
          <p:cNvSpPr/>
          <p:nvPr/>
        </p:nvSpPr>
        <p:spPr>
          <a:xfrm>
            <a:off x="6561000" y="3994200"/>
            <a:ext cx="567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文本框 383"/>
          <p:cNvSpPr/>
          <p:nvPr/>
        </p:nvSpPr>
        <p:spPr>
          <a:xfrm>
            <a:off x="2559960" y="3925800"/>
            <a:ext cx="1522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 Unicode MS"/>
                <a:ea typeface="微软雅黑"/>
              </a:rPr>
              <a:t>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文本框 384"/>
          <p:cNvSpPr/>
          <p:nvPr/>
        </p:nvSpPr>
        <p:spPr>
          <a:xfrm>
            <a:off x="3085920" y="3825720"/>
            <a:ext cx="154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 Unicode MS"/>
                <a:ea typeface="微软雅黑"/>
              </a:rPr>
              <a:t>B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文本框 385"/>
          <p:cNvSpPr/>
          <p:nvPr/>
        </p:nvSpPr>
        <p:spPr>
          <a:xfrm>
            <a:off x="4141080" y="3876840"/>
            <a:ext cx="1522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 Unicode MS"/>
                <a:ea typeface="微软雅黑"/>
              </a:rPr>
              <a:t>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文本框 386"/>
          <p:cNvSpPr/>
          <p:nvPr/>
        </p:nvSpPr>
        <p:spPr>
          <a:xfrm>
            <a:off x="4951440" y="3808440"/>
            <a:ext cx="16020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 Unicode MS"/>
                <a:ea typeface="微软雅黑"/>
              </a:rPr>
              <a:t>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文本框 387"/>
          <p:cNvSpPr/>
          <p:nvPr/>
        </p:nvSpPr>
        <p:spPr>
          <a:xfrm>
            <a:off x="5601240" y="3808440"/>
            <a:ext cx="1465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 Unicode MS"/>
                <a:ea typeface="微软雅黑"/>
              </a:rPr>
              <a:t>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文本框 388"/>
          <p:cNvSpPr/>
          <p:nvPr/>
        </p:nvSpPr>
        <p:spPr>
          <a:xfrm>
            <a:off x="6005520" y="3973680"/>
            <a:ext cx="1699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 Unicode MS"/>
                <a:ea typeface="微软雅黑"/>
              </a:rPr>
              <a:t>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文本框 389"/>
          <p:cNvSpPr/>
          <p:nvPr/>
        </p:nvSpPr>
        <p:spPr>
          <a:xfrm>
            <a:off x="2661480" y="3625920"/>
            <a:ext cx="2361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 Unicode MS"/>
                <a:ea typeface="微软雅黑"/>
              </a:rPr>
              <a:t>1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文本框 390"/>
          <p:cNvSpPr/>
          <p:nvPr/>
        </p:nvSpPr>
        <p:spPr>
          <a:xfrm>
            <a:off x="3628440" y="3573360"/>
            <a:ext cx="2361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 Unicode MS"/>
                <a:ea typeface="微软雅黑"/>
              </a:rPr>
              <a:t>2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文本框 391"/>
          <p:cNvSpPr/>
          <p:nvPr/>
        </p:nvSpPr>
        <p:spPr>
          <a:xfrm>
            <a:off x="4541760" y="3619440"/>
            <a:ext cx="2365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 Unicode MS"/>
                <a:ea typeface="微软雅黑"/>
              </a:rPr>
              <a:t>3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文本框 392"/>
          <p:cNvSpPr/>
          <p:nvPr/>
        </p:nvSpPr>
        <p:spPr>
          <a:xfrm>
            <a:off x="5217480" y="3578400"/>
            <a:ext cx="2361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 Unicode MS"/>
                <a:ea typeface="微软雅黑"/>
              </a:rPr>
              <a:t>4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文本框 393"/>
          <p:cNvSpPr/>
          <p:nvPr/>
        </p:nvSpPr>
        <p:spPr>
          <a:xfrm>
            <a:off x="5948280" y="3635280"/>
            <a:ext cx="2383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 Unicode MS"/>
                <a:ea typeface="微软雅黑"/>
              </a:rPr>
              <a:t>5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任意多边形 394"/>
          <p:cNvSpPr/>
          <p:nvPr/>
        </p:nvSpPr>
        <p:spPr>
          <a:xfrm>
            <a:off x="2124000" y="3749760"/>
            <a:ext cx="4950000" cy="350640"/>
          </a:xfrm>
          <a:custGeom>
            <a:avLst/>
            <a:gdLst/>
            <a:ahLst/>
            <a:rect l="l" t="t" r="r" b="b"/>
            <a:pathLst>
              <a:path w="4550735" h="350915">
                <a:moveTo>
                  <a:pt x="0" y="212691"/>
                </a:moveTo>
                <a:cubicBezTo>
                  <a:pt x="66453" y="207375"/>
                  <a:pt x="132907" y="202059"/>
                  <a:pt x="255181" y="180794"/>
                </a:cubicBezTo>
                <a:cubicBezTo>
                  <a:pt x="377455" y="159529"/>
                  <a:pt x="549349" y="115227"/>
                  <a:pt x="733647" y="85101"/>
                </a:cubicBezTo>
                <a:cubicBezTo>
                  <a:pt x="917945" y="54975"/>
                  <a:pt x="1148316" y="-1732"/>
                  <a:pt x="1360967" y="40"/>
                </a:cubicBezTo>
                <a:cubicBezTo>
                  <a:pt x="1573618" y="1812"/>
                  <a:pt x="1823483" y="76240"/>
                  <a:pt x="2009553" y="95733"/>
                </a:cubicBezTo>
                <a:cubicBezTo>
                  <a:pt x="2195623" y="115226"/>
                  <a:pt x="2369288" y="129403"/>
                  <a:pt x="2477386" y="116998"/>
                </a:cubicBezTo>
                <a:cubicBezTo>
                  <a:pt x="2585484" y="104593"/>
                  <a:pt x="2525233" y="37254"/>
                  <a:pt x="2658140" y="21305"/>
                </a:cubicBezTo>
                <a:cubicBezTo>
                  <a:pt x="2791047" y="5356"/>
                  <a:pt x="3065721" y="-12365"/>
                  <a:pt x="3274828" y="21305"/>
                </a:cubicBezTo>
                <a:cubicBezTo>
                  <a:pt x="3483935" y="54975"/>
                  <a:pt x="3700130" y="168389"/>
                  <a:pt x="3912781" y="223324"/>
                </a:cubicBezTo>
                <a:cubicBezTo>
                  <a:pt x="4125432" y="278259"/>
                  <a:pt x="4338083" y="314587"/>
                  <a:pt x="4550735" y="350915"/>
                </a:cubicBezTo>
              </a:path>
            </a:pathLst>
          </a:custGeom>
          <a:noFill/>
          <a:ln w="28440">
            <a:solidFill>
              <a:srgbClr val="0070c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51120" rIns="5112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矩形 395"/>
          <p:cNvSpPr/>
          <p:nvPr/>
        </p:nvSpPr>
        <p:spPr>
          <a:xfrm>
            <a:off x="3492360" y="3228840"/>
            <a:ext cx="1346400" cy="201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 Unicode MS"/>
                <a:ea typeface="微软雅黑"/>
              </a:rPr>
              <a:t>Controlle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6" name="直接箭头连接符 396"/>
          <p:cNvCxnSpPr/>
          <p:nvPr/>
        </p:nvCxnSpPr>
        <p:spPr>
          <a:xfrm flipH="1">
            <a:off x="1980720" y="3333600"/>
            <a:ext cx="1502640" cy="462960"/>
          </a:xfrm>
          <a:prstGeom prst="straightConnector1">
            <a:avLst/>
          </a:prstGeom>
          <a:ln w="9360">
            <a:solidFill>
              <a:srgbClr val="990000"/>
            </a:solidFill>
            <a:prstDash val="dash"/>
            <a:miter/>
            <a:headEnd len="med" type="triangle" w="med"/>
          </a:ln>
        </p:spPr>
      </p:cxnSp>
      <p:sp>
        <p:nvSpPr>
          <p:cNvPr id="1117" name="TextBox 85"/>
          <p:cNvSpPr/>
          <p:nvPr/>
        </p:nvSpPr>
        <p:spPr>
          <a:xfrm>
            <a:off x="1116000" y="2351160"/>
            <a:ext cx="693720" cy="158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Unicode MS"/>
                <a:ea typeface="微软雅黑"/>
              </a:rPr>
              <a:t>VP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TextBox 84"/>
          <p:cNvSpPr/>
          <p:nvPr/>
        </p:nvSpPr>
        <p:spPr>
          <a:xfrm>
            <a:off x="1119240" y="1852560"/>
            <a:ext cx="693720" cy="158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Unicode MS"/>
                <a:ea typeface="微软雅黑"/>
              </a:rPr>
              <a:t>Node 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TextBox 84"/>
          <p:cNvSpPr/>
          <p:nvPr/>
        </p:nvSpPr>
        <p:spPr>
          <a:xfrm>
            <a:off x="1116000" y="2016000"/>
            <a:ext cx="693720" cy="158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Unicode MS"/>
                <a:ea typeface="微软雅黑"/>
              </a:rPr>
              <a:t>Node 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TextBox 84"/>
          <p:cNvSpPr/>
          <p:nvPr/>
        </p:nvSpPr>
        <p:spPr>
          <a:xfrm>
            <a:off x="1116000" y="2185920"/>
            <a:ext cx="693720" cy="158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Unicode MS"/>
                <a:ea typeface="微软雅黑"/>
              </a:rPr>
              <a:t>Link 5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椭圆 401"/>
          <p:cNvSpPr/>
          <p:nvPr/>
        </p:nvSpPr>
        <p:spPr>
          <a:xfrm>
            <a:off x="6141960" y="1114560"/>
            <a:ext cx="193680" cy="187200"/>
          </a:xfrm>
          <a:prstGeom prst="ellipse">
            <a:avLst/>
          </a:prstGeom>
          <a:solidFill>
            <a:srgbClr val="409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文本框 405"/>
          <p:cNvSpPr/>
          <p:nvPr/>
        </p:nvSpPr>
        <p:spPr>
          <a:xfrm>
            <a:off x="1020600" y="739800"/>
            <a:ext cx="222120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微软雅黑"/>
              </a:rPr>
              <a:t>Monitor per tunnel network performance report via pub/sub model or on demand RPC retrieval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文本框 508"/>
          <p:cNvSpPr/>
          <p:nvPr/>
        </p:nvSpPr>
        <p:spPr>
          <a:xfrm>
            <a:off x="6426360" y="1146240"/>
            <a:ext cx="196848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微软雅黑"/>
              </a:rPr>
              <a:t>Optimize network based on VPN service performance monito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TextBox 7"/>
          <p:cNvSpPr/>
          <p:nvPr/>
        </p:nvSpPr>
        <p:spPr>
          <a:xfrm>
            <a:off x="6130800" y="1076400"/>
            <a:ext cx="11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  <a:ea typeface="宋体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椭圆 401"/>
          <p:cNvSpPr/>
          <p:nvPr/>
        </p:nvSpPr>
        <p:spPr>
          <a:xfrm>
            <a:off x="824040" y="754200"/>
            <a:ext cx="193680" cy="185760"/>
          </a:xfrm>
          <a:prstGeom prst="ellipse">
            <a:avLst/>
          </a:prstGeom>
          <a:solidFill>
            <a:srgbClr val="409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TextBox 58"/>
          <p:cNvSpPr/>
          <p:nvPr/>
        </p:nvSpPr>
        <p:spPr>
          <a:xfrm>
            <a:off x="812880" y="714240"/>
            <a:ext cx="11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  <a:ea typeface="宋体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椭圆 401"/>
          <p:cNvSpPr/>
          <p:nvPr/>
        </p:nvSpPr>
        <p:spPr>
          <a:xfrm>
            <a:off x="5892840" y="2465280"/>
            <a:ext cx="193680" cy="187560"/>
          </a:xfrm>
          <a:prstGeom prst="ellipse">
            <a:avLst/>
          </a:prstGeom>
          <a:solidFill>
            <a:srgbClr val="409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TextBox 60"/>
          <p:cNvSpPr/>
          <p:nvPr/>
        </p:nvSpPr>
        <p:spPr>
          <a:xfrm>
            <a:off x="5881680" y="2424240"/>
            <a:ext cx="11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  <a:ea typeface="宋体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61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Relationship between VPN service topology and underlay topolog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 txBox="1"/>
          <p:nvPr/>
        </p:nvSpPr>
        <p:spPr>
          <a:xfrm>
            <a:off x="4727520" y="1379520"/>
            <a:ext cx="3959280" cy="43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Mapping between Overlay and Underal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e Site-1,A,B,C are mapped to node (1,2),(3,4),(4,5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hile Site-2 A,B,C are mapped to node (6,7),(8,9)(10,11) in the underlying physical net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VPN-svc 1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supporting hub-spoke communication for Customer 1 with connecting the customer’s access at 3 sit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VPN-svc 2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upporting hub-spoke disjoint communication for Customer 2 with connecting the customer’s access at 3 si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ETF107 BESS Virtual meet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A0540-0AA3-4A1C-B818-4D67904A269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Picture 3" descr=""/>
          <p:cNvPicPr/>
          <p:nvPr/>
        </p:nvPicPr>
        <p:blipFill>
          <a:blip r:embed="rId1"/>
          <a:stretch/>
        </p:blipFill>
        <p:spPr>
          <a:xfrm>
            <a:off x="366840" y="1739880"/>
            <a:ext cx="4270320" cy="3067200"/>
          </a:xfrm>
          <a:prstGeom prst="rect">
            <a:avLst/>
          </a:prstGeom>
          <a:ln w="0">
            <a:noFill/>
          </a:ln>
        </p:spPr>
      </p:pic>
      <p:sp>
        <p:nvSpPr>
          <p:cNvPr id="1134" name="矩形 1"/>
          <p:cNvSpPr/>
          <p:nvPr/>
        </p:nvSpPr>
        <p:spPr>
          <a:xfrm>
            <a:off x="366840" y="5710320"/>
            <a:ext cx="877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0200" indent="-160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微软雅黑"/>
              </a:rPr>
              <a:t>Establish the relationship between underlay topology and VPN service top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0200" indent="-160200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微软雅黑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微软雅黑"/>
              </a:rPr>
              <a:t>and bind the VPN service to the tunnel (e.g., SR-TE tun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5" name="图片 2" descr=""/>
          <p:cNvPicPr/>
          <p:nvPr/>
        </p:nvPicPr>
        <p:blipFill>
          <a:blip r:embed="rId1"/>
          <a:stretch/>
        </p:blipFill>
        <p:spPr>
          <a:xfrm>
            <a:off x="264960" y="703440"/>
            <a:ext cx="3560760" cy="5541840"/>
          </a:xfrm>
          <a:prstGeom prst="rect">
            <a:avLst/>
          </a:prstGeom>
          <a:ln w="0">
            <a:noFill/>
          </a:ln>
        </p:spPr>
      </p:pic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264960" y="489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 Design 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225680" y="1587240"/>
            <a:ext cx="454644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ugment I2RS Network Topo model [RFC8345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with service topology parameters and vpn summary statistics info at network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With site role of service topology parameters at nod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With performance attribute at link level and termination-point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measurement interval and reference-time associated with these performance data usually depends on configuration parame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30CAE-D331-4C6F-BA5C-0C77B09C90C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ETF107 BESS Virtual meet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0" name="组合 8"/>
          <p:cNvGrpSpPr/>
          <p:nvPr/>
        </p:nvGrpSpPr>
        <p:grpSpPr>
          <a:xfrm>
            <a:off x="5005440" y="843120"/>
            <a:ext cx="3360600" cy="685800"/>
            <a:chOff x="5005440" y="843120"/>
            <a:chExt cx="3360600" cy="685800"/>
          </a:xfrm>
        </p:grpSpPr>
        <p:sp>
          <p:nvSpPr>
            <p:cNvPr id="1141" name="矩形 5"/>
            <p:cNvSpPr/>
            <p:nvPr/>
          </p:nvSpPr>
          <p:spPr>
            <a:xfrm>
              <a:off x="5005440" y="843120"/>
              <a:ext cx="1216080" cy="663840"/>
            </a:xfrm>
            <a:prstGeom prst="rect">
              <a:avLst/>
            </a:prstGeom>
            <a:noFill/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2RS Network Top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右箭头 6"/>
            <p:cNvSpPr/>
            <p:nvPr/>
          </p:nvSpPr>
          <p:spPr>
            <a:xfrm flipH="1">
              <a:off x="6220800" y="1082880"/>
              <a:ext cx="741240" cy="233280"/>
            </a:xfrm>
            <a:prstGeom prst="rightArrow">
              <a:avLst>
                <a:gd name="adj1" fmla="val 50000"/>
                <a:gd name="adj2" fmla="val 50045"/>
              </a:avLst>
            </a:prstGeom>
            <a:noFill/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矩形 7"/>
            <p:cNvSpPr/>
            <p:nvPr/>
          </p:nvSpPr>
          <p:spPr>
            <a:xfrm>
              <a:off x="7149960" y="865080"/>
              <a:ext cx="1216080" cy="663840"/>
            </a:xfrm>
            <a:prstGeom prst="rect">
              <a:avLst/>
            </a:prstGeom>
            <a:noFill/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VPN Service Performance Mod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4" name="椭圆 1"/>
          <p:cNvSpPr/>
          <p:nvPr/>
        </p:nvSpPr>
        <p:spPr>
          <a:xfrm>
            <a:off x="345960" y="1227240"/>
            <a:ext cx="2694240" cy="782640"/>
          </a:xfrm>
          <a:prstGeom prst="ellipse">
            <a:avLst/>
          </a:prstGeom>
          <a:noFill/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椭圆 12"/>
          <p:cNvSpPr/>
          <p:nvPr/>
        </p:nvSpPr>
        <p:spPr>
          <a:xfrm>
            <a:off x="787320" y="4538520"/>
            <a:ext cx="2692440" cy="405000"/>
          </a:xfrm>
          <a:prstGeom prst="ellipse">
            <a:avLst/>
          </a:prstGeom>
          <a:noFill/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椭圆 13"/>
          <p:cNvSpPr/>
          <p:nvPr/>
        </p:nvSpPr>
        <p:spPr>
          <a:xfrm>
            <a:off x="531720" y="2743200"/>
            <a:ext cx="2694240" cy="320760"/>
          </a:xfrm>
          <a:prstGeom prst="ellipse">
            <a:avLst/>
          </a:prstGeom>
          <a:noFill/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椭圆 15"/>
          <p:cNvSpPr/>
          <p:nvPr/>
        </p:nvSpPr>
        <p:spPr>
          <a:xfrm>
            <a:off x="733320" y="4164120"/>
            <a:ext cx="2694240" cy="403200"/>
          </a:xfrm>
          <a:prstGeom prst="ellipse">
            <a:avLst/>
          </a:prstGeom>
          <a:noFill/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文本框 3"/>
          <p:cNvSpPr/>
          <p:nvPr/>
        </p:nvSpPr>
        <p:spPr>
          <a:xfrm>
            <a:off x="597600" y="6357960"/>
            <a:ext cx="2190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Changes to the previous vers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31640" y="0"/>
            <a:ext cx="8229600" cy="66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Performance Monitoring Data Retrie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0" y="5251320"/>
            <a:ext cx="4441680" cy="12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Use subscription model [RFC8641] to subscribe to their interested network performance data in the data sour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ETF107 BESS Virtual meet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CC1E7-175D-4CFD-A8BD-A3E25C7FE12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3" name="Picture 8" descr=""/>
          <p:cNvPicPr/>
          <p:nvPr/>
        </p:nvPicPr>
        <p:blipFill>
          <a:blip r:embed="rId1"/>
          <a:stretch/>
        </p:blipFill>
        <p:spPr>
          <a:xfrm>
            <a:off x="0" y="939960"/>
            <a:ext cx="4373640" cy="4140000"/>
          </a:xfrm>
          <a:prstGeom prst="rect">
            <a:avLst/>
          </a:prstGeom>
          <a:ln w="0">
            <a:noFill/>
          </a:ln>
        </p:spPr>
      </p:pic>
      <p:pic>
        <p:nvPicPr>
          <p:cNvPr id="1154" name="Picture 9" descr=""/>
          <p:cNvPicPr/>
          <p:nvPr/>
        </p:nvPicPr>
        <p:blipFill>
          <a:blip r:embed="rId2"/>
          <a:stretch/>
        </p:blipFill>
        <p:spPr>
          <a:xfrm>
            <a:off x="4948200" y="1112760"/>
            <a:ext cx="3807000" cy="3516480"/>
          </a:xfrm>
          <a:prstGeom prst="rect">
            <a:avLst/>
          </a:prstGeom>
          <a:ln w="0">
            <a:noFill/>
          </a:ln>
        </p:spPr>
      </p:pic>
      <p:sp>
        <p:nvSpPr>
          <p:cNvPr id="1155" name="直接连接符 9"/>
          <p:cNvSpPr/>
          <p:nvPr/>
        </p:nvSpPr>
        <p:spPr>
          <a:xfrm flipH="1">
            <a:off x="4657320" y="1052640"/>
            <a:ext cx="9720" cy="5443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内容占位符 2"/>
          <p:cNvSpPr/>
          <p:nvPr/>
        </p:nvSpPr>
        <p:spPr>
          <a:xfrm>
            <a:off x="4700520" y="4886280"/>
            <a:ext cx="44434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Use RPC model to fetch network performance data on demand, e.g., the client requests packet-loss- count between PE1 in site 1 and PE2 in site 2 belonging to VPN1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矩形 11"/>
          <p:cNvSpPr/>
          <p:nvPr/>
        </p:nvSpPr>
        <p:spPr>
          <a:xfrm>
            <a:off x="0" y="596880"/>
            <a:ext cx="30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.Retrieval via YANG Pus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矩形 12"/>
          <p:cNvSpPr/>
          <p:nvPr/>
        </p:nvSpPr>
        <p:spPr>
          <a:xfrm>
            <a:off x="4829040" y="649440"/>
            <a:ext cx="4044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宋体"/>
              </a:rPr>
              <a:t>2.On-demand Retrieval via RPC polling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399960" y="109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Way Forw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ufficient support in IETF 103 and already in the queue for WG ad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dop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he authors believe this draft is a good shape for WG ado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ETF107 BESS Virtual meet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3A2E2-325A-4989-9A5D-93DA6747045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18:05:52Z</dcterms:created>
  <dc:creator>Rajeev-K</dc:creator>
  <dc:description/>
  <dc:language>en-US</dc:language>
  <cp:lastModifiedBy>Qin Wu</cp:lastModifiedBy>
  <dcterms:modified xsi:type="dcterms:W3CDTF">2020-04-26T11:03:28Z</dcterms:modified>
  <cp:revision>635</cp:revision>
  <dc:subject/>
  <dc:title>NetExt BOF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2015_ms_pID_725343">
    <vt:lpwstr>(3)jIrgzz1CE1yQ6yubTeb1+r/1xHIhEzV+l8wzJz5EQgqK7go/UVyngVKI4QN0CRxh/+UZhrDT
QXjtq9aeiDUh+LQeuPX2YmgTchFu3VByIU+LIav9izCdP8jDefWCuqxfx0k9GFdcnsYnhpTc
ecKhzhNzXeswx0bwPRnyZIcjOXq+m/XfagHtATxd8JGygn0mv/oi5wkmoREWaTqbSl73wwXy
nbC2bVlhrLLxQmix/C</vt:lpwstr>
  </property>
  <property fmtid="{D5CDD505-2E9C-101B-9397-08002B2CF9AE}" pid="3" name="_2015_ms_pID_7253431">
    <vt:lpwstr>mXWXhHzJXymyZ9x7KK08lszp0fBwszYCjMiJ3tenZNdQk+EyQv6TYD
cwUNOgG0TW/C24sdbY33hAMicGJAl6SLNoe9dplaUK/nS1PfYUJUT/eIVK6Rw4zkQ1iO8Zl+
XYzua0cJOtQ6Qj2x2ZAJQgORBVTU94mMVca8xykFdYwWg1dCJcjESoxen8WOWSwo8VA3YOXO
q9PN5ewI4u65noHGXroOjjPi3vBboC4Uvqhc</vt:lpwstr>
  </property>
  <property fmtid="{D5CDD505-2E9C-101B-9397-08002B2CF9AE}" pid="4" name="_2015_ms_pID_7253432">
    <vt:lpwstr>HbB7ueXaJ0RhjD1XSFG/hkI=</vt:lpwstr>
  </property>
  <property fmtid="{D5CDD505-2E9C-101B-9397-08002B2CF9AE}" pid="5" name="_change">
    <vt:lpwstr/>
  </property>
  <property fmtid="{D5CDD505-2E9C-101B-9397-08002B2CF9AE}" pid="6" name="_full-control">
    <vt:lpwstr/>
  </property>
  <property fmtid="{D5CDD505-2E9C-101B-9397-08002B2CF9AE}" pid="7" name="_new_ms_pID_72543">
    <vt:lpwstr>(3)on4x6Ff1a1kK4BCrMFuWEwa9W4EBbYWuiUGvh2F/bcyJ5sAbKDmtt8Von42tsGmNAdEjcGvh
qZz9YoEyrJAc3qYe605b18W2arXLTGL1FPWUTxZS/hEadKpdj++doCFVFvM/3GHrQ7VBZFC4
8ouLoWqeonM17sL7PoMkl8abgMwFfp53KLSWTV9uF9FozNCF+0Jtn6hcxk0nxOtGGz2f2TkP
zK4CNYyE/N9zZTtjgR</vt:lpwstr>
  </property>
  <property fmtid="{D5CDD505-2E9C-101B-9397-08002B2CF9AE}" pid="8" name="_new_ms_pID_725431">
    <vt:lpwstr>LFE0+YVxcriGp+RDi+1gDylO1gfHV9ND7D2Xe0JgNsUGIEKfQVCSyw
GKFjp03kMuEO1IhOhTUVMiSdwz76iTY4gjjk6eGJAPtern/8PekzlcqNA/9JjN4cURAkO0WJ
U7UPS2NOiDTbeB0BqnzOkFdClEpuVVzxoZX0996ipsac97l5F5fzGpAgroTyy+MIcHJhQ675
Ug9mCKMnFtu13yGC1CHgWGwV1h99gLS2Iinn</vt:lpwstr>
  </property>
  <property fmtid="{D5CDD505-2E9C-101B-9397-08002B2CF9AE}" pid="9" name="_new_ms_pID_725431_00">
    <vt:lpwstr>_new_ms_pID_725431</vt:lpwstr>
  </property>
  <property fmtid="{D5CDD505-2E9C-101B-9397-08002B2CF9AE}" pid="10" name="_new_ms_pID_725432">
    <vt:lpwstr>ZJsLrw3IKgJMRhkB0w/HX+fjqzGwzF8n4yK8
vlbT4qBwjp1qi5f3TXfbbeeu3pAG97ZpBDfYuD2uV9lAzcpTFpuqpEz/v+WHfRqGA3NT0uMA
Xl1Aa/YkC/04Qca3bHg4aQ==</vt:lpwstr>
  </property>
  <property fmtid="{D5CDD505-2E9C-101B-9397-08002B2CF9AE}" pid="11" name="_new_ms_pID_725432_00">
    <vt:lpwstr>_new_ms_pID_725432</vt:lpwstr>
  </property>
  <property fmtid="{D5CDD505-2E9C-101B-9397-08002B2CF9AE}" pid="12" name="_new_ms_pID_72543_00">
    <vt:lpwstr>_new_ms_pID_72543</vt:lpwstr>
  </property>
  <property fmtid="{D5CDD505-2E9C-101B-9397-08002B2CF9AE}" pid="13" name="_readonly">
    <vt:lpwstr/>
  </property>
  <property fmtid="{D5CDD505-2E9C-101B-9397-08002B2CF9AE}" pid="14" name="sflag">
    <vt:lpwstr>1540947804</vt:lpwstr>
  </property>
</Properties>
</file>