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E1B-2EAE-4C4B-B712-538B42D7246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F0B6-5357-4B3F-AAD9-C59699E0191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11D-27A7-4360-88D9-64DD664B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75D-C523-4558-8D3E-19D3EC8F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59FE2-665E-4B6C-9B3A-AAB4140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8989A-F8DA-4DFE-88A0-EAA30A2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94D90-54DD-48F9-A63A-BCE150F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5DE2D-DF62-4F80-93B3-8C15F6E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46D1-367A-498C-A3B2-DAC247B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59B8-C0E0-47F5-8292-2451F4AB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34A92-9852-4E89-A254-1C2E7B5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633D-2FE3-4EF9-8C11-BB1EE9F5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00195-90C9-4125-AD10-527A3418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2F408-D385-44A7-9F2B-70B3E57C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A37-D769-4B5E-86A4-DE464189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47BAF-A8FE-4CFA-ABD7-424F1ED1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0440D-11E4-41E8-A7BF-7324E03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38AB3-9F3C-4860-A46A-C8401F75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E14B2-112F-4508-821C-2B69DE6B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07136-7369-4374-B2C2-33608FD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0F09D-AB87-4DE2-AB18-829699C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0BC98-20B5-48B7-BC74-14B237A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C0F26-3DB2-433D-A249-1657EC0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E74E4-93D2-440C-AC2D-E57B148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AB3A-1CFA-4E50-9FDD-6100AEC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F06-3A09-4277-AF2A-B361CF76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8E560-67BB-49AD-82DC-456317A5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AC486-1A37-4AA4-BDD0-0BAA6FE8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0B019-BC9A-4F55-AA80-E17B49C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1937-07A8-4A48-A35E-6FD8B7E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4ABEE-C30F-4317-B763-B51DBF9A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6D79B-00D4-4F86-9F1C-E07A44A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F4765-E7AD-49F4-ADA5-457D3C7F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2CB2-4EDF-48A0-9654-E4F86C2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FE9B8-843E-4583-957D-06B2E82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8124D-6D85-42E3-8BCE-641A47B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95E1-BD87-4C85-80B8-001AE748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2768D-CAC2-4454-8B02-3D40CE5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00CC4-5268-4535-8207-7500167E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CFAE6-FE3E-4029-886D-354F7234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2BB64-D660-4287-A776-6B53BBB1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69ED2-2178-4B0F-A790-9D0FB21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52EC-BC21-4063-902B-1C71E97A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DE568-1B3E-48C1-A57C-1914D6D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80A45-1E4F-44F5-87CE-7DBBB0E6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F9CB-9591-4789-A725-B588D24D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974C-10AC-4483-BBAA-2CF4A587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78B-012A-4432-99F2-3241A820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EE7C3-8149-4B5E-A0CB-CB8780F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527A3-9534-4555-8E34-5A99F210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4928C-F5AB-4A8B-A04F-1FB689E8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52E22-50AA-4E32-A66E-8B5D08BA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B6828-73C9-4CC1-AA58-454B5C15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09D9C-D4EF-4EF5-85D1-E614AC5D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16AC4-DE3B-498A-A5EF-685C51E5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4242C-2ABA-48DC-90A3-7A1853C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B1E2A-D7A3-433F-96F8-DFB5266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DB1C6-88E6-47C8-887C-5BB637AF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E4D-7BFF-4E5A-BF3D-76D6BA6A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D8518-FF86-4349-B5CE-5FE9A73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6D26F-5222-440C-947D-82F169D9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3964E-0BF0-4760-8077-550AD14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C94B6-7475-4813-989C-301FAB9D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B624E-F290-46E9-8D6D-E43ACF13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9C6C2-CEF2-48B2-9E0B-83798005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18FBF-1757-4A53-BC6B-A3264D8B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5B8F9-5B93-4282-B1C4-6E3B03A0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B0866-73D2-4675-8784-C35DA431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63A70-DC06-47E7-8D55-73E34DFF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DEE9-527E-4CBA-8188-72B7CE4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C9B5C-E9F8-4C7D-9E2A-39930406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66817-3DCD-46B6-8340-76F5364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244C7-797A-4EA6-BB9B-C565B5D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1F758-11BE-4054-8E24-884E582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4DE6D-32F4-4290-8512-1807ACF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8531A-15FE-4825-9396-B8E3827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3629E-C615-42AE-A4D5-3F8FC03E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C1363-DD10-4797-8BF2-67FFCC27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6EE52-2A52-4956-8235-22B245A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98166-64BC-433F-9665-C76323B6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5D81-31FB-436C-9A97-66A1395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1D487-DD7A-4DAC-980F-808CF134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D8CB4-84E3-4642-8AF4-3C68A61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6446B-32D6-45FD-B9F5-18D90780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B584A-E222-4104-9D96-BCA8C4AD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D0D6B-3844-4346-984A-B44D0B29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026AC-2263-47B1-9C29-402EB29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D16B7-0A8C-41F9-BC45-5FB41B0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9B611-90D1-4EAC-9360-261DF99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08A93-E2FE-4C48-9151-C1DB3C50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1EC32-0AB0-44BC-8942-DBB866B3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A307-84AE-465D-B178-57C39FDA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B794A-598F-4445-97EC-EF203A2A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A478D1-ABE8-410B-AEB0-3FFEE5FC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47AFD-A59F-4711-BB7A-BA8C748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266B0-3574-4ADF-A465-8A8E3EDF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788E5-3D0F-4978-A169-315CA59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544E6-9DC3-42BC-8049-3B53B588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22CE8-3678-4FB5-B09B-B8B1DC7B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64481-9A80-4EAC-8388-ED9AF30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F089D-7422-44CC-AD93-7EB3C9F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7E0CA-B101-414C-A57E-4B656C2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19B1-5275-4EEB-8B64-4F1407F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D4E95-AE9E-4365-9459-DC52A98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2271A-CCF7-4C37-8995-E6CB5582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21E52-8DB2-4CED-BA0B-B1C03700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ED6D1-DD83-4F0D-BBAF-8C927190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05EFC-A397-4BA3-AD53-0C2E2B55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FDD34-30B7-4FDB-97DB-8935B269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64C17-8F99-4073-8A08-1C5F403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EE5CF-AA21-4A7C-87C2-12B7E67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0251A-C44D-4EDA-B98B-CB6E8952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2485A-FEC4-47B4-97BE-30723FB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B4B-D6EB-4A3A-9505-C463856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F175-95A4-4A7A-83AD-E7D3388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032F0-255D-4251-B634-0950C43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857B4-D121-4443-81CC-0E0321D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CC488-2711-4519-B645-78DD1B30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16D5A-ED2A-4E49-B23E-579D2C15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F37BC-6ABB-4F0A-989B-90B163F7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CB666-5D13-4B0D-8D31-A4D814EB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C08A5-0F55-4B0C-AFD7-9B3342F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91670-6798-498E-B975-6967E256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7DA1F-59D5-459A-AE91-D3A6FEC9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53FDA-8361-45E5-9ABB-C943F12C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68F-CF96-4284-868C-B5AABB4F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CA58E-20C6-4C62-8124-83F9C1A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4D166-1A58-4080-8BE9-CCC28B63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831E2-6E8B-4A54-8D87-D57F2D81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748C6-15BB-4363-BBF8-6B54774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8AFE6-832D-4CBB-A35A-A9B1DE0A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09FF2-6C21-4A85-B0A4-0DDBFBB3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33A5E-B537-4E3D-A4ED-7FA0F7EA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1B4FC8-B374-48B8-B918-7D75B9DC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0DBE6-191D-44A3-A099-25B1A09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5AEC1-7F34-414D-A5C8-E5F893C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18D9-C4FF-4B45-A248-94F490D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19570-29E2-42A3-94F4-DADD4FD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88470-0F66-4FDA-A130-7957DDD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8BF0D-9C98-4FB7-8BC6-3C98C29C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7AFF6-7F5A-4FEF-8351-F8CC8954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EED3F-A8B3-4B46-931D-88C7048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9C086-F1DC-4CF5-9EF2-8B4A3C7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4D405-7944-4F71-A760-9D8317DD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9F8B2-EA3B-4F70-9608-64B6ED0C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980F4-0132-4188-8782-B312F94A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CC0EE-E998-4099-84AB-6F3E3144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0CBC-E8FB-47FF-90C2-4A4421B0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B510A-AC62-4C9C-9D2E-B5389C4B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E2CB1-1B79-4216-8E73-14AAA6C5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61801-3B83-47B0-8CEC-9866763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06286-9A3B-41FB-BF5F-516F05B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B24AD-6207-4B6D-9A26-8387E33C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242B8-BE3B-445E-BD1F-BCB7B82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1CDA7-1EA8-45BF-B55E-3093680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0AD794-CB9E-4C30-981A-8F38300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AE1FF-63F4-4149-8FDD-A8DA596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01C70-A0DD-426E-8110-6EF8BA6E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C609-142D-45C6-8C8B-03FB744E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A03E4-EF53-49BE-B836-04638C6E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B1FB5-47D8-48D1-8EAE-EB84C58F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B6AA7-B832-4A25-88A1-7F1F595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36C9C-DE44-4DBB-88D8-DAD6E37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5C985-CC5A-4A41-857D-88FC1F67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2EEBC-D998-46E5-A0FC-FF4EB3A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6BE9A-56FB-4AE8-B589-3030C8C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0D868-E95D-42DF-B8D0-A9C85C2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1F0839-173D-460A-861E-E231C45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D8A67-E44A-4913-82EB-C984E5A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4C47-9CD8-4EA0-9B84-555B8C2C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47BC3-DB40-4AD5-B016-A9D3515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8B2BE-CDDF-4859-A3A5-42754E5E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FAFCF-A861-4249-BE94-891488DC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35A7C3-1251-49E9-B68D-58054EDC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A042EB-3BC6-41B5-8C35-5E95781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E3CFE-7AFD-41EE-8B8D-C2C6997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935C4A-56EA-4243-8259-76992A0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297E02-53CE-4665-8828-FEB4310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7D862-0484-45DD-B2EE-844B4478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52B792-9318-42A6-B340-CDACBBB2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6C82-3B4E-4F2C-8881-6BF0F39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D97C4-B6AB-4946-94B5-77A26CA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53541B-4A64-4D94-918E-1A4DC8A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E06964-ACD5-4D6A-BAC5-235BF497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2145B-B8C6-4711-BA18-F4DDC920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C1F6D2-2C54-4FD5-A321-B377C78F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3DFEC7-4BB4-44E2-A50E-5FCFB81C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A7BD39-6EC0-411C-8970-86ADBA8F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CCE225-BB2C-4371-9958-F34456F2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D3988-2A04-4D67-BD15-1FE18894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8D9355-206B-4A42-9890-DA36CC6F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B106-8D1C-43A9-BB72-F9DEFB84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37CA8D-D44B-4E27-8ABF-4184F21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6F649-83A2-4C6C-B9C0-07293EBC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8434F-18B1-4B72-A80E-4981E165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CBE865-6CCD-4CAD-A8C3-4717AB0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188CA-4BF1-4236-8CAB-7285AB16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A4C062-FE8B-4F64-BB33-8FF4D861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4429DE-DC55-4231-94A9-3794B0FF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61ED9-C65C-434A-B9BA-8756FADA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3A699-9F0C-4AB0-A941-43FE2CE5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30C90-463E-45F9-B306-B6D2619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6BC2-A429-423A-9A50-6EB9345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22B88F-EAFD-4334-8B50-E69D8F65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4EA3FB-F328-476B-882D-32C9774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03E436-09FA-454A-AA7A-8C526537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EB04BC-A7EE-455F-B239-75FD631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170718-8841-414D-890A-3580F37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315F5E-E65C-4C21-A32F-6AF4129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B36D07-2B1F-4361-8212-14EEC77B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50CF2-6D4A-41AD-AC2C-6EBD4A36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2DF9C4-EDCB-4C7B-A8C1-03DDB917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8F52B-FBFF-4A77-8BA3-19D30964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67BD-A432-4BA5-96F1-0B41889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5BB4CA-A7A0-40EF-AC6C-4F9A1091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08F1D5-B194-4D89-8B13-A9B781E5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8D2541-AA53-485C-96E0-3B8FF40B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B1AEA7-6104-4314-BD75-615D52C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37563B-6E21-4FD5-BD71-21F210BD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63E790-795E-4527-8264-1D8F1B5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9B1C48-B257-4901-84F6-EC24A61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C1D00-FF34-4F2B-ABC4-19128F1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086F7C-30A4-4538-993D-19FF745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0AF9FC-FA6B-4546-97C7-132FF5D1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CD4-BC0F-43AC-B111-D87A443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3684-68D6-4343-857F-24E75D04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000DDA-0387-4DC3-BC88-372113BF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4866-E300-4612-8277-90D31B7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7333-D8FE-4664-A277-DA8BC60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68E0-F6A3-4B0F-9F8F-C81A1C5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F87C-D054-4C65-8F6C-7A8CBAF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8E92-D930-40AC-989E-0F34C91D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910D-7BF2-45E4-90C9-1A9550CC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B7B2-594E-4B14-9F9D-B0A2BB67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4EE6-2995-4D0C-BFAF-594E1D0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003F-E418-4A4F-A6EF-6CF01583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3E1-55CF-4225-8D8E-978863A8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3903-55E5-481B-A417-F9C4089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3985-DD55-4430-8EB3-9ACDE171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DA24-0F26-4C16-835D-E0B215A8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4893-0799-4CCD-B1FF-B31AAD5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501E-64B4-4A81-BF6A-C6376F0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6AB4-E9B2-4F5D-B8A5-08274FE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4DDC-09AD-445E-9141-13B9938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78E0-F471-4E06-B8D1-D306EA02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2111-3B36-45EB-8366-A512DCC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15F24-1E01-446D-9D52-D587E837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448-9AAB-4EEE-9B5F-349A7CD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2883-AA50-4284-9439-54412EDB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CEF5-7B1F-4391-9983-1F143B2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B3DE-0D21-4A94-A157-61D63B9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1169-D851-4B22-AC47-6BF34D83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E49A-9DAF-416C-BA54-D012B65E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C808-2899-4145-A5DC-6E6D755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75711-B0D0-4C33-86ED-807F91F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9E9B7-0EDC-46E7-B015-560E02D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760D-AD7A-4924-8F5D-495D2769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46893-A217-4145-A6F6-3F6ABC74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1C6-2D55-41B6-906A-2688FCB1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96C1-32F7-4C14-BB44-4D4C2D77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87C2-B945-402C-9D0C-6057A766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49D8-45B1-4920-9A8B-94B07A60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F881A-C0B8-4958-9BE2-655CBE8C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0024-2AEE-412A-AD2E-25771874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6EC7-C1EC-48B3-8881-41BD18B8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6689-A7A9-450E-A25B-EAD465D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AFD1-845A-4D43-959E-FC3CBBE7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1E92-5612-407C-8F5A-A47A9F88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F5EDA-90AF-42EC-A5FE-4EB96304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F2E-29B8-435F-ACAA-40FC794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E98F-D58D-4FF0-AADB-E77F555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0222-1678-4A6F-8524-FA0038C1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689F-33F7-48C0-9BDD-95BE2A48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2A12-261A-4C12-80A5-99105665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D042-33EF-4A07-8959-583854E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318E-880B-441C-8EB9-431CEDF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4372-A786-4387-8F56-111332CE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1838-590C-4253-BDF2-00450DD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90427-42A2-4993-90AB-14A8657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2A1C-AFE4-4234-9149-98E6FF5B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C60-16E3-4CD6-A42C-1BFC307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E4BB2-969D-439E-BDE8-0B126B85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09F7E-B120-46CE-BD5A-E44C5D3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BDD1-6AC6-4399-A448-1C2E16F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12A4-6996-4F84-A388-7F67080F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1564-FEB1-496F-B46A-DB53459A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7C0A9-B542-463F-BB98-99460B0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A0DCB-1511-42A7-AB35-4E908C57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52C9-7706-48D2-BFAB-F4076E4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1F229-B503-4880-9863-F114DA8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42D99-83A1-42AC-B2E9-B4357AA7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CC3-FF77-43DB-B5B9-7371B30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083E1-7CC0-450D-AEF4-31211A01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F8C1E-49D8-4175-AF37-814CFB9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68305-5826-4C6A-AF0E-E4BEF83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B7C4F-8243-4B7F-AFA4-EEB1D742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52C42-2683-4600-9080-812E4A74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6B98-3F03-40A4-8762-E2E9DC76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99D2-464E-4B2F-B1BE-D1B5FBE6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1190E-D5D0-4E07-AFCB-5214F4FA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08CCA-A24B-4355-976D-BF9745F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C5286-1045-4F38-A315-CB2B0C0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37E7-9F9D-4F24-982F-63CD87810C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D86-4294-4E39-BA07-EACC23D6F1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1EE3-1EF6-4D1D-952C-C95EB48110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08D-AD1C-4A25-9660-11E9CC706C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3773-6618-442A-9727-A540F24DAE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1ED-F33D-4E46-A8D7-E58B93C3052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F753B1D-D816-4F39-AA87-91661A31E2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A5245D1-EDA6-4141-BCF4-CF7121481725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BCF6B810-E17E-4C73-B2C6-0BD298456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848DBDAB-CF8D-4D49-A666-D73450331185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3DE465BF-744A-4CE5-BCC5-3F0785056F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13A64355-1F44-4318-8DDF-89B483D1C1AB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D9641930-C111-46B3-A432-27E458EDBC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7E87137D-D4DD-43FC-B57D-7711B93898C0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B4CC7AD-5659-4120-9977-0FAB5F5BB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3CC73F51-170C-4DB2-8B80-248A3FAEF9F1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47B-555B-415A-A506-CF05164D27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D2E02050-1034-4DBB-A835-D47CD1CA61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9097C6C0-1DAD-45CE-A2C6-8B2FC03D7BB4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614D4809-7AE8-4E2C-BD1F-22E5B7B25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54C7C25-28F7-435F-8A98-7D80601DC536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E0E5A20-6577-4EB5-BE33-D8E2EDA64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2B6B4597-E4FA-43EB-925D-7858C372BF32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05EC4FD1-1E49-45E4-AF2D-E3A4FD4D5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AE0C2988-0926-4222-8026-5E80C8632A74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E23B0D2F-8035-4162-9A54-B749D1A3C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D1D454F-8CDA-42D6-B5F2-B564C215F2E8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71AE9D8A-0412-4105-BE41-EDFAC66A8C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C449EC42-E4C3-449A-9B43-50DA5249F68C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AC320F0F-1C49-4D8F-B5F4-962F0B6D99D5}" type="datetime"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NETCONF IETF 103 Bangkok Nov 03 - 09, 20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  <a:defRPr b="0" lang="en-US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fld id="{1D2A7891-F5ED-46C5-A84B-085B7C41A0AE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426-22CD-4ACA-B7B1-D1C31D8DA1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AF38-9DB8-42F7-B56E-5412BD5E8F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452-3EBF-4EF7-AC82-EDE8A98BBE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9EF1-85BE-4A9E-B233-BA92B31B44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2068-5D5D-4408-823E-0374F8369C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7024-E91C-424D-82A5-88F0E19473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73200" y="143316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 YANG Model for Network and VPN Service Performance Monitoring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raft-www-bess-yang-vpn-service-pm-0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247760" y="4107960"/>
            <a:ext cx="64008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Qin Wu (Huaw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hamed Boucadair (O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car Gonzalez de Dios (Telefo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n Bin (Com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ange Liu (China Uni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nglei Xu (China Tele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 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ril 28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A307-1BD6-46FD-9A27-E00A072EF8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30200" y="-360"/>
            <a:ext cx="78976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2680" y="649080"/>
            <a:ext cx="89330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r layer Network performance measurement protocol and methodology for Ethernet traffic, IP traffic, MPLS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asurement protocol such as OWAMP, TW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traffic performance metric such as one way delay, roundtrip delay, loss, PD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PLS traffic performance measurement such as MPLS loss and delay measurement for MPLS[RFC6374], MPLS-TP loss and delay measurement[RFC637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 traffic performance measurement such as Y.17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e of these performance monitoring mechanism can be used to report service level or end to end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defines a YANG model for both Network Performance Monitoring and VPN Service Performance Monitoring that can be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nitor and manage network performance on the topology at higher 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 the service topology between VPN si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7D8-FAAB-4224-8211-5E96854DB6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Status update since Singapore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136440" y="691920"/>
            <a:ext cx="88567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Firstly discussed in IETF 103 BESS meeting in Bangkok and there were consensus to adopt this work as BESS work item and It was in the queue for WG adoption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Secondly presented in IETF 106 TEAS meeting in Singapore and solicit input and feedbac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宋体"/>
              </a:rPr>
              <a:t>Update since last version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Mohamed Boucadair and Oscar as new coauthors of this draf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VPN summary statistics parameters at the network leve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reference time and measurement interval associated with performance measurement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delay-value at the link level with low-delay-percentile, middle-delay-percentile and high-delay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Replace average-jitter-value at the link level with low-jitter-percentile, middle-jitter-percentile and high-jitter-percent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Add low-percentile, middle-percentile, high-percentile at the network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宋体"/>
              </a:rPr>
              <a:t>YANG data model chang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标题 1"/>
          <p:cNvSpPr/>
          <p:nvPr/>
        </p:nvSpPr>
        <p:spPr>
          <a:xfrm>
            <a:off x="106200" y="101160"/>
            <a:ext cx="9448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Use Case:Real Time VPN Servic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406"/>
          <p:cNvSpPr/>
          <p:nvPr/>
        </p:nvSpPr>
        <p:spPr>
          <a:xfrm>
            <a:off x="192240" y="4548240"/>
            <a:ext cx="881352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Performance data source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etwork device,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Performance measurement method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IPPM method, MPL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ss and Delay 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nd to end Network performance calculation metho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ing PCEP solution [RFC8233] [RFC7471] [RFC7810] [RFC8571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The goal: Report end to end network performance or service level VPN network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e way delay between PE1 in site A and PE2 in Sit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acket loss between CE1 and PE1 in sit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N link bandwidth between CE2 and PE2 within Sit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21"/>
          <p:cNvSpPr/>
          <p:nvPr/>
        </p:nvSpPr>
        <p:spPr>
          <a:xfrm>
            <a:off x="6108840" y="2486160"/>
            <a:ext cx="25509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easure per link network performance in the underlying network using MPLS loss and delay measurement method and report in aggregated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4" descr=""/>
          <p:cNvPicPr/>
          <p:nvPr/>
        </p:nvPicPr>
        <p:blipFill>
          <a:blip r:embed="rId1"/>
          <a:stretch/>
        </p:blipFill>
        <p:spPr>
          <a:xfrm>
            <a:off x="2278080" y="1612800"/>
            <a:ext cx="3673440" cy="1614600"/>
          </a:xfrm>
          <a:prstGeom prst="rect">
            <a:avLst/>
          </a:prstGeom>
          <a:ln w="0">
            <a:noFill/>
          </a:ln>
        </p:spPr>
      </p:pic>
      <p:sp>
        <p:nvSpPr>
          <p:cNvPr id="1085" name="椭圆 365"/>
          <p:cNvSpPr/>
          <p:nvPr/>
        </p:nvSpPr>
        <p:spPr>
          <a:xfrm>
            <a:off x="2405160" y="3726000"/>
            <a:ext cx="2307960" cy="55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366"/>
          <p:cNvSpPr/>
          <p:nvPr/>
        </p:nvSpPr>
        <p:spPr>
          <a:xfrm>
            <a:off x="4071960" y="3740040"/>
            <a:ext cx="2309760" cy="55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332" descr="图片256"/>
          <p:cNvPicPr/>
          <p:nvPr/>
        </p:nvPicPr>
        <p:blipFill>
          <a:blip r:embed="rId2"/>
          <a:stretch/>
        </p:blipFill>
        <p:spPr>
          <a:xfrm>
            <a:off x="2701800" y="4159080"/>
            <a:ext cx="35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32" descr="图片256"/>
          <p:cNvPicPr/>
          <p:nvPr/>
        </p:nvPicPr>
        <p:blipFill>
          <a:blip r:embed="rId3"/>
          <a:stretch/>
        </p:blipFill>
        <p:spPr>
          <a:xfrm>
            <a:off x="347652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32" descr="图片256"/>
          <p:cNvPicPr/>
          <p:nvPr/>
        </p:nvPicPr>
        <p:blipFill>
          <a:blip r:embed="rId4"/>
          <a:stretch/>
        </p:blipFill>
        <p:spPr>
          <a:xfrm>
            <a:off x="2278080" y="3821040"/>
            <a:ext cx="357120" cy="176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332" descr="图片256"/>
          <p:cNvPicPr/>
          <p:nvPr/>
        </p:nvPicPr>
        <p:blipFill>
          <a:blip r:embed="rId5"/>
          <a:stretch/>
        </p:blipFill>
        <p:spPr>
          <a:xfrm>
            <a:off x="2995560" y="3678120"/>
            <a:ext cx="357120" cy="1764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371"/>
          <p:cNvSpPr/>
          <p:nvPr/>
        </p:nvSpPr>
        <p:spPr>
          <a:xfrm>
            <a:off x="3913200" y="3821040"/>
            <a:ext cx="1023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332" descr="图片256"/>
          <p:cNvPicPr/>
          <p:nvPr/>
        </p:nvPicPr>
        <p:blipFill>
          <a:blip r:embed="rId6"/>
          <a:stretch/>
        </p:blipFill>
        <p:spPr>
          <a:xfrm>
            <a:off x="4168800" y="3724200"/>
            <a:ext cx="358920" cy="17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32" descr="图片256"/>
          <p:cNvPicPr/>
          <p:nvPr/>
        </p:nvPicPr>
        <p:blipFill>
          <a:blip r:embed="rId7"/>
          <a:stretch/>
        </p:blipFill>
        <p:spPr>
          <a:xfrm>
            <a:off x="4168800" y="4087800"/>
            <a:ext cx="358920" cy="176400"/>
          </a:xfrm>
          <a:prstGeom prst="rect">
            <a:avLst/>
          </a:prstGeom>
          <a:ln w="0">
            <a:noFill/>
          </a:ln>
        </p:spPr>
      </p:pic>
      <p:sp>
        <p:nvSpPr>
          <p:cNvPr id="1094" name="直接连接符 374"/>
          <p:cNvSpPr/>
          <p:nvPr/>
        </p:nvSpPr>
        <p:spPr>
          <a:xfrm>
            <a:off x="4348080" y="39006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332" descr="图片256"/>
          <p:cNvPicPr/>
          <p:nvPr/>
        </p:nvPicPr>
        <p:blipFill>
          <a:blip r:embed="rId8"/>
          <a:stretch/>
        </p:blipFill>
        <p:spPr>
          <a:xfrm>
            <a:off x="4816440" y="365292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32" descr="图片256"/>
          <p:cNvPicPr/>
          <p:nvPr/>
        </p:nvPicPr>
        <p:blipFill>
          <a:blip r:embed="rId9"/>
          <a:stretch/>
        </p:blipFill>
        <p:spPr>
          <a:xfrm>
            <a:off x="5495760" y="3645000"/>
            <a:ext cx="357480" cy="176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32" descr="图片256"/>
          <p:cNvPicPr/>
          <p:nvPr/>
        </p:nvPicPr>
        <p:blipFill>
          <a:blip r:embed="rId10"/>
          <a:stretch/>
        </p:blipFill>
        <p:spPr>
          <a:xfrm>
            <a:off x="5173560" y="4202280"/>
            <a:ext cx="357120" cy="176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32" descr="图片256"/>
          <p:cNvPicPr/>
          <p:nvPr/>
        </p:nvPicPr>
        <p:blipFill>
          <a:blip r:embed="rId11"/>
          <a:stretch/>
        </p:blipFill>
        <p:spPr>
          <a:xfrm>
            <a:off x="6143760" y="3844800"/>
            <a:ext cx="417240" cy="300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28" descr="图片131"/>
          <p:cNvPicPr/>
          <p:nvPr/>
        </p:nvPicPr>
        <p:blipFill>
          <a:blip r:embed="rId12"/>
          <a:stretch/>
        </p:blipFill>
        <p:spPr>
          <a:xfrm>
            <a:off x="1622520" y="3656160"/>
            <a:ext cx="368280" cy="422280"/>
          </a:xfrm>
          <a:prstGeom prst="rect">
            <a:avLst/>
          </a:prstGeom>
          <a:ln w="0">
            <a:noFill/>
          </a:ln>
        </p:spPr>
      </p:pic>
      <p:sp>
        <p:nvSpPr>
          <p:cNvPr id="1100" name="直接连接符 380"/>
          <p:cNvSpPr/>
          <p:nvPr/>
        </p:nvSpPr>
        <p:spPr>
          <a:xfrm>
            <a:off x="1854360" y="390852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1364" descr="图片43"/>
          <p:cNvPicPr/>
          <p:nvPr/>
        </p:nvPicPr>
        <p:blipFill>
          <a:blip r:embed="rId13"/>
          <a:stretch/>
        </p:blipFill>
        <p:spPr>
          <a:xfrm>
            <a:off x="7128000" y="3803760"/>
            <a:ext cx="223560" cy="379440"/>
          </a:xfrm>
          <a:prstGeom prst="rect">
            <a:avLst/>
          </a:prstGeom>
          <a:ln w="0">
            <a:noFill/>
          </a:ln>
        </p:spPr>
      </p:pic>
      <p:sp>
        <p:nvSpPr>
          <p:cNvPr id="1102" name="直接连接符 382"/>
          <p:cNvSpPr/>
          <p:nvPr/>
        </p:nvSpPr>
        <p:spPr>
          <a:xfrm>
            <a:off x="6561000" y="399420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383"/>
          <p:cNvSpPr/>
          <p:nvPr/>
        </p:nvSpPr>
        <p:spPr>
          <a:xfrm>
            <a:off x="2559960" y="392580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384"/>
          <p:cNvSpPr/>
          <p:nvPr/>
        </p:nvSpPr>
        <p:spPr>
          <a:xfrm>
            <a:off x="3085920" y="3825720"/>
            <a:ext cx="154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385"/>
          <p:cNvSpPr/>
          <p:nvPr/>
        </p:nvSpPr>
        <p:spPr>
          <a:xfrm>
            <a:off x="4141080" y="3876840"/>
            <a:ext cx="152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386"/>
          <p:cNvSpPr/>
          <p:nvPr/>
        </p:nvSpPr>
        <p:spPr>
          <a:xfrm>
            <a:off x="4951440" y="3808440"/>
            <a:ext cx="160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387"/>
          <p:cNvSpPr/>
          <p:nvPr/>
        </p:nvSpPr>
        <p:spPr>
          <a:xfrm>
            <a:off x="5601240" y="3808440"/>
            <a:ext cx="14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388"/>
          <p:cNvSpPr/>
          <p:nvPr/>
        </p:nvSpPr>
        <p:spPr>
          <a:xfrm>
            <a:off x="6005520" y="3973680"/>
            <a:ext cx="169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89"/>
          <p:cNvSpPr/>
          <p:nvPr/>
        </p:nvSpPr>
        <p:spPr>
          <a:xfrm>
            <a:off x="2661480" y="362592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390"/>
          <p:cNvSpPr/>
          <p:nvPr/>
        </p:nvSpPr>
        <p:spPr>
          <a:xfrm>
            <a:off x="3628440" y="357336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91"/>
          <p:cNvSpPr/>
          <p:nvPr/>
        </p:nvSpPr>
        <p:spPr>
          <a:xfrm>
            <a:off x="4541760" y="3619440"/>
            <a:ext cx="2365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92"/>
          <p:cNvSpPr/>
          <p:nvPr/>
        </p:nvSpPr>
        <p:spPr>
          <a:xfrm>
            <a:off x="5217480" y="3578400"/>
            <a:ext cx="23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93"/>
          <p:cNvSpPr/>
          <p:nvPr/>
        </p:nvSpPr>
        <p:spPr>
          <a:xfrm>
            <a:off x="5948280" y="3635280"/>
            <a:ext cx="238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任意多边形 394"/>
          <p:cNvSpPr/>
          <p:nvPr/>
        </p:nvSpPr>
        <p:spPr>
          <a:xfrm>
            <a:off x="2124000" y="3749760"/>
            <a:ext cx="4950000" cy="350640"/>
          </a:xfrm>
          <a:custGeom>
            <a:avLst/>
            <a:gdLst/>
            <a:ahLst/>
            <a:rect l="l" t="t" r="r" b="b"/>
            <a:pathLst>
              <a:path w="4550735" h="350915">
                <a:moveTo>
                  <a:pt x="0" y="212691"/>
                </a:moveTo>
                <a:cubicBezTo>
                  <a:pt x="66453" y="207375"/>
                  <a:pt x="132907" y="202059"/>
                  <a:pt x="255181" y="180794"/>
                </a:cubicBezTo>
                <a:cubicBezTo>
                  <a:pt x="377455" y="159529"/>
                  <a:pt x="549349" y="115227"/>
                  <a:pt x="733647" y="85101"/>
                </a:cubicBezTo>
                <a:cubicBezTo>
                  <a:pt x="917945" y="54975"/>
                  <a:pt x="1148316" y="-1732"/>
                  <a:pt x="1360967" y="40"/>
                </a:cubicBezTo>
                <a:cubicBezTo>
                  <a:pt x="1573618" y="1812"/>
                  <a:pt x="1823483" y="76240"/>
                  <a:pt x="2009553" y="95733"/>
                </a:cubicBezTo>
                <a:cubicBezTo>
                  <a:pt x="2195623" y="115226"/>
                  <a:pt x="2369288" y="129403"/>
                  <a:pt x="2477386" y="116998"/>
                </a:cubicBezTo>
                <a:cubicBezTo>
                  <a:pt x="2585484" y="104593"/>
                  <a:pt x="2525233" y="37254"/>
                  <a:pt x="2658140" y="21305"/>
                </a:cubicBezTo>
                <a:cubicBezTo>
                  <a:pt x="2791047" y="5356"/>
                  <a:pt x="3065721" y="-12365"/>
                  <a:pt x="3274828" y="21305"/>
                </a:cubicBezTo>
                <a:cubicBezTo>
                  <a:pt x="3483935" y="54975"/>
                  <a:pt x="3700130" y="168389"/>
                  <a:pt x="3912781" y="223324"/>
                </a:cubicBezTo>
                <a:cubicBezTo>
                  <a:pt x="4125432" y="278259"/>
                  <a:pt x="4338083" y="314587"/>
                  <a:pt x="4550735" y="350915"/>
                </a:cubicBezTo>
              </a:path>
            </a:pathLst>
          </a:custGeom>
          <a:noFill/>
          <a:ln w="28440">
            <a:solidFill>
              <a:srgbClr val="0070c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395"/>
          <p:cNvSpPr/>
          <p:nvPr/>
        </p:nvSpPr>
        <p:spPr>
          <a:xfrm>
            <a:off x="3492360" y="3228840"/>
            <a:ext cx="1346400" cy="201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Controll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直接箭头连接符 396"/>
          <p:cNvCxnSpPr/>
          <p:nvPr/>
        </p:nvCxnSpPr>
        <p:spPr>
          <a:xfrm flipH="1">
            <a:off x="1980720" y="3333600"/>
            <a:ext cx="1502640" cy="462960"/>
          </a:xfrm>
          <a:prstGeom prst="straightConnector1">
            <a:avLst/>
          </a:prstGeom>
          <a:ln w="9360">
            <a:solidFill>
              <a:srgbClr val="990000"/>
            </a:solidFill>
            <a:prstDash val="dash"/>
            <a:miter/>
            <a:headEnd len="med" type="triangle" w="med"/>
          </a:ln>
        </p:spPr>
      </p:cxnSp>
      <p:sp>
        <p:nvSpPr>
          <p:cNvPr id="1117" name="TextBox 85"/>
          <p:cNvSpPr/>
          <p:nvPr/>
        </p:nvSpPr>
        <p:spPr>
          <a:xfrm>
            <a:off x="1116000" y="23511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VP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84"/>
          <p:cNvSpPr/>
          <p:nvPr/>
        </p:nvSpPr>
        <p:spPr>
          <a:xfrm>
            <a:off x="1119240" y="185256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84"/>
          <p:cNvSpPr/>
          <p:nvPr/>
        </p:nvSpPr>
        <p:spPr>
          <a:xfrm>
            <a:off x="1116000" y="201600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Node 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84"/>
          <p:cNvSpPr/>
          <p:nvPr/>
        </p:nvSpPr>
        <p:spPr>
          <a:xfrm>
            <a:off x="1116000" y="2185920"/>
            <a:ext cx="693720" cy="15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Link 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401"/>
          <p:cNvSpPr/>
          <p:nvPr/>
        </p:nvSpPr>
        <p:spPr>
          <a:xfrm>
            <a:off x="6141960" y="1114560"/>
            <a:ext cx="193680" cy="18720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405"/>
          <p:cNvSpPr/>
          <p:nvPr/>
        </p:nvSpPr>
        <p:spPr>
          <a:xfrm>
            <a:off x="1020600" y="739800"/>
            <a:ext cx="2221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Monitor per tunnel network performance report via pub/sub model or on demand RPC retriev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508"/>
          <p:cNvSpPr/>
          <p:nvPr/>
        </p:nvSpPr>
        <p:spPr>
          <a:xfrm>
            <a:off x="6426360" y="1146240"/>
            <a:ext cx="19684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Optimize network based on VPN service performanc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7"/>
          <p:cNvSpPr/>
          <p:nvPr/>
        </p:nvSpPr>
        <p:spPr>
          <a:xfrm>
            <a:off x="6130800" y="107640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椭圆 401"/>
          <p:cNvSpPr/>
          <p:nvPr/>
        </p:nvSpPr>
        <p:spPr>
          <a:xfrm>
            <a:off x="824040" y="754200"/>
            <a:ext cx="193680" cy="1857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58"/>
          <p:cNvSpPr/>
          <p:nvPr/>
        </p:nvSpPr>
        <p:spPr>
          <a:xfrm>
            <a:off x="812880" y="71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椭圆 401"/>
          <p:cNvSpPr/>
          <p:nvPr/>
        </p:nvSpPr>
        <p:spPr>
          <a:xfrm>
            <a:off x="5892840" y="2465280"/>
            <a:ext cx="193680" cy="187560"/>
          </a:xfrm>
          <a:prstGeom prst="ellipse">
            <a:avLst/>
          </a:prstGeom>
          <a:solidFill>
            <a:srgbClr val="409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5881680" y="2424240"/>
            <a:ext cx="1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lationship between VPN service topology and underlay top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727520" y="1379520"/>
            <a:ext cx="39592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pping between Overlay and Undera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ite-1,A,B,C are mapped to node (1,2),(3,4),(4,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ile Site-2 A,B,C are mapped to node (6,7),(8,9)(10,11) in the underlying physical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supporting hub-spoke communication for Customer 1 with connecting the customer’s access at 3 si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PN-svc 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ing hub-spoke disjoint communication for Customer 2 with connecting the customer’s access at 3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45A-39AD-4AC1-8DFF-8D274A3E3B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366840" y="1739880"/>
            <a:ext cx="4270320" cy="3067200"/>
          </a:xfrm>
          <a:prstGeom prst="rect">
            <a:avLst/>
          </a:prstGeom>
          <a:ln w="0">
            <a:noFill/>
          </a:ln>
        </p:spPr>
      </p:pic>
      <p:sp>
        <p:nvSpPr>
          <p:cNvPr id="1134" name="矩形 1"/>
          <p:cNvSpPr/>
          <p:nvPr/>
        </p:nvSpPr>
        <p:spPr>
          <a:xfrm>
            <a:off x="366840" y="5710320"/>
            <a:ext cx="87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200" indent="-160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Establish the relationship between underlay topology and VPN service 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0200" indent="-160200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and bind the VPN service to the tunnel (e.g., SR-TE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264960" y="703440"/>
            <a:ext cx="3560760" cy="5541840"/>
          </a:xfrm>
          <a:prstGeom prst="rect">
            <a:avLst/>
          </a:prstGeom>
          <a:ln w="0">
            <a:noFill/>
          </a:ln>
        </p:spPr>
      </p:pic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64960" y="489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Desig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225680" y="1587240"/>
            <a:ext cx="45464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gment I2RS Network Topo model [RFC8345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ervice topology parameters and vpn summary statistics info at network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site role of service topology parameters at nod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performance attribute at link level and termination-poin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asurement interval and reference-time associated with these performance data usually depends on configur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7D6-AD39-4D19-BBA8-51B29BE797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组合 8"/>
          <p:cNvGrpSpPr/>
          <p:nvPr/>
        </p:nvGrpSpPr>
        <p:grpSpPr>
          <a:xfrm>
            <a:off x="5005440" y="843120"/>
            <a:ext cx="3360600" cy="685800"/>
            <a:chOff x="5005440" y="843120"/>
            <a:chExt cx="3360600" cy="685800"/>
          </a:xfrm>
        </p:grpSpPr>
        <p:sp>
          <p:nvSpPr>
            <p:cNvPr id="1141" name="矩形 5"/>
            <p:cNvSpPr/>
            <p:nvPr/>
          </p:nvSpPr>
          <p:spPr>
            <a:xfrm>
              <a:off x="5005440" y="84312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2RS Network To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右箭头 6"/>
            <p:cNvSpPr/>
            <p:nvPr/>
          </p:nvSpPr>
          <p:spPr>
            <a:xfrm flipH="1">
              <a:off x="6220800" y="1082880"/>
              <a:ext cx="741240" cy="233280"/>
            </a:xfrm>
            <a:prstGeom prst="rightArrow">
              <a:avLst>
                <a:gd name="adj1" fmla="val 50000"/>
                <a:gd name="adj2" fmla="val 50045"/>
              </a:avLst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7"/>
            <p:cNvSpPr/>
            <p:nvPr/>
          </p:nvSpPr>
          <p:spPr>
            <a:xfrm>
              <a:off x="7149960" y="865080"/>
              <a:ext cx="1216080" cy="66384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PN Service Performance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椭圆 1"/>
          <p:cNvSpPr/>
          <p:nvPr/>
        </p:nvSpPr>
        <p:spPr>
          <a:xfrm>
            <a:off x="345960" y="1227240"/>
            <a:ext cx="2694240" cy="78264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12"/>
          <p:cNvSpPr/>
          <p:nvPr/>
        </p:nvSpPr>
        <p:spPr>
          <a:xfrm>
            <a:off x="787320" y="4538520"/>
            <a:ext cx="2692440" cy="4050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椭圆 13"/>
          <p:cNvSpPr/>
          <p:nvPr/>
        </p:nvSpPr>
        <p:spPr>
          <a:xfrm>
            <a:off x="531720" y="2743200"/>
            <a:ext cx="2694240" cy="32076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椭圆 15"/>
          <p:cNvSpPr/>
          <p:nvPr/>
        </p:nvSpPr>
        <p:spPr>
          <a:xfrm>
            <a:off x="733320" y="4164120"/>
            <a:ext cx="2694240" cy="4032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597600" y="6357960"/>
            <a:ext cx="219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hanges to the previous ver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erformance Monitoring Data Retrie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5251320"/>
            <a:ext cx="44416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subscription model [RFC8641] to subscribe to their interested network performance data in the data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486-54A8-41E7-965E-615308B790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8" descr=""/>
          <p:cNvPicPr/>
          <p:nvPr/>
        </p:nvPicPr>
        <p:blipFill>
          <a:blip r:embed="rId1"/>
          <a:stretch/>
        </p:blipFill>
        <p:spPr>
          <a:xfrm>
            <a:off x="0" y="939960"/>
            <a:ext cx="4373640" cy="41400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9" descr=""/>
          <p:cNvPicPr/>
          <p:nvPr/>
        </p:nvPicPr>
        <p:blipFill>
          <a:blip r:embed="rId2"/>
          <a:stretch/>
        </p:blipFill>
        <p:spPr>
          <a:xfrm>
            <a:off x="4948200" y="1112760"/>
            <a:ext cx="3807000" cy="3516480"/>
          </a:xfrm>
          <a:prstGeom prst="rect">
            <a:avLst/>
          </a:prstGeom>
          <a:ln w="0">
            <a:noFill/>
          </a:ln>
        </p:spPr>
      </p:pic>
      <p:sp>
        <p:nvSpPr>
          <p:cNvPr id="1155" name="直接连接符 9"/>
          <p:cNvSpPr/>
          <p:nvPr/>
        </p:nvSpPr>
        <p:spPr>
          <a:xfrm flipH="1">
            <a:off x="4657320" y="1052640"/>
            <a:ext cx="9720" cy="5443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内容占位符 2"/>
          <p:cNvSpPr/>
          <p:nvPr/>
        </p:nvSpPr>
        <p:spPr>
          <a:xfrm>
            <a:off x="4700520" y="4886280"/>
            <a:ext cx="4443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se RPC model to fetch network performance data on demand, e.g., the client requests packet-loss- count between PE1 in site 1 and PE2 in site 2 belonging to VPN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1"/>
          <p:cNvSpPr/>
          <p:nvPr/>
        </p:nvSpPr>
        <p:spPr>
          <a:xfrm>
            <a:off x="0" y="596880"/>
            <a:ext cx="30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Retrieval via YANG 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2"/>
          <p:cNvSpPr/>
          <p:nvPr/>
        </p:nvSpPr>
        <p:spPr>
          <a:xfrm>
            <a:off x="4829040" y="64944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2.On-demand Retrieval via RPC polling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996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fficient support in IETF 103 and already in the queue for WG ad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authors believe this draft is a good shape for WG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ETF107 BESS Virtual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8ECA-2181-4F1D-9E5A-DCF453F742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05:52Z</dcterms:created>
  <dc:creator>Rajeev-K</dc:creator>
  <dc:description/>
  <dc:language>en-US</dc:language>
  <cp:lastModifiedBy>Qin Wu</cp:lastModifiedBy>
  <dcterms:modified xsi:type="dcterms:W3CDTF">2020-04-26T11:03:28Z</dcterms:modified>
  <cp:revision>635</cp:revision>
  <dc:subject/>
  <dc:title>NetExt B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jIrgzz1CE1yQ6yubTeb1+r/1xHIhEzV+l8wzJz5EQgqK7go/UVyngVKI4QN0CRxh/+UZhrDT
QXjtq9aeiDUh+LQeuPX2YmgTchFu3VByIU+LIav9izCdP8jDefWCuqxfx0k9GFdcnsYnhpTc
ecKhzhNzXeswx0bwPRnyZIcjOXq+m/XfagHtATxd8JGygn0mv/oi5wkmoREWaTqbSl73wwXy
nbC2bVlhrLLxQmix/C</vt:lpwstr>
  </property>
  <property fmtid="{D5CDD505-2E9C-101B-9397-08002B2CF9AE}" pid="3" name="_2015_ms_pID_7253431">
    <vt:lpwstr>mXWXhHzJXymyZ9x7KK08lszp0fBwszYCjMiJ3tenZNdQk+EyQv6TYD
cwUNOgG0TW/C24sdbY33hAMicGJAl6SLNoe9dplaUK/nS1PfYUJUT/eIVK6Rw4zkQ1iO8Zl+
XYzua0cJOtQ6Qj2x2ZAJQgORBVTU94mMVca8xykFdYwWg1dCJcjESoxen8WOWSwo8VA3YOXO
q9PN5ewI4u65noHGXroOjjPi3vBboC4Uvqhc</vt:lpwstr>
  </property>
  <property fmtid="{D5CDD505-2E9C-101B-9397-08002B2CF9AE}" pid="4" name="_2015_ms_pID_7253432">
    <vt:lpwstr>HbB7ueXaJ0RhjD1XSFG/hkI=</vt:lpwstr>
  </property>
  <property fmtid="{D5CDD505-2E9C-101B-9397-08002B2CF9AE}" pid="5" name="_change">
    <vt:lpwstr/>
  </property>
  <property fmtid="{D5CDD505-2E9C-101B-9397-08002B2CF9AE}" pid="6" name="_full-control">
    <vt:lpwstr/>
  </property>
  <property fmtid="{D5CDD505-2E9C-101B-9397-08002B2CF9AE}" pid="7" name="_new_ms_pID_72543">
    <vt:lpwstr>(3)on4x6Ff1a1kK4BCrMFuWEwa9W4EBbYWuiUGvh2F/bcyJ5sAbKDmtt8Von42tsGmNAdEjcGvh
qZz9YoEyrJAc3qYe605b18W2arXLTGL1FPWUTxZS/hEadKpdj++doCFVFvM/3GHrQ7VBZFC4
8ouLoWqeonM17sL7PoMkl8abgMwFfp53KLSWTV9uF9FozNCF+0Jtn6hcxk0nxOtGGz2f2TkP
zK4CNYyE/N9zZTtjgR</vt:lpwstr>
  </property>
  <property fmtid="{D5CDD505-2E9C-101B-9397-08002B2CF9AE}" pid="8" name="_new_ms_pID_725431">
    <vt:lpwstr>LFE0+YVxcriGp+RDi+1gDylO1gfHV9ND7D2Xe0JgNsUGIEKfQVCSyw
GKFjp03kMuEO1IhOhTUVMiSdwz76iTY4gjjk6eGJAPtern/8PekzlcqNA/9JjN4cURAkO0WJ
U7UPS2NOiDTbeB0BqnzOkFdClEpuVVzxoZX0996ipsac97l5F5fzGpAgroTyy+MIcHJhQ675
Ug9mCKMnFtu13yGC1CHgWGwV1h99gLS2Iinn</vt:lpwstr>
  </property>
  <property fmtid="{D5CDD505-2E9C-101B-9397-08002B2CF9AE}" pid="9" name="_new_ms_pID_725431_00">
    <vt:lpwstr>_new_ms_pID_725431</vt:lpwstr>
  </property>
  <property fmtid="{D5CDD505-2E9C-101B-9397-08002B2CF9AE}" pid="10" name="_new_ms_pID_725432">
    <vt:lpwstr>ZJsLrw3IKgJMRhkB0w/HX+fjqzGwzF8n4yK8
vlbT4qBwjp1qi5f3TXfbbeeu3pAG97ZpBDfYuD2uV9lAzcpTFpuqpEz/v+WHfRqGA3NT0uMA
Xl1Aa/YkC/04Qca3bHg4aQ==</vt:lpwstr>
  </property>
  <property fmtid="{D5CDD505-2E9C-101B-9397-08002B2CF9AE}" pid="11" name="_new_ms_pID_725432_00">
    <vt:lpwstr>_new_ms_pID_725432</vt:lpwstr>
  </property>
  <property fmtid="{D5CDD505-2E9C-101B-9397-08002B2CF9AE}" pid="12" name="_new_ms_pID_72543_00">
    <vt:lpwstr>_new_ms_pID_72543</vt:lpwstr>
  </property>
  <property fmtid="{D5CDD505-2E9C-101B-9397-08002B2CF9AE}" pid="13" name="_readonly">
    <vt:lpwstr/>
  </property>
  <property fmtid="{D5CDD505-2E9C-101B-9397-08002B2CF9AE}" pid="14" name="sflag">
    <vt:lpwstr>1540947804</vt:lpwstr>
  </property>
</Properties>
</file>