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FD58-5DC3-4D21-8733-B9890CC4C1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9F53-978D-43DD-932B-7127B6117BD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87E-A02E-44E8-82B0-F4CAD604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BE8-823D-4BAE-BDB3-9D19DB40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69EED-0EB2-4CE8-97E8-BC7BA852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842ED-6F42-49A3-8672-06606DC8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FAFB0-8A21-4524-9494-206FF0A3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B058A-D27E-4ECA-87D7-4E33A68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49A7F-51C9-47B5-8FEC-F079418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896E7-6C3E-441A-8A93-7A3AB8BE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D7C9C-8261-4F71-81C0-2C54C04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59798-9945-49DB-98F3-8E828D6C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A390C-9890-492E-BA61-B3791329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956D6-BD69-4885-B370-19143534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05D-2A4A-4FD6-88D8-E7BE88AA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1FDF9-7F5D-415B-996B-7E9FEC43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28256-0832-4211-B4D5-B97A8D43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03AC8-13F9-4BB7-B986-0F6D9A4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86716-D4A9-4F93-8AD5-2C83536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BFADF-0059-4EA0-8C1E-CE1EC9E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7CA56-18A7-4125-9A25-A79B68D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1637D-928E-4EBE-8AC2-31EC243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320CA-F3E0-4D76-80D7-6B52FF5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41A67-6A20-44D2-9E07-7C2B2881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2CBA6-472B-4C15-83F2-F8687494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2D6-6052-4B44-8858-85C6E1D9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216C5-60C4-4306-AF55-C2ECE795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314B-D567-4089-AAB0-77CABE74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60BE7-B13C-4F96-8FD8-694CD99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8DBDB-FAE8-45F4-8CFB-15100B38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D3C7-D464-4BCF-AA3E-B443EB97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0D18D-DDB0-4A14-803C-E152318E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5AC9-774C-415E-8CC2-0388A5EA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73EE-A09E-4953-8EC9-EB0A0B0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CA290-832F-438D-A75A-383CB1E5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4F184-0B05-48BD-95F0-17307EF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2879-9F43-47B2-988E-3F3480AE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7DFD8-72A5-4A82-8B00-5F630A6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7E5E3-4A46-488A-8619-7465E978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1EB94-D777-4962-8940-DAF8BBE4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9CEEA-97C7-446F-87A6-FD355471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EAECC-2CBB-4AE3-BF8C-B2BAA889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D8F2B-3260-4BAF-B40E-0FA8B27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8DB98-E82F-4032-95F6-BB126C02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E2DD0-830E-4C61-9D85-BE41A4C5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2478B-78A6-48C2-BC6C-DECFF85B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73412-366A-4C92-85C4-DCC6FEE2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49D-23E7-410E-86B8-EB0D6D79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2A71C-F745-422C-9A6C-024FEA7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601ED-0253-4477-90DB-4249670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E12CB-C194-4A0B-A00E-C0769D91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65222-09E7-4D70-B11A-5924C546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D7C2D-B5CC-44B7-911F-79541526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C951A-11F2-4D4E-8F7F-794FAC65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E52B2-75C7-43FD-8302-82793900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6BC20-0EBF-479C-941E-8A1828E9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7E208-6C7C-4946-8611-E18D6CA3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2DB5E-0A93-496D-BF6E-160BC65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9C78-05FB-40DE-8420-BAA8776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7A12D-95D1-4C91-BDDD-7BC79761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C58AA-D4F9-45CC-B5FE-F6A1E525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44DA7-7FD5-4447-BBA1-4DA08D9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1B188-A8CB-4569-BBBB-80B2D902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B7A62-3F77-4744-A57B-DDF7864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D6911-3840-4B59-8F10-5E0C4583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F6301-F39D-41FA-B7A4-D0A14EEC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FD728-CA3F-4BEA-984A-BC05D267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6781A-AADD-4AA9-97CC-18205B84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C4CA6-390F-4D6D-9857-E769C362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9CE4-F9E7-4231-83D6-525BBE4C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5C6FA-EFBA-4D29-9B46-2C44B5D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3395B-906F-467B-BF02-2E5F5DE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23BB3-3FBD-4073-B705-FD97638F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57EC8-C729-4395-AA6F-17C1DDB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FB3B8-DC46-4809-B89A-0F4C830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7C072-4F11-4193-B8DC-BAF39E5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407D1-C1DA-45F9-9C01-352B326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F1B22-7542-4C95-986E-DD1D90A6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C0438-15FB-447A-8B0B-2CFE3428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0DF3B-B740-4338-A89D-F373E545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6208-94B5-4B61-AC83-7F4C7F47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DCC47-DAC6-4683-8B13-E5B70EBC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B689E-B08E-49A7-AE1B-3B813371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CD337-EA23-4C0B-84F0-AC42E42D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09647-316B-408B-A20B-C7180807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A065A-9F28-4363-9217-8D513220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1DAF8-D106-4445-8449-8220C47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1235E-F2E6-487C-ACA0-86800850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889D2-4D13-4266-AC62-68455FDD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C69E8-515E-4204-8AAF-1E643CEA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62668-C7E5-4444-A219-61031AC3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196D-D322-4184-96A9-D59F893E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5F012-97E9-4970-8324-57E8B0E5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014ED-4576-42C5-B4EF-E1F6590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86F9E-8C10-43B7-9A7B-5D0AA1DC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9C901-8003-4BC0-BAF8-E52CB627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12C69-21E5-4650-8D9A-8C6AB9D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1ED09-12D1-4541-9D4C-555584C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95A29-5CC8-474A-95D8-190F69D9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AD7C5-7813-4438-BFD9-036D3583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9279B-596D-4C7B-A7FF-04409B0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81905-9972-441E-B402-932E78D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E89E-35D7-444E-8EBD-9C79BBDB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D7734-84C3-4045-A5B9-B83ADF0B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91586-840C-44C8-AE85-8C6645F1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B83EB-B03A-4AD8-88E5-75FDBAEC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19C67-097F-44C1-95FA-712DD504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3B419-E06F-4536-BA53-6B02E096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20C32-4563-4D99-A926-BA11C62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DFE97-F09B-4488-A496-D0002EE6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4051F-AF24-4A6E-B41F-7E2EB93C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BCB44-40F8-4DA2-B355-F4C8C64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2DD34-9E48-4847-B30E-0DD2A1E1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75B-F42F-40D6-A9D5-8D2777F4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ED73-CC43-449E-9C53-410435E9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896EE-1D08-41E8-9E18-31C0BC1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5C6F4-64CA-4DEC-9187-03DD522D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E5F6B-B36F-46B7-84A0-1454F32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2474B-A554-4369-91FA-7BB94A55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1ED43-812B-4043-BAC0-3818A572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56110-04E4-45AD-BFD9-DCA9033F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BF44B-EEFC-4E70-8508-A17E8DE0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83EF1-3AF7-4936-BF1C-E1D2CFD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448E3-8041-4E9A-BDB4-D6135EC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4ECB1-B723-4976-902E-32F9BCAE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8CF3-9B54-4BC3-A8F3-F9ACA57C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03EAC-30CF-439E-AD5A-8940AA1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CFCE8-2431-4224-B365-06CCF75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C6FD0D-C03D-4FDB-AB8F-58340C63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172F2-A6C7-43EF-ABBB-CC5781FB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EFA00-847B-4C79-BA31-248D3A6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664FA-0453-4189-AFD4-E7FF8766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6057B-02EE-401E-93D7-FE48E722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802B7-E2C4-46A1-A0C0-35AF338E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2CFDD-072F-4188-8318-DB8549C2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A8051-15F1-4D34-9FE9-0A892A30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CB19-5370-4341-953A-1F013723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E4539-FD16-4E6F-A208-DD7498A0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98977-9B79-4E72-9074-6CB41A9E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49C054-759C-428C-AF5D-F5AC00F6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F1C60-13D7-4C69-BC3D-20D77BB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8B6F2-A919-4FFA-A323-2E28CB9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EE17F-0BDF-4E1E-B8BA-3A574C5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A9FCA-59DE-4877-BAD9-C8C03E2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7DF2D-EB13-48E4-8C9D-F9FBA351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CD580-91F8-48DF-9062-B8BDEA4F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29EA88-52F7-487E-B402-E2A085CD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724F-0396-43E9-AC44-6B680BF8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A9A6E-1C29-4A52-BE5D-B1A06CD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22089-1504-4455-A49E-6151EA67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D193E-4802-463B-827A-70E41AB4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79D3A-94D6-480A-B591-C5D3903B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402B8-1AB6-4BAC-A910-C6EB3497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01A3AE-1D35-4BC8-AB88-5FAC18F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97B03-C15B-4799-80BE-B63EC27F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13F3E-BC5D-4E45-9914-485D4E0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E7D2D-5C7A-4B81-97CB-2369AC4D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C8E75-41E5-46BA-A99D-24885F73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E9FF-B5C6-46E8-AAB4-463E8D52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21FF1-9331-47C2-AAC2-043A9913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7C6B9-D096-4FDC-A013-A9F19CDB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FAFF8-9B6E-4684-BEDE-BAC46DC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C488C-1FCB-4DFE-BD63-0D25654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BF6D9-FBB4-4483-9F2A-16D89057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2B6EB-B10E-4B47-91B1-7D48CC98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6A9E8-4250-4748-8835-4B1C9162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09C3A-CE24-413B-A1AD-E05EA24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4E9A5-3D32-4D69-B59B-3B70076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91CDC-9D37-4B57-BF05-9929C70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D95A-D895-46B0-8933-7C79A59E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AA5D1-2ED3-4676-A535-08FCA9A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58C957-3214-48F2-891A-925241CE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CEA39-0A21-465B-9C22-BDA297F0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65258-D0E0-4166-A677-18D81C61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8037D-DD3C-4118-96D5-93743350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BCB067-CB48-4C99-9D6F-DB0BBCDA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5005C6-2A82-447E-9891-FEA5F015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95853-6545-42CE-AEEC-66BFB999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F9DE5A-FFB8-4C87-A44A-DF8DCAEF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453260-20B8-48EF-9F57-5989FC8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BD57-5C2E-4303-9127-D89CBF76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B1CC6-D854-404A-9C4F-0D5409C1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30E37-43D9-4B92-A591-F8ABA1E5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98178E-8DCE-4873-878A-73679A43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B9F4F4-8B0E-4F42-AD47-D833BE8F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0D6FB-B082-4EAD-8B3A-6585EE05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420C9-EA46-4B95-91EB-FC26B24F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BC6C64-C405-4BDB-8437-406985F0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49BD04-849F-4AAA-94CB-334C0205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660857-56CC-4FDB-8EAA-9A12E76F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6CF5EE-8DC3-4D3A-ACA9-AF0B4C5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2925-F534-44AE-AA31-4C68C8D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750CC8-0347-4555-BB19-492DAB68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86A0B9-31C0-43F5-A554-37FBA2B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FF8FA-1555-45AD-A88C-4A30DEA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DDC0EC-0552-4D54-B998-65818FD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CF20E2-A20C-4B12-B5B9-88C0F9D4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AB09E-F925-46E4-A4D4-F38E3726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186B03-C3CE-49EF-8FF7-01E6C9D0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B890BC-21C3-484E-ACA0-7543F79A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459C7A-F8C5-49A1-8618-2083A811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3FE026-1E47-4992-B9F7-67094169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912B-6F72-4B7E-B793-79E69C8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22B18B-7514-4990-8B8F-52439CB2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66FA97-8554-4991-A6E1-BB821D4C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4FBEB2-B649-4FE7-80DB-41985F6F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DCE88E-6DE6-4F6E-AFAB-7284212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90E45D-7F7E-418F-A999-378DD83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C90190-56F8-455A-84B3-CD0D052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3CE6EC-521D-4622-9230-814EE1A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F92842-023B-438C-80A4-B8F803F1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656300-31E0-4AA0-9AD4-CE6D6E28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522F3E-F8B4-4824-9141-B04739AF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829B-F726-4EDA-8232-AD0289F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362A59-085B-407C-B8CB-7F83712D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1D1750-9342-4820-9277-A034A2AB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566017-7E8D-4AB2-A6B1-C234C5AC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F48AAC-E936-450D-97B1-DDAE819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1536EC-60EE-4057-BC9E-C02CF50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89D0D4-E552-433D-BE84-946EC52E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D7A4A6-6E83-47D4-8A53-D65ECC0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1529B-DE00-4368-914C-0B6B0E6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4B36BA-34F4-45C8-9460-91AA546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FAE186-76C8-4DF5-9433-1A96358F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DFE-FC93-469D-8FFC-C321DD67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D161-B201-4547-818B-B24EAD2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2BA7D6-869E-44AA-95E4-12D1192D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B4F9-542B-4C54-AAC3-CB4BC970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40BC-0788-403E-873B-46713F7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9A4F-F293-4CCD-B254-0703691F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689F-07F8-49E1-B4C1-9E56444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4580-2930-46BF-9FBD-B3AD2763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80BB-B1AD-4CE7-B95D-6665EEDD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B4C9-1AC9-48F1-9A7B-66C86218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9410-AB07-49F4-A545-6E17E03A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A234-B216-451E-BDA9-533A37F6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904-677B-4CB8-B133-1627D38A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43A0-552F-440D-8CC6-6E4AC591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313C-A68C-4557-ABEB-EA4B2D7E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E5E5B-1A9B-4477-B4E9-E7686C4E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A0CC-ED9C-40F3-98A4-D4C3CAE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581A-AC69-4140-8A74-386C831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402D-953D-43F0-8C21-310E8E7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3980-CF4A-4A4F-A075-965E7BB6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CB86-716F-4B36-9E42-5121C387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692D-69F7-459D-ADBE-647CFF52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625A-DD88-4E69-A240-FA51F19C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C4E-19AC-4AC8-86A4-68251FF2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758FA-DF86-4064-8D6F-F4462D82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5154-98AA-45B8-8EBB-81A7C012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FC27-E6D7-4F66-954E-EBAA66C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9359B-106B-4D95-86BC-8412061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18AD-3325-4EDE-87D6-A846FFE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7259E-EADB-49AC-A9EC-DF1C412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D245-7B42-4C42-B9AA-2B0DBBA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B20C-447F-4B09-A939-C82882E2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525B-7001-48A1-A004-DB0F8AEB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3BC8C-B97E-4E32-8E54-480614C7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8EF-0083-4995-9891-0EC33DC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8230-130F-4958-A79E-828EA2B7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9066-18D2-43DD-92F4-724F1B91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611A9-42E2-4310-85BF-8822ACCF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A722-FBF7-4843-A0D0-140B60B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26ED-5BB8-443A-9D5A-42766364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A8CB-AE1D-4C4F-BD43-94F41B1E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7FFA8-3DAD-448C-9F73-70D2688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C513-D01F-4173-BD74-EF1FEE4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9A00-8D70-404D-8BF8-66C43D09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1C33C-A0C1-46FB-B7D4-E7DA5B30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958-6E2C-4E29-BB49-F8AD07B2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0B7D-07DD-4E67-B1A2-0F23C448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E379-FAEA-4C76-83DE-53B43C58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5B1A-1EBC-4FCD-ADB9-34DE3323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3A3E-37D8-4993-B374-CECD5CA3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2878-A3E4-466D-98C3-3E54AD8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C10DB-5B89-4010-878F-31302379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5490-80E2-418B-8010-9F1DFC7B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C1E9F-9A94-4D87-8BD6-AD33E98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EFD8-F14A-4DA8-9FB1-569801F8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EF3B6-2132-487D-A925-A2858E4D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034-9CC1-4B47-916B-B4E7B32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05DE9-CE6C-46D6-B2AD-762D6E3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96343-47A6-4B65-9CCA-7EC782B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992D6-5B88-49E3-BCA0-B7FD2A06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02FCC-51EE-49FB-8646-30A346EF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0AF22-03F9-47BA-B16F-1B2291D3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EDC9-7BED-4074-948D-222D923E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983C6-C98F-4CD4-A68A-64533FC1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53B61-0622-4686-B153-3C16A27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E9EE-2894-4CDC-A774-BCB12C4C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2902-68D5-4077-94CC-AAC536D3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32B-1C5C-41E7-8A32-1DF400E5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26F9C-AB42-4DC4-A8A3-ED8485F8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F0B43-7A50-4DD2-AF82-D1C5700A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B1E86-B093-4C43-A62B-3A85306B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8CBE9-F59F-49D8-8016-D33098A4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4218D-9C86-4338-B9C8-216EE10B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9E09F-3289-4DD6-93C9-C10DAD45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42EFC-1104-4447-80E4-63427429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5DD67-4DA1-4C7E-BB4D-365CF405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190FD-F535-4961-B942-0D101422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64BD5-D808-42FD-B897-CFACE28B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690C-5680-4B5B-8104-AFF431F4AE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0B31-2D07-480E-8F20-E4EEEFE7C1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70BD-9261-464A-8FBD-6CC3C836E7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CFC-AC18-40FE-A4E5-2111E43586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D218-D498-44D8-BDDE-E7B1397C74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DE7E-84B8-4B5F-84B4-BB5D124947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516E14B7-E8ED-4768-9B88-ADFAAAFA5D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3EE96F5D-94DF-4E46-B432-8D24804332D3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72808A2A-E45E-4EB7-9CC1-33853F44A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2918191-DA72-46B3-87F6-505C6FC497B7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4914922F-CE45-4698-BB6B-1AA0074D5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2A0D38DC-D3E7-4C9F-A9D9-D4E0EBECFD64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6CAA834-4446-40E4-A093-3DE6CC2213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22F334F1-B5DD-441A-A739-3DA76AE42718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2D463BFD-B624-48B9-BAF1-F8E4C64BB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4FE1DA9C-6195-49DB-95C0-35ACA286F762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912B-381E-4D45-BBCF-C4A8A34E4D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10F3237-E36F-41A4-89B2-6B457F415A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4BE4237-757B-435C-828F-5384CAC40145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DFDAEC4-1662-4B2B-BE0D-8A2FE4840E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B5571120-CE68-4473-9471-B4D9C84FADA6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2B19E43-3237-4B83-9AD3-1877FC727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B6B3A80-23DF-4866-ACAE-0B11F5DF6790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50B09731-C939-493C-8B5C-F37EEED4A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B4AB1FE-3BAA-48F0-A7F6-39C368EEFF2E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4D8F4451-D16E-4460-8CC7-0A49964F3C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D1CD06E-28D1-4134-B184-FEBA02F79935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0482750-21E4-441C-89AE-AA6001A18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EE9321A-2170-42C3-A148-3AD25919F688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C28CBC6E-F586-4D58-BBDF-055695B5CD51}" type="datetime"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894AF9A5-FCF3-4B21-BEB6-CF975CF25551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D59-EEEB-40AE-88F5-FA03DB4135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F950-1748-4C84-BA65-050841BFDC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2EA-B552-4EA1-A7BA-CD239EB9F5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0F8B-E317-4ECB-8501-EB511AB663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069-F39A-44EB-B0B6-29A4D8E333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161-5C23-46CB-9C8B-4FEF8EA53F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73200" y="143316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 YANG Model for Network and VPN Service Performance Monitoring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www-bess-yang-vpn-service-pm-0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247760" y="4107960"/>
            <a:ext cx="64008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in Wu (Huaw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hamed Boucadair (O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car Gonzalez de Dios (Telefo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n Bin (Com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Liu (China Uni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nglei Xu (China Tele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 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ril 28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DCD-9512-4693-870E-4ACE6A18F5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30200" y="-360"/>
            <a:ext cx="78976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112680" y="649080"/>
            <a:ext cx="89330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r layer Network performance measurement protocol and methodology for Ethernet traffic, IP traffic, MPLS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asurement protocol such as OWAMP, TW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tric such as one way delay, roundtrip delay, loss, 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PLS traffic performance measurement such as MPLS loss and delay measurement for MPLS[RFC6374], MPLS-TP loss and delay measurement[RFC637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 traffic performance measurement such as Y.17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e of these performance monitoring mechanism can be used to report service level or end to end networ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defines a YANG model for both Network Performance Monitoring and VPN Service Performance Monitoring that can be us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nitor and manage network performance on the topology at higher 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 the service topology between VPN si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6000-226E-465E-8AAC-AF54C0EC83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Status update since Singapore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136440" y="691920"/>
            <a:ext cx="88567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Firstly discussed in IETF 103 BESS meeting in Bangkok and there were consensus to adopt this work as BESS work item and It was in the queue for WG adoption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Secondly presented in IETF 106 TEAS meeting in Singapore and solicit input and feedback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Update since last version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Mohamed Boucadair and Oscar as new coauthors of this draf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VPN summary statistics parameters at the network leve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reference time and measurement interval associated with performance measurement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delay-value at the link level with low-delay-percentile, middle-delay-percentile and high-delay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jitter-value at the link level with low-jitter-percentile, middle-jitter-percentile and high-jitter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low-percentile, middle-percentile, high-percentile at the network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YANG data model chang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标题 1"/>
          <p:cNvSpPr/>
          <p:nvPr/>
        </p:nvSpPr>
        <p:spPr>
          <a:xfrm>
            <a:off x="106200" y="101160"/>
            <a:ext cx="9448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Use Case:Real Time VPN Servic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406"/>
          <p:cNvSpPr/>
          <p:nvPr/>
        </p:nvSpPr>
        <p:spPr>
          <a:xfrm>
            <a:off x="192240" y="4548240"/>
            <a:ext cx="881352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Performance data source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device,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Performance measurement method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IPPM method, MP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ss and Delay Meas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nd to end Network performance calculation metho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ing PCEP solution [RFC8233] [RFC7471] [RFC7810] [RFC8571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The goal: Report end to end network performance or service level VPN network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e way delay between PE1 in site A and PE2 in Sit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cket loss between CE1 and PE1 in sit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N link bandwidth between CE2 and PE2 within Sit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21"/>
          <p:cNvSpPr/>
          <p:nvPr/>
        </p:nvSpPr>
        <p:spPr>
          <a:xfrm>
            <a:off x="6108840" y="2486160"/>
            <a:ext cx="25509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easure per link network performance in the underlying network using MPLS loss and delay measurement method and report in aggregated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4" descr=""/>
          <p:cNvPicPr/>
          <p:nvPr/>
        </p:nvPicPr>
        <p:blipFill>
          <a:blip r:embed="rId1"/>
          <a:stretch/>
        </p:blipFill>
        <p:spPr>
          <a:xfrm>
            <a:off x="2278080" y="1612800"/>
            <a:ext cx="3673440" cy="1614600"/>
          </a:xfrm>
          <a:prstGeom prst="rect">
            <a:avLst/>
          </a:prstGeom>
          <a:ln w="0">
            <a:noFill/>
          </a:ln>
        </p:spPr>
      </p:pic>
      <p:sp>
        <p:nvSpPr>
          <p:cNvPr id="1085" name="椭圆 365"/>
          <p:cNvSpPr/>
          <p:nvPr/>
        </p:nvSpPr>
        <p:spPr>
          <a:xfrm>
            <a:off x="2405160" y="3726000"/>
            <a:ext cx="2307960" cy="55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椭圆 366"/>
          <p:cNvSpPr/>
          <p:nvPr/>
        </p:nvSpPr>
        <p:spPr>
          <a:xfrm>
            <a:off x="4071960" y="3740040"/>
            <a:ext cx="2309760" cy="55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332" descr="图片256"/>
          <p:cNvPicPr/>
          <p:nvPr/>
        </p:nvPicPr>
        <p:blipFill>
          <a:blip r:embed="rId2"/>
          <a:stretch/>
        </p:blipFill>
        <p:spPr>
          <a:xfrm>
            <a:off x="2701800" y="4159080"/>
            <a:ext cx="35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32" descr="图片256"/>
          <p:cNvPicPr/>
          <p:nvPr/>
        </p:nvPicPr>
        <p:blipFill>
          <a:blip r:embed="rId3"/>
          <a:stretch/>
        </p:blipFill>
        <p:spPr>
          <a:xfrm>
            <a:off x="347652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32" descr="图片256"/>
          <p:cNvPicPr/>
          <p:nvPr/>
        </p:nvPicPr>
        <p:blipFill>
          <a:blip r:embed="rId4"/>
          <a:stretch/>
        </p:blipFill>
        <p:spPr>
          <a:xfrm>
            <a:off x="2278080" y="3821040"/>
            <a:ext cx="357120" cy="176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332" descr="图片256"/>
          <p:cNvPicPr/>
          <p:nvPr/>
        </p:nvPicPr>
        <p:blipFill>
          <a:blip r:embed="rId5"/>
          <a:stretch/>
        </p:blipFill>
        <p:spPr>
          <a:xfrm>
            <a:off x="2995560" y="3678120"/>
            <a:ext cx="357120" cy="1764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371"/>
          <p:cNvSpPr/>
          <p:nvPr/>
        </p:nvSpPr>
        <p:spPr>
          <a:xfrm>
            <a:off x="3913200" y="3821040"/>
            <a:ext cx="1023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332" descr="图片256"/>
          <p:cNvPicPr/>
          <p:nvPr/>
        </p:nvPicPr>
        <p:blipFill>
          <a:blip r:embed="rId6"/>
          <a:stretch/>
        </p:blipFill>
        <p:spPr>
          <a:xfrm>
            <a:off x="4168800" y="3724200"/>
            <a:ext cx="358920" cy="176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32" descr="图片256"/>
          <p:cNvPicPr/>
          <p:nvPr/>
        </p:nvPicPr>
        <p:blipFill>
          <a:blip r:embed="rId7"/>
          <a:stretch/>
        </p:blipFill>
        <p:spPr>
          <a:xfrm>
            <a:off x="4168800" y="4087800"/>
            <a:ext cx="358920" cy="176400"/>
          </a:xfrm>
          <a:prstGeom prst="rect">
            <a:avLst/>
          </a:prstGeom>
          <a:ln w="0">
            <a:noFill/>
          </a:ln>
        </p:spPr>
      </p:pic>
      <p:sp>
        <p:nvSpPr>
          <p:cNvPr id="1094" name="直接连接符 374"/>
          <p:cNvSpPr/>
          <p:nvPr/>
        </p:nvSpPr>
        <p:spPr>
          <a:xfrm>
            <a:off x="4348080" y="39006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332" descr="图片256"/>
          <p:cNvPicPr/>
          <p:nvPr/>
        </p:nvPicPr>
        <p:blipFill>
          <a:blip r:embed="rId8"/>
          <a:stretch/>
        </p:blipFill>
        <p:spPr>
          <a:xfrm>
            <a:off x="4816440" y="365292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32" descr="图片256"/>
          <p:cNvPicPr/>
          <p:nvPr/>
        </p:nvPicPr>
        <p:blipFill>
          <a:blip r:embed="rId9"/>
          <a:stretch/>
        </p:blipFill>
        <p:spPr>
          <a:xfrm>
            <a:off x="5495760" y="3645000"/>
            <a:ext cx="357480" cy="176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32" descr="图片256"/>
          <p:cNvPicPr/>
          <p:nvPr/>
        </p:nvPicPr>
        <p:blipFill>
          <a:blip r:embed="rId10"/>
          <a:stretch/>
        </p:blipFill>
        <p:spPr>
          <a:xfrm>
            <a:off x="517356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32" descr="图片256"/>
          <p:cNvPicPr/>
          <p:nvPr/>
        </p:nvPicPr>
        <p:blipFill>
          <a:blip r:embed="rId11"/>
          <a:stretch/>
        </p:blipFill>
        <p:spPr>
          <a:xfrm>
            <a:off x="6143760" y="3844800"/>
            <a:ext cx="417240" cy="300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28" descr="图片131"/>
          <p:cNvPicPr/>
          <p:nvPr/>
        </p:nvPicPr>
        <p:blipFill>
          <a:blip r:embed="rId12"/>
          <a:stretch/>
        </p:blipFill>
        <p:spPr>
          <a:xfrm>
            <a:off x="1622520" y="3656160"/>
            <a:ext cx="368280" cy="422280"/>
          </a:xfrm>
          <a:prstGeom prst="rect">
            <a:avLst/>
          </a:prstGeom>
          <a:ln w="0">
            <a:noFill/>
          </a:ln>
        </p:spPr>
      </p:pic>
      <p:sp>
        <p:nvSpPr>
          <p:cNvPr id="1100" name="直接连接符 380"/>
          <p:cNvSpPr/>
          <p:nvPr/>
        </p:nvSpPr>
        <p:spPr>
          <a:xfrm>
            <a:off x="1854360" y="390852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1364" descr="图片43"/>
          <p:cNvPicPr/>
          <p:nvPr/>
        </p:nvPicPr>
        <p:blipFill>
          <a:blip r:embed="rId13"/>
          <a:stretch/>
        </p:blipFill>
        <p:spPr>
          <a:xfrm>
            <a:off x="7128000" y="3803760"/>
            <a:ext cx="223560" cy="379440"/>
          </a:xfrm>
          <a:prstGeom prst="rect">
            <a:avLst/>
          </a:prstGeom>
          <a:ln w="0">
            <a:noFill/>
          </a:ln>
        </p:spPr>
      </p:pic>
      <p:sp>
        <p:nvSpPr>
          <p:cNvPr id="1102" name="直接连接符 382"/>
          <p:cNvSpPr/>
          <p:nvPr/>
        </p:nvSpPr>
        <p:spPr>
          <a:xfrm>
            <a:off x="6561000" y="399420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383"/>
          <p:cNvSpPr/>
          <p:nvPr/>
        </p:nvSpPr>
        <p:spPr>
          <a:xfrm>
            <a:off x="2559960" y="392580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384"/>
          <p:cNvSpPr/>
          <p:nvPr/>
        </p:nvSpPr>
        <p:spPr>
          <a:xfrm>
            <a:off x="3085920" y="3825720"/>
            <a:ext cx="15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385"/>
          <p:cNvSpPr/>
          <p:nvPr/>
        </p:nvSpPr>
        <p:spPr>
          <a:xfrm>
            <a:off x="4141080" y="387684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386"/>
          <p:cNvSpPr/>
          <p:nvPr/>
        </p:nvSpPr>
        <p:spPr>
          <a:xfrm>
            <a:off x="4951440" y="3808440"/>
            <a:ext cx="160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387"/>
          <p:cNvSpPr/>
          <p:nvPr/>
        </p:nvSpPr>
        <p:spPr>
          <a:xfrm>
            <a:off x="5601240" y="3808440"/>
            <a:ext cx="14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388"/>
          <p:cNvSpPr/>
          <p:nvPr/>
        </p:nvSpPr>
        <p:spPr>
          <a:xfrm>
            <a:off x="6005520" y="3973680"/>
            <a:ext cx="169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89"/>
          <p:cNvSpPr/>
          <p:nvPr/>
        </p:nvSpPr>
        <p:spPr>
          <a:xfrm>
            <a:off x="2661480" y="362592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390"/>
          <p:cNvSpPr/>
          <p:nvPr/>
        </p:nvSpPr>
        <p:spPr>
          <a:xfrm>
            <a:off x="3628440" y="357336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91"/>
          <p:cNvSpPr/>
          <p:nvPr/>
        </p:nvSpPr>
        <p:spPr>
          <a:xfrm>
            <a:off x="4541760" y="3619440"/>
            <a:ext cx="23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92"/>
          <p:cNvSpPr/>
          <p:nvPr/>
        </p:nvSpPr>
        <p:spPr>
          <a:xfrm>
            <a:off x="5217480" y="357840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93"/>
          <p:cNvSpPr/>
          <p:nvPr/>
        </p:nvSpPr>
        <p:spPr>
          <a:xfrm>
            <a:off x="5948280" y="3635280"/>
            <a:ext cx="238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任意多边形 394"/>
          <p:cNvSpPr/>
          <p:nvPr/>
        </p:nvSpPr>
        <p:spPr>
          <a:xfrm>
            <a:off x="2124000" y="3749760"/>
            <a:ext cx="4950000" cy="350640"/>
          </a:xfrm>
          <a:custGeom>
            <a:avLst/>
            <a:gdLst/>
            <a:ahLst/>
            <a:rect l="l" t="t" r="r" b="b"/>
            <a:pathLst>
              <a:path w="4550735" h="350915">
                <a:moveTo>
                  <a:pt x="0" y="212691"/>
                </a:moveTo>
                <a:cubicBezTo>
                  <a:pt x="66453" y="207375"/>
                  <a:pt x="132907" y="202059"/>
                  <a:pt x="255181" y="180794"/>
                </a:cubicBezTo>
                <a:cubicBezTo>
                  <a:pt x="377455" y="159529"/>
                  <a:pt x="549349" y="115227"/>
                  <a:pt x="733647" y="85101"/>
                </a:cubicBezTo>
                <a:cubicBezTo>
                  <a:pt x="917945" y="54975"/>
                  <a:pt x="1148316" y="-1732"/>
                  <a:pt x="1360967" y="40"/>
                </a:cubicBezTo>
                <a:cubicBezTo>
                  <a:pt x="1573618" y="1812"/>
                  <a:pt x="1823483" y="76240"/>
                  <a:pt x="2009553" y="95733"/>
                </a:cubicBezTo>
                <a:cubicBezTo>
                  <a:pt x="2195623" y="115226"/>
                  <a:pt x="2369288" y="129403"/>
                  <a:pt x="2477386" y="116998"/>
                </a:cubicBezTo>
                <a:cubicBezTo>
                  <a:pt x="2585484" y="104593"/>
                  <a:pt x="2525233" y="37254"/>
                  <a:pt x="2658140" y="21305"/>
                </a:cubicBezTo>
                <a:cubicBezTo>
                  <a:pt x="2791047" y="5356"/>
                  <a:pt x="3065721" y="-12365"/>
                  <a:pt x="3274828" y="21305"/>
                </a:cubicBezTo>
                <a:cubicBezTo>
                  <a:pt x="3483935" y="54975"/>
                  <a:pt x="3700130" y="168389"/>
                  <a:pt x="3912781" y="223324"/>
                </a:cubicBezTo>
                <a:cubicBezTo>
                  <a:pt x="4125432" y="278259"/>
                  <a:pt x="4338083" y="314587"/>
                  <a:pt x="4550735" y="350915"/>
                </a:cubicBezTo>
              </a:path>
            </a:pathLst>
          </a:custGeom>
          <a:noFill/>
          <a:ln w="28440">
            <a:solidFill>
              <a:srgbClr val="0070c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395"/>
          <p:cNvSpPr/>
          <p:nvPr/>
        </p:nvSpPr>
        <p:spPr>
          <a:xfrm>
            <a:off x="3492360" y="3228840"/>
            <a:ext cx="1346400" cy="201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Controll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6" name="直接箭头连接符 396"/>
          <p:cNvCxnSpPr/>
          <p:nvPr/>
        </p:nvCxnSpPr>
        <p:spPr>
          <a:xfrm flipH="1">
            <a:off x="1980720" y="3333600"/>
            <a:ext cx="1502640" cy="462960"/>
          </a:xfrm>
          <a:prstGeom prst="straightConnector1">
            <a:avLst/>
          </a:prstGeom>
          <a:ln w="9360">
            <a:solidFill>
              <a:srgbClr val="990000"/>
            </a:solidFill>
            <a:prstDash val="dash"/>
            <a:miter/>
            <a:headEnd len="med" type="triangle" w="med"/>
          </a:ln>
        </p:spPr>
      </p:cxnSp>
      <p:sp>
        <p:nvSpPr>
          <p:cNvPr id="1117" name="TextBox 85"/>
          <p:cNvSpPr/>
          <p:nvPr/>
        </p:nvSpPr>
        <p:spPr>
          <a:xfrm>
            <a:off x="1116000" y="23511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VP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84"/>
          <p:cNvSpPr/>
          <p:nvPr/>
        </p:nvSpPr>
        <p:spPr>
          <a:xfrm>
            <a:off x="1119240" y="18525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84"/>
          <p:cNvSpPr/>
          <p:nvPr/>
        </p:nvSpPr>
        <p:spPr>
          <a:xfrm>
            <a:off x="1116000" y="201600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84"/>
          <p:cNvSpPr/>
          <p:nvPr/>
        </p:nvSpPr>
        <p:spPr>
          <a:xfrm>
            <a:off x="1116000" y="218592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Link 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椭圆 401"/>
          <p:cNvSpPr/>
          <p:nvPr/>
        </p:nvSpPr>
        <p:spPr>
          <a:xfrm>
            <a:off x="6141960" y="1114560"/>
            <a:ext cx="193680" cy="18720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405"/>
          <p:cNvSpPr/>
          <p:nvPr/>
        </p:nvSpPr>
        <p:spPr>
          <a:xfrm>
            <a:off x="1020600" y="739800"/>
            <a:ext cx="2221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onitor per tunnel network performance report via pub/sub model or on demand RPC retriev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508"/>
          <p:cNvSpPr/>
          <p:nvPr/>
        </p:nvSpPr>
        <p:spPr>
          <a:xfrm>
            <a:off x="6426360" y="1146240"/>
            <a:ext cx="19684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Optimize network based on VPN service performanc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7"/>
          <p:cNvSpPr/>
          <p:nvPr/>
        </p:nvSpPr>
        <p:spPr>
          <a:xfrm>
            <a:off x="6130800" y="107640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椭圆 401"/>
          <p:cNvSpPr/>
          <p:nvPr/>
        </p:nvSpPr>
        <p:spPr>
          <a:xfrm>
            <a:off x="824040" y="754200"/>
            <a:ext cx="193680" cy="1857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58"/>
          <p:cNvSpPr/>
          <p:nvPr/>
        </p:nvSpPr>
        <p:spPr>
          <a:xfrm>
            <a:off x="812880" y="71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椭圆 401"/>
          <p:cNvSpPr/>
          <p:nvPr/>
        </p:nvSpPr>
        <p:spPr>
          <a:xfrm>
            <a:off x="5892840" y="2465280"/>
            <a:ext cx="193680" cy="1875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5881680" y="242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lationship between VPN service topology and underlay top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727520" y="1379520"/>
            <a:ext cx="39592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pping between Overlay and Undera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ite-1,A,B,C are mapped to node (1,2),(3,4),(4,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ile Site-2 A,B,C are mapped to node (6,7),(8,9)(10,11) in the underlying physical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supporting hub-spoke communication for Customer 1 with connecting the customer’s access at 3 si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ing hub-spoke disjoint communication for Customer 2 with connecting the customer’s access at 3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580-EACB-4B03-A699-6785536DC8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366840" y="1739880"/>
            <a:ext cx="4270320" cy="3067200"/>
          </a:xfrm>
          <a:prstGeom prst="rect">
            <a:avLst/>
          </a:prstGeom>
          <a:ln w="0">
            <a:noFill/>
          </a:ln>
        </p:spPr>
      </p:pic>
      <p:sp>
        <p:nvSpPr>
          <p:cNvPr id="1134" name="矩形 1"/>
          <p:cNvSpPr/>
          <p:nvPr/>
        </p:nvSpPr>
        <p:spPr>
          <a:xfrm>
            <a:off x="366840" y="5710320"/>
            <a:ext cx="87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200" indent="-160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stablish the relationship between underlay topology and VPN service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200" indent="-160200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nd bind the VPN service to the tunnel (e.g., SR-TE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2" descr=""/>
          <p:cNvPicPr/>
          <p:nvPr/>
        </p:nvPicPr>
        <p:blipFill>
          <a:blip r:embed="rId1"/>
          <a:stretch/>
        </p:blipFill>
        <p:spPr>
          <a:xfrm>
            <a:off x="264960" y="703440"/>
            <a:ext cx="3560760" cy="554184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64960" y="489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Desig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225680" y="1587240"/>
            <a:ext cx="45464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gment I2RS Network Topo model [RFC8345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ervice topology parameters and vpn summary statistics info at network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ite role of service topology parameters at nod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performance attribute at link level and termination-poin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asurement interval and reference-time associated with these performance data usually depends on configur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363C-A455-4A81-B212-F521C130A9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组合 8"/>
          <p:cNvGrpSpPr/>
          <p:nvPr/>
        </p:nvGrpSpPr>
        <p:grpSpPr>
          <a:xfrm>
            <a:off x="5005440" y="843120"/>
            <a:ext cx="3360600" cy="685800"/>
            <a:chOff x="5005440" y="843120"/>
            <a:chExt cx="3360600" cy="685800"/>
          </a:xfrm>
        </p:grpSpPr>
        <p:sp>
          <p:nvSpPr>
            <p:cNvPr id="1141" name="矩形 5"/>
            <p:cNvSpPr/>
            <p:nvPr/>
          </p:nvSpPr>
          <p:spPr>
            <a:xfrm>
              <a:off x="5005440" y="84312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2RS Network To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右箭头 6"/>
            <p:cNvSpPr/>
            <p:nvPr/>
          </p:nvSpPr>
          <p:spPr>
            <a:xfrm flipH="1">
              <a:off x="6220800" y="1082880"/>
              <a:ext cx="741240" cy="233280"/>
            </a:xfrm>
            <a:prstGeom prst="rightArrow">
              <a:avLst>
                <a:gd name="adj1" fmla="val 50000"/>
                <a:gd name="adj2" fmla="val 50045"/>
              </a:avLst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7"/>
            <p:cNvSpPr/>
            <p:nvPr/>
          </p:nvSpPr>
          <p:spPr>
            <a:xfrm>
              <a:off x="7149960" y="86508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PN Service Performance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椭圆 1"/>
          <p:cNvSpPr/>
          <p:nvPr/>
        </p:nvSpPr>
        <p:spPr>
          <a:xfrm>
            <a:off x="345960" y="1227240"/>
            <a:ext cx="2694240" cy="78264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椭圆 12"/>
          <p:cNvSpPr/>
          <p:nvPr/>
        </p:nvSpPr>
        <p:spPr>
          <a:xfrm>
            <a:off x="787320" y="4538520"/>
            <a:ext cx="2692440" cy="4050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椭圆 13"/>
          <p:cNvSpPr/>
          <p:nvPr/>
        </p:nvSpPr>
        <p:spPr>
          <a:xfrm>
            <a:off x="531720" y="2743200"/>
            <a:ext cx="2694240" cy="32076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椭圆 15"/>
          <p:cNvSpPr/>
          <p:nvPr/>
        </p:nvSpPr>
        <p:spPr>
          <a:xfrm>
            <a:off x="733320" y="4164120"/>
            <a:ext cx="2694240" cy="4032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597600" y="6357960"/>
            <a:ext cx="21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hanges to the previous ver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erformance Monitoring Data Retrie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5251320"/>
            <a:ext cx="444168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subscription model [RFC8641] to subscribe to their interested network performance data in the data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63A0-6592-4AB9-BD61-F70CC5CDFA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8" descr=""/>
          <p:cNvPicPr/>
          <p:nvPr/>
        </p:nvPicPr>
        <p:blipFill>
          <a:blip r:embed="rId1"/>
          <a:stretch/>
        </p:blipFill>
        <p:spPr>
          <a:xfrm>
            <a:off x="0" y="939960"/>
            <a:ext cx="4373640" cy="41400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9" descr=""/>
          <p:cNvPicPr/>
          <p:nvPr/>
        </p:nvPicPr>
        <p:blipFill>
          <a:blip r:embed="rId2"/>
          <a:stretch/>
        </p:blipFill>
        <p:spPr>
          <a:xfrm>
            <a:off x="4948200" y="1112760"/>
            <a:ext cx="3807000" cy="3516480"/>
          </a:xfrm>
          <a:prstGeom prst="rect">
            <a:avLst/>
          </a:prstGeom>
          <a:ln w="0">
            <a:noFill/>
          </a:ln>
        </p:spPr>
      </p:pic>
      <p:sp>
        <p:nvSpPr>
          <p:cNvPr id="1155" name="直接连接符 9"/>
          <p:cNvSpPr/>
          <p:nvPr/>
        </p:nvSpPr>
        <p:spPr>
          <a:xfrm flipH="1">
            <a:off x="4657320" y="1052640"/>
            <a:ext cx="9720" cy="544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内容占位符 2"/>
          <p:cNvSpPr/>
          <p:nvPr/>
        </p:nvSpPr>
        <p:spPr>
          <a:xfrm>
            <a:off x="4700520" y="4886280"/>
            <a:ext cx="4443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RPC model to fetch network performance data on demand, e.g., the client requests packet-loss- count between PE1 in site 1 and PE2 in site 2 belonging to VPN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1"/>
          <p:cNvSpPr/>
          <p:nvPr/>
        </p:nvSpPr>
        <p:spPr>
          <a:xfrm>
            <a:off x="0" y="596880"/>
            <a:ext cx="30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Retrieval via YANG 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2"/>
          <p:cNvSpPr/>
          <p:nvPr/>
        </p:nvSpPr>
        <p:spPr>
          <a:xfrm>
            <a:off x="4829040" y="64944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2.On-demand Retrieval via RPC polling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996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fficient support in IETF 103 and already in the queue for WG a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authors believe this draft is a good shape for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9C44-C7D5-4F33-B9BB-E0E09AFF51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Qin Wu</cp:lastModifiedBy>
  <dcterms:modified xsi:type="dcterms:W3CDTF">2020-04-26T11:03:28Z</dcterms:modified>
  <cp:revision>635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jIrgzz1CE1yQ6yubTeb1+r/1xHIhEzV+l8wzJz5EQgqK7go/UVyngVKI4QN0CRxh/+UZhrDT
QXjtq9aeiDUh+LQeuPX2YmgTchFu3VByIU+LIav9izCdP8jDefWCuqxfx0k9GFdcnsYnhpTc
ecKhzhNzXeswx0bwPRnyZIcjOXq+m/XfagHtATxd8JGygn0mv/oi5wkmoREWaTqbSl73wwXy
nbC2bVlhrLLxQmix/C</vt:lpwstr>
  </property>
  <property fmtid="{D5CDD505-2E9C-101B-9397-08002B2CF9AE}" pid="3" name="_2015_ms_pID_7253431">
    <vt:lpwstr>mXWXhHzJXymyZ9x7KK08lszp0fBwszYCjMiJ3tenZNdQk+EyQv6TYD
cwUNOgG0TW/C24sdbY33hAMicGJAl6SLNoe9dplaUK/nS1PfYUJUT/eIVK6Rw4zkQ1iO8Zl+
XYzua0cJOtQ6Qj2x2ZAJQgORBVTU94mMVca8xykFdYwWg1dCJcjESoxen8WOWSwo8VA3YOXO
q9PN5ewI4u65noHGXroOjjPi3vBboC4Uvqhc</vt:lpwstr>
  </property>
  <property fmtid="{D5CDD505-2E9C-101B-9397-08002B2CF9AE}" pid="4" name="_2015_ms_pID_7253432">
    <vt:lpwstr>HbB7ueXaJ0RhjD1XSFG/hkI=</vt:lpwstr>
  </property>
  <property fmtid="{D5CDD505-2E9C-101B-9397-08002B2CF9AE}" pid="5" name="_change">
    <vt:lpwstr/>
  </property>
  <property fmtid="{D5CDD505-2E9C-101B-9397-08002B2CF9AE}" pid="6" name="_full-control">
    <vt:lpwstr/>
  </property>
  <property fmtid="{D5CDD505-2E9C-101B-9397-08002B2CF9AE}" pid="7" name="_new_ms_pID_72543">
    <vt:lpwstr>(3)on4x6Ff1a1kK4BCrMFuWEwa9W4EBbYWuiUGvh2F/bcyJ5sAbKDmtt8Von42tsGmNAdEjcGvh
qZz9YoEyrJAc3qYe605b18W2arXLTGL1FPWUTxZS/hEadKpdj++doCFVFvM/3GHrQ7VBZFC4
8ouLoWqeonM17sL7PoMkl8abgMwFfp53KLSWTV9uF9FozNCF+0Jtn6hcxk0nxOtGGz2f2TkP
zK4CNYyE/N9zZTtjgR</vt:lpwstr>
  </property>
  <property fmtid="{D5CDD505-2E9C-101B-9397-08002B2CF9AE}" pid="8" name="_new_ms_pID_725431">
    <vt:lpwstr>LFE0+YVxcriGp+RDi+1gDylO1gfHV9ND7D2Xe0JgNsUGIEKfQVCSyw
GKFjp03kMuEO1IhOhTUVMiSdwz76iTY4gjjk6eGJAPtern/8PekzlcqNA/9JjN4cURAkO0WJ
U7UPS2NOiDTbeB0BqnzOkFdClEpuVVzxoZX0996ipsac97l5F5fzGpAgroTyy+MIcHJhQ675
Ug9mCKMnFtu13yGC1CHgWGwV1h99gLS2Iinn</vt:lpwstr>
  </property>
  <property fmtid="{D5CDD505-2E9C-101B-9397-08002B2CF9AE}" pid="9" name="_new_ms_pID_725431_00">
    <vt:lpwstr>_new_ms_pID_725431</vt:lpwstr>
  </property>
  <property fmtid="{D5CDD505-2E9C-101B-9397-08002B2CF9AE}" pid="10" name="_new_ms_pID_725432">
    <vt:lpwstr>ZJsLrw3IKgJMRhkB0w/HX+fjqzGwzF8n4yK8
vlbT4qBwjp1qi5f3TXfbbeeu3pAG97ZpBDfYuD2uV9lAzcpTFpuqpEz/v+WHfRqGA3NT0uMA
Xl1Aa/YkC/04Qca3bHg4aQ==</vt:lpwstr>
  </property>
  <property fmtid="{D5CDD505-2E9C-101B-9397-08002B2CF9AE}" pid="11" name="_new_ms_pID_725432_00">
    <vt:lpwstr>_new_ms_pID_725432</vt:lpwstr>
  </property>
  <property fmtid="{D5CDD505-2E9C-101B-9397-08002B2CF9AE}" pid="12" name="_new_ms_pID_72543_00">
    <vt:lpwstr>_new_ms_pID_72543</vt:lpwstr>
  </property>
  <property fmtid="{D5CDD505-2E9C-101B-9397-08002B2CF9AE}" pid="13" name="_readonly">
    <vt:lpwstr/>
  </property>
  <property fmtid="{D5CDD505-2E9C-101B-9397-08002B2CF9AE}" pid="14" name="sflag">
    <vt:lpwstr>1540947804</vt:lpwstr>
  </property>
</Properties>
</file>