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ftr" idx="7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8287-0CD0-453E-91C5-131AAD36361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F8B7-3695-45A8-832E-FF77099C38B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60F-9AFE-4F63-92ED-62B409F7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8A9-3062-4915-A3BD-AE5C7EF7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5A424-7001-4425-B37E-51A1F027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02E8A-11E9-451D-81CD-0B0AF393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050E1-1C3D-49FD-9D20-469ADEDD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F17BC-6781-47F2-821B-FF0E1104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135A6-E758-4582-9B90-40F23466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6FBF0-C8F5-4BE8-9BD8-DAD00DA2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A0A59-5C65-4393-833F-9045BF4F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0BA0D-5173-4FAA-A99F-96F68A17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677D5-8D01-48B5-8655-6A723F21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0467F-4A96-45FF-BB5B-71591223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1CDD-D813-499F-ABF6-CC32EE9F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2C9BA-1E0C-4685-ADA4-A7E7AADA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B5DCE-7D1A-48BF-84AB-82D6E191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850B4-3D11-4178-8D3B-66525839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E0429-282B-4C56-8E96-45CD12B2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D509C-ED5B-452A-8ED0-E32163A6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841AE-D328-4826-A6DE-A6FA5D59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F22E6-6EE3-4586-A51A-09575A9B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8884D-8D9D-4C12-8526-FAA56A6F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52E43-B951-4AA6-AF0D-5C499EB2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F7EA9-CE42-4288-97F9-810DC1A1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5DC-4758-4015-B1C5-3A5270FB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EC99B-D011-4BAC-89CE-DA8D856F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00E34-7A79-406D-B37D-0659829D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68379-1CBC-4C2F-9C84-D6DB545E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D1F41-54FD-4EB9-BEE9-3AC7D33B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224E3-D274-4B09-887E-87C61461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FE529-E910-4D8C-A5A1-CA594691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246A5-2E7B-4EAA-BF08-B38C8EC3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595E9-E093-41DE-8BFA-E8B63D07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2D031-B715-461C-BB18-F7F401FB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5DDBA-DBE2-4025-981F-45AECF09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C163-B475-4C64-8DCA-8AAE50E1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CEBF4-4A7A-49C9-A2B8-747FA5E9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3A30B-CA55-444A-8AAC-C3F00E82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2DDF8-CBFF-4D64-9AEF-0291C990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A3170-5C64-4CA7-9F3A-56637956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0407A-0657-44A4-9E1B-C1E0C225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CA42E-0AF9-423E-A587-E0C7FCF4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818A5-372B-4A24-A677-EA39DD1A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0169F-C6B4-4D3C-9F6D-DA974F45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F6DB1-710B-4E4A-AC3C-1A0CD6F5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CEA3C-239F-4F5B-90C3-EC4FFFE2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17A5-74E5-4938-AA5D-AB957F14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E0494-4270-498D-9043-30C4FB66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4612B-DF0B-4599-8F36-B592AF76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DA2AD-E200-47F8-AAAA-8B58F696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3A1B7-50BB-40BD-BB19-97FC2A8F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A2D4F-9054-4750-A7BE-2D342BF2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B0AE5-9309-4F25-95C2-CE9F252F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B4D0DB-423B-4868-82B4-34BF32FB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92402-093B-43A2-A6A4-DA1FE988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A2F5C-8465-4D58-B8FB-ACCA3111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EDD3D-727D-44DC-99AB-D1B2BE6D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2873-D39D-45EA-88E2-A3526884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C8937-2989-44BC-9391-FDEF83A2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9512D-99CB-459D-9074-332A2443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1D239-F40A-4100-B5B0-06793913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653BA-5BDB-4997-A6AF-B0B3DFBA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A5995-9CE4-41AD-BD14-AC9CCDDB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D4162-0843-491D-AF6A-7DAD71C1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BAF7E-673D-450F-99FF-9E1D6725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F73FA-DD01-43A3-B0E4-E45D48FA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3F7F3-EDAB-4198-819E-115DE90E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37783-8923-40A4-8053-A16B19E8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D974-79C2-41B8-A0B5-6EB20646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6E44D3-2A97-4BA2-AF6B-90502749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BE15B-B126-4F6A-A179-B734ED36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3E3BA2-8665-42CE-B4A0-CD4FC64F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4CB7A-DA4C-4766-9019-50B61241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06A38-A542-47E5-900E-33B3E262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655CE-230F-43A7-8F0C-A646B9A4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F2805-C748-41CC-9A43-EDE77770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030338-C697-4866-8F63-57B738C0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44FB8-A10E-408B-82DD-BB63C069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B0346C-69E4-4037-90B7-515D496F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BEAD-8479-477D-92A9-5AA9A1C7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2907D-723B-42CE-9A6E-236808AC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11F25-09EE-4A6F-A6B3-A847C468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761038-5B0A-4EF5-A3B1-2D4C959F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80A2B1-AB26-4427-B153-344D771F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B06BCB-F10C-4EE7-A432-57928044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D92B75-C1DA-4A40-AEAC-2CABEBD1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72BAE-FD8E-4F93-B8FA-AE6829F7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CD8B60-E1B4-4B45-BA99-6A15BB2D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345758-C9F9-49D4-93BF-F279C667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0F98F6-1D01-47BE-880A-90DEA4F2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E07A-D73D-4A36-B73B-E1D43CFF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AD3338-7EEC-4EC8-BBE8-AB817607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960E20-6BF3-44EB-A2AB-346B5196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5955C4-8823-4321-BD96-B9DA77A3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0E4A51-6F27-48D8-B35B-4727028E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D0537D-514D-4D7F-9AF2-F6FC2519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6611F1-AED5-4F8E-96B4-B6385231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8F4D10-BEF2-4CD9-88D1-059CEE90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DA5D3B-141F-46C6-A815-CA7D40DE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27B0CB-E4BC-4571-A3F0-F1C17C2B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8F4519-0F4D-4D06-9C55-F05F12EA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02E0-BA0C-4BC6-B880-11FA5D10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C1921-4A41-4559-A23E-47DED559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92506B-B79D-4CAA-8810-E719F67C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05C123-6C13-465D-B154-5DFF8E53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783BB0-2475-49A7-91DC-574801C4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65D234-09EB-4FEC-9B4D-836DF419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245166-A939-4CE5-9D2F-6B5D5CBC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A2E5CA-AA54-4B1F-B966-A2839E8D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37C059-3797-42D6-98F2-735E5E7C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DCCD10-6B89-46C0-9500-77BD738D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1B36B-D595-4639-AE81-AE06033E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F3E-3071-41B1-89AD-EB4773C0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10F2-5531-4C3F-8D90-65C69379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4F0C94-5728-4FC0-8439-301C209E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EB2FE6-9C23-4A99-A05C-69372E9D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96CB80-790C-4B90-A60C-64CFD085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4892AE-7819-4EBF-80B7-A6960843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EB65FD-71A8-4BFD-BEF0-C79D2F2B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F41AD8-1463-427C-84F1-528A4E39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D8D00E-D1DF-48E5-8EAE-0EC5F312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56F552-BE0A-42BE-A451-48F9B60E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672838-9644-48AD-B5A2-3142E67F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AEA848-6758-4B41-9878-DEAA251E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352D-0A8A-41C8-B028-7BD3270F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0BAA3D-F250-442A-9CEF-ECAF8A84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A533AD-A210-47AE-BE82-1ED9C67A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BA719D-1612-47DD-9D82-01B5B922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79AF57-70B7-4DF9-A101-030A3796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F4BB9C-C0E9-417B-B6FB-9268398B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154775-594C-4DE2-9271-28B467D0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2FC4D8-2F8C-43A3-A1B5-4F88CCE2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AD0095-4656-41FA-8104-0806D665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7E248F-3859-45A8-8506-0BD802B0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D3B2B1-8849-4E76-87B0-E276855A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3627-0B81-4302-A756-D6030593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D2B645-C40E-4F2A-A339-7E3005F6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4A9214-E0E5-4E76-BCEC-31911798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051E2F-AE23-4371-9366-CC71B3F2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D41358-EBC6-4BFA-8E89-B0EE9BAE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5FE78F-FD6B-45A3-8A13-71940AFB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75AF3E-DFFE-47F6-A5F4-5A6859FD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AD9B6F-EE85-4373-AAA2-827EA6DC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BF87C9-5CCB-4563-9D09-93453244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94DE6B-5D42-4A17-82B3-2513EE4A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F24961-8DD3-423A-A441-BC8C99FA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767E-7CB3-40C5-BE17-D3496DC7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814FBB-B1C3-479D-A859-1F16938D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7D3FAC-294C-4AFA-9034-E859E98F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C19B19-EF2A-47F0-8791-5407B97E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8B7535-C1BA-4826-A00B-DEDFB439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6A259C-13BD-45B7-A641-92B22762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56354B-916F-4700-A70F-D7967CE7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96A378-D568-4A68-B16D-FB4CDDA6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2A13FD-9638-4EC7-A5E8-FBC53AA9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F3A1C4-5C8B-4ECB-AA83-7FEDDBD0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486C2F-8702-4CCE-A282-C87074D9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C33A-99FC-47D5-85BA-E25D7CD6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B8782B-AB75-45F3-B8FD-D273C6AA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B8C29C-7AAB-4EC1-835C-A6C75A85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7B6EB6-1445-4A73-9212-53203349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7739BD-7739-4267-AFE8-89F1CAA6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865799-1E52-498A-97B7-FA510B95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CFBAB5-6594-4A95-9FAA-86C90CBE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6A9B2A-B76D-430A-87BE-40421F94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29658B-EE66-4933-B293-B06D5415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8F8AAA-6E31-49AF-8115-ADC543F9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4B6992-8561-4973-8DD5-5B4A150B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DA741-086D-4E09-8F96-FA5333B6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002F28-E059-429E-ABA9-C1BC9CB8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D900A2-218D-40C0-86BE-53FA4A22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95A990-C5A1-457A-BFD1-85508395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231065-2776-4DDC-84AE-14EF30C5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FCADEF-7749-4E4D-86CE-EC101FD2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A5091C-4494-4730-8033-3AE4E442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B2E0C2-AD1D-48B3-9D0D-ABFFA788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23928E-CD87-461F-9E7A-F386BA39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BAAFB6-1650-4D22-9461-0C5690DA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4D2CC0-82C0-4F96-BEED-9A509998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07BFC-C4A7-47AA-BF80-D2485210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F03F51-5818-4FE0-A4A9-2B2A0E23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FE573A-5A80-4A43-BB01-1C208F64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A1AAC7-09D1-43D5-9572-0071E8C4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BF7C99-F8AC-4252-BD03-559F8E86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C9F6B8-7130-48FB-BB0A-95CA6FE2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485461-5752-44B3-9ED6-03297FF2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EE48EC-9B16-479F-BC2D-45E6E044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43B3E1-61DF-453D-BA8D-1DFF2698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5FE5A4-65E2-41E2-8A4E-CE813D5B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DA3C08-F0D6-4167-BE2D-8AEC3F0D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8A58E-B254-4827-8421-95F92842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2A1D50-797F-4C7D-95E3-6A250B76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4E3DBC-5693-4767-A968-874660D9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1AD90F-EE9A-4B9A-A367-35EBBA2F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CFC09A-BEB8-4CBF-A9BA-B20F0900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0ACC91-3CC3-4198-A998-8E05F1E2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2735E4-0A63-49FA-9D66-8242386A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3D5BA2-BE5D-492F-96C3-F28DF3ED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61D3B8-1C78-4A62-BD8E-2D7ADC5B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F91150-2FE0-4480-920F-34738EFE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738214-1492-4AE0-AA83-0B8E1FE7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453EF-5E0A-43B5-A388-448C71C5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E9EEF0-79B2-4310-ACE2-A5252ADE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4894D9-2985-4184-8D59-469BAC54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743FCB-59F6-4B18-AC94-F9B442F6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42719F-41E9-4DE2-B88C-810F1D2F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8195A2-B300-4AE1-A73D-91A226EC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7ABFF7-6047-49B8-8E0C-8B3AABE2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FF154C-4CC9-404D-AB55-E14F30AB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6CCFF5-754F-46F5-9D05-5CCBB646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742670-B4AE-45F9-820F-B41B64A7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6390EF-5355-466B-9665-A18FBD0A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05A55-BDFC-4D3D-93ED-C3C2896E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9EB658-401B-4E9D-936D-0783E3C7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73AD95-DAEB-4A96-ADC3-3C60DFEE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4670D4-3FB1-4E51-8C3D-B4FEE130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6D0B8C-7832-4D6D-AB8A-B99EFB02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017AB3-AEB7-45C1-878E-035E6026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3C85D2-CE9E-4FD0-AEA5-6E983E47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4BF237-FA74-43F3-9AF0-5E6F5A3F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573C2C-3363-4B39-86AB-5C41196B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11C27D-666A-43BB-AAE2-1C2BD00A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C5EF12-CB54-44B4-B9B4-0CFFD7AD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949-B8C3-4DF2-8545-32AB625F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71E9C-FC6A-41BB-9DDF-A84EA9E1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0EAEFB-2157-4B59-BCC5-871E7F37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D5A12-EDAC-46EB-AC19-8AF2260E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3F909-E397-43CD-8CB8-588F8182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DAB18-F8AF-4811-8D91-8D64D48A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A665F-2CD8-4136-A5D0-BFCB1EFD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E3A84-9765-446D-BAD5-903BE331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D1FF4-534B-4BB1-9E85-E74A56B6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2D55A-EE18-416F-B26D-682FDBAE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61CC1-C0AA-4649-AD78-0ACB35DF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492BC-CE7A-444F-9E59-E8F51776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EF9-8F11-4D27-B7A9-4F7DC9DD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8C9EA-12A8-45B8-A534-DCAF0B8E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2EFB0-1A7E-40F9-86E9-1298F8CC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0922B-225D-4C64-A847-9FD9F7AD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7CE33-3FE4-40D6-A8C2-716A833A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6337A-F9F7-4FD2-A959-D7CEB034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42D4F-DA3F-4E31-AAB5-CC8BC23D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05CDF-0061-45B4-A610-0C9D5EE1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2FB53-248B-441F-87CC-B3167E19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DA794-7F0D-4969-8A7A-A9BBA031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8ECC4-076D-475D-9C7C-272F32B6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516-1C9E-4A00-B3B3-E97E10E3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1BFFA-4BFF-4773-9CDB-F9D22DE3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657C3-05F0-4754-9898-636E5962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0C9D9-5929-433F-99A7-DF51DA01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2E8F5-66DF-43DE-99B9-FCF6B4C4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8C2B6-8D66-4D2C-A704-DB2302CC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B2D13-4B60-40BD-9327-4734C0F3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A099A-BB10-4FB1-9D55-33E927D5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9CC8D-5A44-4520-A350-600DD1F9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269A4-0A8A-45D0-ABFA-8FFE37B4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23073-3B0E-4486-8C6A-F5C5A351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B15-8FD6-4C5D-91E6-F99F3828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4BF51-287A-46C0-BB55-D4836D60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BA41C-B4CB-4231-8194-C82532B6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CC639-C39E-4574-8981-CADD3B31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5585A-CF8C-45F4-9AF3-CD537458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0FC00-4A4E-467A-B7F8-9DAEF17B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38C1C-43C8-4788-BA21-5C76F7C3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71F93-8D1D-4315-9CAF-0BF8013F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28E68-FFAF-4BC9-B766-9EBF0294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9EBDA-2DD9-4624-9BCD-9AD82A07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70B04-30BC-4399-A2E8-1D43A37A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996-1157-4E96-9B4D-828E6A27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4496F-B45A-429B-9015-A4F67084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2EF67-61D6-43AE-866A-3A64612A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1C256-F632-4B5B-AAB0-012DF59E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BF18E-7480-4DDF-B468-6B65DCDE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0CAE5-8FF3-493C-B766-B9ABF8FA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E237B-3C7D-4414-BB00-AAC8F08F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80B19-5F90-4F9F-B74D-4B747804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EF52B-2AFB-406B-B6D1-B6AF435F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EC641-F2CC-4307-8C0A-BBE55F9D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3B5E3-62BC-4248-804F-3601A468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04C-10ED-4782-8570-88C007C9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2A321-E2A8-447D-87D6-8614E2C8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DADDC-C626-46F2-8380-84F24ED0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6A8BF-22F2-48DC-B079-3127D481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DC365-2A89-42E0-B4AE-D881496C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1A7A0-8497-431C-8415-4199D4BE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6A8F6-A172-4F4E-AE66-18F68EAD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F4A4A-791E-4E3D-BACA-110B63FD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1ED6D-6F07-4873-9FE2-F21E3ECE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6EA6D-E3BC-46BC-8500-27CEBE03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3DBDA-DB93-4008-B90C-098BE8ED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681-0B7B-45F5-9A6C-14422AB4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BA5CB-C354-4460-8E4E-BECCCD5A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36211-58A0-47A9-9271-330E7214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86E4E-64AA-46FE-AAB1-CFE6D36B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3CD70-50D9-449B-81DC-BAA9A973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CE03E-CF31-4ADE-855A-D5643302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D440A-3229-4641-9A7D-5BC36BE5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E0ABA-3696-49DC-A5D3-9916C1E1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1D851-069A-470D-9C8E-721DF5D2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F94F5-19EE-4013-897F-18F5D170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3241D-7BAC-4513-A685-9ED055C1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1C36-EBB3-4678-9898-68F5CB3AAE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95D3-CDC4-4C81-A818-D8517D75176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D5C1-0AAD-4C4D-9783-58A85D7CF4C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C551-7C58-43CF-A442-6E6B2974DA7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747F-DF3C-486C-81C8-CA2931B2C82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DBA9-C3E9-4B24-B6A0-539569532B1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1593C132-6948-4C6E-9F3B-24B79D71EA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C2B14B01-8AB1-4ED0-B7B3-4C6E019EDB2E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F106149B-ECD5-4CBF-8771-1AA954B557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78B548A7-AE70-4E17-9144-B7A31E9B6069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884BFC5B-F4EC-4ED5-9FDB-159A13BD68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8B725642-69F4-4DA2-A3A2-A69C152534BB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BBA6B62F-CCF4-4FEF-8112-8AA89CFAE9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B7A8E909-AE27-4CF7-BF62-5EAB899FDA46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A1C8F61E-8C47-4A64-9FC2-928B31DCEF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F341A353-E290-4D5E-AE06-E0B4AA10E223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8160-E05A-4CC2-A86F-8BBB49EA528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87C4AC70-8E5C-4024-8CF3-E3BEA03894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2B977850-95B7-4596-99C6-23BF70123650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879E1427-D245-46F5-AFCA-7E7AC39011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68A23E7B-E6F3-48ED-9DAE-EF91886D7D54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C8B8BBA7-C6F5-4D0D-BB26-AECC1F874C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CB6B549C-E883-467F-B6F6-A1E492F999E6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54645FE5-9E31-4F9B-84A8-DD03E44901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58AB5FBB-202B-464D-A6EF-A487E0E52A69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017F06CB-3B07-4711-BE2F-BA56AAE90F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06D7E8E8-C709-42FC-870C-18B0C8A2E3E0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11381F24-4463-4D3D-B1D8-741AB9FA31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0A573451-CBE5-443A-96B8-73BF54D37BD6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fld id="{41531466-B5D4-4B84-968B-A9B1A2F2A7DD}" type="datetime">
              <a:rPr b="0" lang="zh-CN" sz="9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fld id="{DB40BB6E-F75A-4C8F-B6C2-9DD8232BC54C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3E3E-E24E-4C72-BACD-BC95395F5DB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4913-F1F6-4125-A097-DB20C930FE9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D906-C2F7-4F01-9A59-A4DDAF61A40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A343-993A-4A35-9627-4762CD39C7B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F102-4E4A-4E02-9311-57A3AB0F33F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EB98-EB2E-48B7-8BC7-26D95EBE4F7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30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73200" y="1433160"/>
            <a:ext cx="7772400" cy="15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 YANG Model for Network and VPN Service Performance Monitoring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raft-www-bess-yang-vpn-service-pm-0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247760" y="4107960"/>
            <a:ext cx="64008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Qin Wu (Huawe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ohamed Boucadair (O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scar Gonzalez de Dios (Telefon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en Bin (Comca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hange Liu (China Uni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onglei Xu (China Tele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ETF 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pril 28, 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35BD-48E2-46C1-8005-6A680E348F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30200" y="-360"/>
            <a:ext cx="789768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112680" y="649080"/>
            <a:ext cx="89330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wer layer Network performance measurement protocol and methodology for Ethernet traffic, IP traffic, MPLS traff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 traffic performance measurement protocol such as OWAMP, TW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 traffic performance metric such as one way delay, roundtrip delay, loss, PD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PLS traffic performance measurement such as MPLS loss and delay measurement for MPLS[RFC6374], MPLS-TP loss and delay measurement[RFC637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 traffic performance measurement such as Y.17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ne of these performance monitoring mechanism can be used to report service level or end to end network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document defines a YANG model for both Network Performance Monitoring and VPN Service Performance Monitoring that can be us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nitor and manage network performance on the topology at higher 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r the service topology between VPN si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F6A3-1932-4905-9618-6773CB3EC8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Status update since Singapore me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136440" y="691920"/>
            <a:ext cx="88567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宋体"/>
              </a:rPr>
              <a:t>Firstly discussed in IETF 103 BESS meeting in Bangkok and there were consensus to adopt this work as BESS work item and It was in the queue for WG adoption.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宋体"/>
              </a:rPr>
              <a:t>Secondly presented in IETF 106 TEAS meeting in Singapore and solicit input and feedback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宋体"/>
              </a:rPr>
              <a:t>Update since last version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Add Mohamed Boucadair and Oscar as new coauthors of this draf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Add VPN summary statistics parameters at the network leve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Add reference time and measurement interval associated with performance measurement dat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Replace average-delay-value at the link level with low-delay-percentile, middle-delay-percentile and high-delay-percenti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Replace average-jitter-value at the link level with low-jitter-percentile, middle-jitter-percentile and high-jitter-percenti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Add low-percentile, middle-percentile, high-percentile at the network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YANG data model chang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标题 1"/>
          <p:cNvSpPr/>
          <p:nvPr/>
        </p:nvSpPr>
        <p:spPr>
          <a:xfrm>
            <a:off x="106200" y="101160"/>
            <a:ext cx="9448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Use Case:Real Time VPN Service Moni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406"/>
          <p:cNvSpPr/>
          <p:nvPr/>
        </p:nvSpPr>
        <p:spPr>
          <a:xfrm>
            <a:off x="192240" y="4548240"/>
            <a:ext cx="8813520" cy="19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Network Performance data source: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Network device, managemen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Performance measurement method: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IPPM method, MPL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Loss and Delay Measur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End to end Network performance calculation method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using PCEP solution [RFC8233] [RFC7471] [RFC7810] [RFC8571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The goal: Report end to end network performance or service level VPN network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ne way delay between PE1 in site A and PE2 in Sit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cket loss between CE1 and PE1 in sit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AN link bandwidth between CE2 and PE2 within Sit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421"/>
          <p:cNvSpPr/>
          <p:nvPr/>
        </p:nvSpPr>
        <p:spPr>
          <a:xfrm>
            <a:off x="6108840" y="2486160"/>
            <a:ext cx="255096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Measure per link network performance in the underlying network using MPLS loss and delay measurement method and report in aggregated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4" descr=""/>
          <p:cNvPicPr/>
          <p:nvPr/>
        </p:nvPicPr>
        <p:blipFill>
          <a:blip r:embed="rId1"/>
          <a:stretch/>
        </p:blipFill>
        <p:spPr>
          <a:xfrm>
            <a:off x="2278080" y="1612800"/>
            <a:ext cx="3673440" cy="1614600"/>
          </a:xfrm>
          <a:prstGeom prst="rect">
            <a:avLst/>
          </a:prstGeom>
          <a:ln w="0">
            <a:noFill/>
          </a:ln>
        </p:spPr>
      </p:pic>
      <p:sp>
        <p:nvSpPr>
          <p:cNvPr id="1085" name="椭圆 365"/>
          <p:cNvSpPr/>
          <p:nvPr/>
        </p:nvSpPr>
        <p:spPr>
          <a:xfrm>
            <a:off x="2405160" y="3726000"/>
            <a:ext cx="2307960" cy="556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椭圆 366"/>
          <p:cNvSpPr/>
          <p:nvPr/>
        </p:nvSpPr>
        <p:spPr>
          <a:xfrm>
            <a:off x="4071960" y="3740040"/>
            <a:ext cx="2309760" cy="55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7" name="Picture 332" descr="图片256"/>
          <p:cNvPicPr/>
          <p:nvPr/>
        </p:nvPicPr>
        <p:blipFill>
          <a:blip r:embed="rId2"/>
          <a:stretch/>
        </p:blipFill>
        <p:spPr>
          <a:xfrm>
            <a:off x="2701800" y="4159080"/>
            <a:ext cx="35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332" descr="图片256"/>
          <p:cNvPicPr/>
          <p:nvPr/>
        </p:nvPicPr>
        <p:blipFill>
          <a:blip r:embed="rId3"/>
          <a:stretch/>
        </p:blipFill>
        <p:spPr>
          <a:xfrm>
            <a:off x="3476520" y="4202280"/>
            <a:ext cx="357120" cy="1760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332" descr="图片256"/>
          <p:cNvPicPr/>
          <p:nvPr/>
        </p:nvPicPr>
        <p:blipFill>
          <a:blip r:embed="rId4"/>
          <a:stretch/>
        </p:blipFill>
        <p:spPr>
          <a:xfrm>
            <a:off x="2278080" y="3821040"/>
            <a:ext cx="357120" cy="1764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332" descr="图片256"/>
          <p:cNvPicPr/>
          <p:nvPr/>
        </p:nvPicPr>
        <p:blipFill>
          <a:blip r:embed="rId5"/>
          <a:stretch/>
        </p:blipFill>
        <p:spPr>
          <a:xfrm>
            <a:off x="2995560" y="3678120"/>
            <a:ext cx="357120" cy="176400"/>
          </a:xfrm>
          <a:prstGeom prst="rect">
            <a:avLst/>
          </a:prstGeom>
          <a:ln w="0">
            <a:noFill/>
          </a:ln>
        </p:spPr>
      </p:pic>
      <p:sp>
        <p:nvSpPr>
          <p:cNvPr id="1091" name="矩形 371"/>
          <p:cNvSpPr/>
          <p:nvPr/>
        </p:nvSpPr>
        <p:spPr>
          <a:xfrm>
            <a:off x="3913200" y="3821040"/>
            <a:ext cx="1023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Picture 332" descr="图片256"/>
          <p:cNvPicPr/>
          <p:nvPr/>
        </p:nvPicPr>
        <p:blipFill>
          <a:blip r:embed="rId6"/>
          <a:stretch/>
        </p:blipFill>
        <p:spPr>
          <a:xfrm>
            <a:off x="4168800" y="3724200"/>
            <a:ext cx="358920" cy="1764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332" descr="图片256"/>
          <p:cNvPicPr/>
          <p:nvPr/>
        </p:nvPicPr>
        <p:blipFill>
          <a:blip r:embed="rId7"/>
          <a:stretch/>
        </p:blipFill>
        <p:spPr>
          <a:xfrm>
            <a:off x="4168800" y="4087800"/>
            <a:ext cx="358920" cy="176400"/>
          </a:xfrm>
          <a:prstGeom prst="rect">
            <a:avLst/>
          </a:prstGeom>
          <a:ln w="0">
            <a:noFill/>
          </a:ln>
        </p:spPr>
      </p:pic>
      <p:sp>
        <p:nvSpPr>
          <p:cNvPr id="1094" name="直接连接符 374"/>
          <p:cNvSpPr/>
          <p:nvPr/>
        </p:nvSpPr>
        <p:spPr>
          <a:xfrm>
            <a:off x="4348080" y="39006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332" descr="图片256"/>
          <p:cNvPicPr/>
          <p:nvPr/>
        </p:nvPicPr>
        <p:blipFill>
          <a:blip r:embed="rId8"/>
          <a:stretch/>
        </p:blipFill>
        <p:spPr>
          <a:xfrm>
            <a:off x="4816440" y="3652920"/>
            <a:ext cx="357120" cy="1760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332" descr="图片256"/>
          <p:cNvPicPr/>
          <p:nvPr/>
        </p:nvPicPr>
        <p:blipFill>
          <a:blip r:embed="rId9"/>
          <a:stretch/>
        </p:blipFill>
        <p:spPr>
          <a:xfrm>
            <a:off x="5495760" y="3645000"/>
            <a:ext cx="357480" cy="17604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332" descr="图片256"/>
          <p:cNvPicPr/>
          <p:nvPr/>
        </p:nvPicPr>
        <p:blipFill>
          <a:blip r:embed="rId10"/>
          <a:stretch/>
        </p:blipFill>
        <p:spPr>
          <a:xfrm>
            <a:off x="5173560" y="4202280"/>
            <a:ext cx="357120" cy="1760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332" descr="图片256"/>
          <p:cNvPicPr/>
          <p:nvPr/>
        </p:nvPicPr>
        <p:blipFill>
          <a:blip r:embed="rId11"/>
          <a:stretch/>
        </p:blipFill>
        <p:spPr>
          <a:xfrm>
            <a:off x="6143760" y="3844800"/>
            <a:ext cx="417240" cy="3002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528" descr="图片131"/>
          <p:cNvPicPr/>
          <p:nvPr/>
        </p:nvPicPr>
        <p:blipFill>
          <a:blip r:embed="rId12"/>
          <a:stretch/>
        </p:blipFill>
        <p:spPr>
          <a:xfrm>
            <a:off x="1622520" y="3656160"/>
            <a:ext cx="368280" cy="422280"/>
          </a:xfrm>
          <a:prstGeom prst="rect">
            <a:avLst/>
          </a:prstGeom>
          <a:ln w="0">
            <a:noFill/>
          </a:ln>
        </p:spPr>
      </p:pic>
      <p:sp>
        <p:nvSpPr>
          <p:cNvPr id="1100" name="直接连接符 380"/>
          <p:cNvSpPr/>
          <p:nvPr/>
        </p:nvSpPr>
        <p:spPr>
          <a:xfrm>
            <a:off x="1854360" y="3908520"/>
            <a:ext cx="42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Picture 1364" descr="图片43"/>
          <p:cNvPicPr/>
          <p:nvPr/>
        </p:nvPicPr>
        <p:blipFill>
          <a:blip r:embed="rId13"/>
          <a:stretch/>
        </p:blipFill>
        <p:spPr>
          <a:xfrm>
            <a:off x="7128000" y="3803760"/>
            <a:ext cx="223560" cy="379440"/>
          </a:xfrm>
          <a:prstGeom prst="rect">
            <a:avLst/>
          </a:prstGeom>
          <a:ln w="0">
            <a:noFill/>
          </a:ln>
        </p:spPr>
      </p:pic>
      <p:sp>
        <p:nvSpPr>
          <p:cNvPr id="1102" name="直接连接符 382"/>
          <p:cNvSpPr/>
          <p:nvPr/>
        </p:nvSpPr>
        <p:spPr>
          <a:xfrm>
            <a:off x="6561000" y="399420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文本框 383"/>
          <p:cNvSpPr/>
          <p:nvPr/>
        </p:nvSpPr>
        <p:spPr>
          <a:xfrm>
            <a:off x="2559960" y="3925800"/>
            <a:ext cx="152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文本框 384"/>
          <p:cNvSpPr/>
          <p:nvPr/>
        </p:nvSpPr>
        <p:spPr>
          <a:xfrm>
            <a:off x="3085920" y="3825720"/>
            <a:ext cx="154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文本框 385"/>
          <p:cNvSpPr/>
          <p:nvPr/>
        </p:nvSpPr>
        <p:spPr>
          <a:xfrm>
            <a:off x="4141080" y="3876840"/>
            <a:ext cx="152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文本框 386"/>
          <p:cNvSpPr/>
          <p:nvPr/>
        </p:nvSpPr>
        <p:spPr>
          <a:xfrm>
            <a:off x="4951440" y="3808440"/>
            <a:ext cx="160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文本框 387"/>
          <p:cNvSpPr/>
          <p:nvPr/>
        </p:nvSpPr>
        <p:spPr>
          <a:xfrm>
            <a:off x="5601240" y="3808440"/>
            <a:ext cx="1465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文本框 388"/>
          <p:cNvSpPr/>
          <p:nvPr/>
        </p:nvSpPr>
        <p:spPr>
          <a:xfrm>
            <a:off x="6005520" y="3973680"/>
            <a:ext cx="169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文本框 389"/>
          <p:cNvSpPr/>
          <p:nvPr/>
        </p:nvSpPr>
        <p:spPr>
          <a:xfrm>
            <a:off x="2661480" y="3625920"/>
            <a:ext cx="236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文本框 390"/>
          <p:cNvSpPr/>
          <p:nvPr/>
        </p:nvSpPr>
        <p:spPr>
          <a:xfrm>
            <a:off x="3628440" y="3573360"/>
            <a:ext cx="236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2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文本框 391"/>
          <p:cNvSpPr/>
          <p:nvPr/>
        </p:nvSpPr>
        <p:spPr>
          <a:xfrm>
            <a:off x="4541760" y="3619440"/>
            <a:ext cx="2365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3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文本框 392"/>
          <p:cNvSpPr/>
          <p:nvPr/>
        </p:nvSpPr>
        <p:spPr>
          <a:xfrm>
            <a:off x="5217480" y="3578400"/>
            <a:ext cx="236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393"/>
          <p:cNvSpPr/>
          <p:nvPr/>
        </p:nvSpPr>
        <p:spPr>
          <a:xfrm>
            <a:off x="5948280" y="3635280"/>
            <a:ext cx="2383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任意多边形 394"/>
          <p:cNvSpPr/>
          <p:nvPr/>
        </p:nvSpPr>
        <p:spPr>
          <a:xfrm>
            <a:off x="2124000" y="3749760"/>
            <a:ext cx="4950000" cy="350640"/>
          </a:xfrm>
          <a:custGeom>
            <a:avLst/>
            <a:gdLst/>
            <a:ahLst/>
            <a:rect l="l" t="t" r="r" b="b"/>
            <a:pathLst>
              <a:path w="4550735" h="350915">
                <a:moveTo>
                  <a:pt x="0" y="212691"/>
                </a:moveTo>
                <a:cubicBezTo>
                  <a:pt x="66453" y="207375"/>
                  <a:pt x="132907" y="202059"/>
                  <a:pt x="255181" y="180794"/>
                </a:cubicBezTo>
                <a:cubicBezTo>
                  <a:pt x="377455" y="159529"/>
                  <a:pt x="549349" y="115227"/>
                  <a:pt x="733647" y="85101"/>
                </a:cubicBezTo>
                <a:cubicBezTo>
                  <a:pt x="917945" y="54975"/>
                  <a:pt x="1148316" y="-1732"/>
                  <a:pt x="1360967" y="40"/>
                </a:cubicBezTo>
                <a:cubicBezTo>
                  <a:pt x="1573618" y="1812"/>
                  <a:pt x="1823483" y="76240"/>
                  <a:pt x="2009553" y="95733"/>
                </a:cubicBezTo>
                <a:cubicBezTo>
                  <a:pt x="2195623" y="115226"/>
                  <a:pt x="2369288" y="129403"/>
                  <a:pt x="2477386" y="116998"/>
                </a:cubicBezTo>
                <a:cubicBezTo>
                  <a:pt x="2585484" y="104593"/>
                  <a:pt x="2525233" y="37254"/>
                  <a:pt x="2658140" y="21305"/>
                </a:cubicBezTo>
                <a:cubicBezTo>
                  <a:pt x="2791047" y="5356"/>
                  <a:pt x="3065721" y="-12365"/>
                  <a:pt x="3274828" y="21305"/>
                </a:cubicBezTo>
                <a:cubicBezTo>
                  <a:pt x="3483935" y="54975"/>
                  <a:pt x="3700130" y="168389"/>
                  <a:pt x="3912781" y="223324"/>
                </a:cubicBezTo>
                <a:cubicBezTo>
                  <a:pt x="4125432" y="278259"/>
                  <a:pt x="4338083" y="314587"/>
                  <a:pt x="4550735" y="350915"/>
                </a:cubicBezTo>
              </a:path>
            </a:pathLst>
          </a:custGeom>
          <a:noFill/>
          <a:ln w="28440">
            <a:solidFill>
              <a:srgbClr val="0070c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395"/>
          <p:cNvSpPr/>
          <p:nvPr/>
        </p:nvSpPr>
        <p:spPr>
          <a:xfrm>
            <a:off x="3492360" y="3228840"/>
            <a:ext cx="1346400" cy="201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Controll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6" name="直接箭头连接符 396"/>
          <p:cNvCxnSpPr/>
          <p:nvPr/>
        </p:nvCxnSpPr>
        <p:spPr>
          <a:xfrm flipH="1">
            <a:off x="1980720" y="3333600"/>
            <a:ext cx="1502640" cy="462960"/>
          </a:xfrm>
          <a:prstGeom prst="straightConnector1">
            <a:avLst/>
          </a:prstGeom>
          <a:ln w="9360">
            <a:solidFill>
              <a:srgbClr val="990000"/>
            </a:solidFill>
            <a:prstDash val="dash"/>
            <a:miter/>
            <a:headEnd len="med" type="triangle" w="med"/>
          </a:ln>
        </p:spPr>
      </p:cxnSp>
      <p:sp>
        <p:nvSpPr>
          <p:cNvPr id="1117" name="TextBox 85"/>
          <p:cNvSpPr/>
          <p:nvPr/>
        </p:nvSpPr>
        <p:spPr>
          <a:xfrm>
            <a:off x="1116000" y="2351160"/>
            <a:ext cx="693720" cy="15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VP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84"/>
          <p:cNvSpPr/>
          <p:nvPr/>
        </p:nvSpPr>
        <p:spPr>
          <a:xfrm>
            <a:off x="1119240" y="1852560"/>
            <a:ext cx="693720" cy="15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Node 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Box 84"/>
          <p:cNvSpPr/>
          <p:nvPr/>
        </p:nvSpPr>
        <p:spPr>
          <a:xfrm>
            <a:off x="1116000" y="2016000"/>
            <a:ext cx="693720" cy="15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Node 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84"/>
          <p:cNvSpPr/>
          <p:nvPr/>
        </p:nvSpPr>
        <p:spPr>
          <a:xfrm>
            <a:off x="1116000" y="2185920"/>
            <a:ext cx="693720" cy="15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Link 5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椭圆 401"/>
          <p:cNvSpPr/>
          <p:nvPr/>
        </p:nvSpPr>
        <p:spPr>
          <a:xfrm>
            <a:off x="6141960" y="1114560"/>
            <a:ext cx="193680" cy="187200"/>
          </a:xfrm>
          <a:prstGeom prst="ellipse">
            <a:avLst/>
          </a:prstGeom>
          <a:solidFill>
            <a:srgbClr val="409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文本框 405"/>
          <p:cNvSpPr/>
          <p:nvPr/>
        </p:nvSpPr>
        <p:spPr>
          <a:xfrm>
            <a:off x="1020600" y="739800"/>
            <a:ext cx="22212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Monitor per tunnel network performance report via pub/sub model or on demand RPC retrieval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508"/>
          <p:cNvSpPr/>
          <p:nvPr/>
        </p:nvSpPr>
        <p:spPr>
          <a:xfrm>
            <a:off x="6426360" y="1146240"/>
            <a:ext cx="19684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Optimize network based on VPN service performance moni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7"/>
          <p:cNvSpPr/>
          <p:nvPr/>
        </p:nvSpPr>
        <p:spPr>
          <a:xfrm>
            <a:off x="6130800" y="1076400"/>
            <a:ext cx="1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椭圆 401"/>
          <p:cNvSpPr/>
          <p:nvPr/>
        </p:nvSpPr>
        <p:spPr>
          <a:xfrm>
            <a:off x="824040" y="754200"/>
            <a:ext cx="193680" cy="185760"/>
          </a:xfrm>
          <a:prstGeom prst="ellipse">
            <a:avLst/>
          </a:prstGeom>
          <a:solidFill>
            <a:srgbClr val="409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58"/>
          <p:cNvSpPr/>
          <p:nvPr/>
        </p:nvSpPr>
        <p:spPr>
          <a:xfrm>
            <a:off x="812880" y="714240"/>
            <a:ext cx="1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椭圆 401"/>
          <p:cNvSpPr/>
          <p:nvPr/>
        </p:nvSpPr>
        <p:spPr>
          <a:xfrm>
            <a:off x="5892840" y="2465280"/>
            <a:ext cx="193680" cy="187560"/>
          </a:xfrm>
          <a:prstGeom prst="ellipse">
            <a:avLst/>
          </a:prstGeom>
          <a:solidFill>
            <a:srgbClr val="409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60"/>
          <p:cNvSpPr/>
          <p:nvPr/>
        </p:nvSpPr>
        <p:spPr>
          <a:xfrm>
            <a:off x="5881680" y="2424240"/>
            <a:ext cx="1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6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Relationship between VPN service topology and underlay top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4727520" y="1379520"/>
            <a:ext cx="395928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pping between Overlay and Underal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Site-1,A,B,C are mapped to node (1,2),(3,4),(4,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hile Site-2 A,B,C are mapped to node (6,7),(8,9)(10,11) in the underlying physical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PN-svc 1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supporting hub-spoke communication for Customer 1 with connecting the customer’s access at 3 si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PN-svc 2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pporting hub-spoke disjoint communication for Customer 2 with connecting the customer’s access at 3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8C50-9B71-4114-B2D6-4BD9489176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366840" y="1739880"/>
            <a:ext cx="4270320" cy="3067200"/>
          </a:xfrm>
          <a:prstGeom prst="rect">
            <a:avLst/>
          </a:prstGeom>
          <a:ln w="0">
            <a:noFill/>
          </a:ln>
        </p:spPr>
      </p:pic>
      <p:sp>
        <p:nvSpPr>
          <p:cNvPr id="1134" name="矩形 1"/>
          <p:cNvSpPr/>
          <p:nvPr/>
        </p:nvSpPr>
        <p:spPr>
          <a:xfrm>
            <a:off x="366840" y="5710320"/>
            <a:ext cx="877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200" indent="-160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Establish the relationship between underlay topology and VPN service top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0200" indent="-160200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and bind the VPN service to the tunnel (e.g., SR-TE tu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图片 2" descr=""/>
          <p:cNvPicPr/>
          <p:nvPr/>
        </p:nvPicPr>
        <p:blipFill>
          <a:blip r:embed="rId1"/>
          <a:stretch/>
        </p:blipFill>
        <p:spPr>
          <a:xfrm>
            <a:off x="264960" y="703440"/>
            <a:ext cx="3560760" cy="5541840"/>
          </a:xfrm>
          <a:prstGeom prst="rect">
            <a:avLst/>
          </a:prstGeom>
          <a:ln w="0">
            <a:noFill/>
          </a:ln>
        </p:spPr>
      </p:pic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64960" y="489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Design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225680" y="1587240"/>
            <a:ext cx="45464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ugment I2RS Network Topo model [RFC8345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th service topology parameters and vpn summary statistics info at network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th site role of service topology parameters at nod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th performance attribute at link level and termination-point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measurement interval and reference-time associated with these performance data usually depends on configuration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02F2-38B4-4B12-88C8-61534F34CB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组合 8"/>
          <p:cNvGrpSpPr/>
          <p:nvPr/>
        </p:nvGrpSpPr>
        <p:grpSpPr>
          <a:xfrm>
            <a:off x="5005440" y="843120"/>
            <a:ext cx="3360600" cy="685800"/>
            <a:chOff x="5005440" y="843120"/>
            <a:chExt cx="3360600" cy="685800"/>
          </a:xfrm>
        </p:grpSpPr>
        <p:sp>
          <p:nvSpPr>
            <p:cNvPr id="1141" name="矩形 5"/>
            <p:cNvSpPr/>
            <p:nvPr/>
          </p:nvSpPr>
          <p:spPr>
            <a:xfrm>
              <a:off x="5005440" y="843120"/>
              <a:ext cx="1216080" cy="663840"/>
            </a:xfrm>
            <a:prstGeom prst="rect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2RS Network To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右箭头 6"/>
            <p:cNvSpPr/>
            <p:nvPr/>
          </p:nvSpPr>
          <p:spPr>
            <a:xfrm flipH="1">
              <a:off x="6220800" y="1082880"/>
              <a:ext cx="741240" cy="233280"/>
            </a:xfrm>
            <a:prstGeom prst="rightArrow">
              <a:avLst>
                <a:gd name="adj1" fmla="val 50000"/>
                <a:gd name="adj2" fmla="val 50045"/>
              </a:avLst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矩形 7"/>
            <p:cNvSpPr/>
            <p:nvPr/>
          </p:nvSpPr>
          <p:spPr>
            <a:xfrm>
              <a:off x="7149960" y="865080"/>
              <a:ext cx="1216080" cy="663840"/>
            </a:xfrm>
            <a:prstGeom prst="rect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PN Service Performance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4" name="椭圆 1"/>
          <p:cNvSpPr/>
          <p:nvPr/>
        </p:nvSpPr>
        <p:spPr>
          <a:xfrm>
            <a:off x="345960" y="1227240"/>
            <a:ext cx="2694240" cy="78264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椭圆 12"/>
          <p:cNvSpPr/>
          <p:nvPr/>
        </p:nvSpPr>
        <p:spPr>
          <a:xfrm>
            <a:off x="787320" y="4538520"/>
            <a:ext cx="2692440" cy="40500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椭圆 13"/>
          <p:cNvSpPr/>
          <p:nvPr/>
        </p:nvSpPr>
        <p:spPr>
          <a:xfrm>
            <a:off x="531720" y="2743200"/>
            <a:ext cx="2694240" cy="32076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椭圆 15"/>
          <p:cNvSpPr/>
          <p:nvPr/>
        </p:nvSpPr>
        <p:spPr>
          <a:xfrm>
            <a:off x="733320" y="4164120"/>
            <a:ext cx="2694240" cy="40320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3"/>
          <p:cNvSpPr/>
          <p:nvPr/>
        </p:nvSpPr>
        <p:spPr>
          <a:xfrm>
            <a:off x="597600" y="6357960"/>
            <a:ext cx="219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hanges to the previous ver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erformance Monitoring Data Retrie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0" y="5251320"/>
            <a:ext cx="444168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se subscription model [RFC8641] to subscribe to their interested network performance data in the data sour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DAA1-0E4C-43D4-AA5E-F2B8DFFD00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Picture 8" descr=""/>
          <p:cNvPicPr/>
          <p:nvPr/>
        </p:nvPicPr>
        <p:blipFill>
          <a:blip r:embed="rId1"/>
          <a:stretch/>
        </p:blipFill>
        <p:spPr>
          <a:xfrm>
            <a:off x="0" y="939960"/>
            <a:ext cx="4373640" cy="41400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9" descr=""/>
          <p:cNvPicPr/>
          <p:nvPr/>
        </p:nvPicPr>
        <p:blipFill>
          <a:blip r:embed="rId2"/>
          <a:stretch/>
        </p:blipFill>
        <p:spPr>
          <a:xfrm>
            <a:off x="4948200" y="1112760"/>
            <a:ext cx="3807000" cy="3516480"/>
          </a:xfrm>
          <a:prstGeom prst="rect">
            <a:avLst/>
          </a:prstGeom>
          <a:ln w="0">
            <a:noFill/>
          </a:ln>
        </p:spPr>
      </p:pic>
      <p:sp>
        <p:nvSpPr>
          <p:cNvPr id="1155" name="直接连接符 9"/>
          <p:cNvSpPr/>
          <p:nvPr/>
        </p:nvSpPr>
        <p:spPr>
          <a:xfrm flipH="1">
            <a:off x="4657320" y="1052640"/>
            <a:ext cx="9720" cy="5443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内容占位符 2"/>
          <p:cNvSpPr/>
          <p:nvPr/>
        </p:nvSpPr>
        <p:spPr>
          <a:xfrm>
            <a:off x="4700520" y="4886280"/>
            <a:ext cx="4443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se RPC model to fetch network performance data on demand, e.g., the client requests packet-loss- count between PE1 in site 1 and PE2 in site 2 belonging to VPN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1"/>
          <p:cNvSpPr/>
          <p:nvPr/>
        </p:nvSpPr>
        <p:spPr>
          <a:xfrm>
            <a:off x="0" y="596880"/>
            <a:ext cx="30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Retrieval via YANG Pu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2"/>
          <p:cNvSpPr/>
          <p:nvPr/>
        </p:nvSpPr>
        <p:spPr>
          <a:xfrm>
            <a:off x="4829040" y="649440"/>
            <a:ext cx="404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宋体"/>
              </a:rPr>
              <a:t>2.On-demand Retrieval via RPC polling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9960" y="10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fficient support in IETF 103 and already in the queue for WG ad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o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authors believe this draft is a good shape for WG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6643-06F9-45CD-8F33-B4BC79CCD3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Qin Wu</cp:lastModifiedBy>
  <dcterms:modified xsi:type="dcterms:W3CDTF">2020-04-26T11:03:28Z</dcterms:modified>
  <cp:revision>635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jIrgzz1CE1yQ6yubTeb1+r/1xHIhEzV+l8wzJz5EQgqK7go/UVyngVKI4QN0CRxh/+UZhrDT
QXjtq9aeiDUh+LQeuPX2YmgTchFu3VByIU+LIav9izCdP8jDefWCuqxfx0k9GFdcnsYnhpTc
ecKhzhNzXeswx0bwPRnyZIcjOXq+m/XfagHtATxd8JGygn0mv/oi5wkmoREWaTqbSl73wwXy
nbC2bVlhrLLxQmix/C</vt:lpwstr>
  </property>
  <property fmtid="{D5CDD505-2E9C-101B-9397-08002B2CF9AE}" pid="3" name="_2015_ms_pID_7253431">
    <vt:lpwstr>mXWXhHzJXymyZ9x7KK08lszp0fBwszYCjMiJ3tenZNdQk+EyQv6TYD
cwUNOgG0TW/C24sdbY33hAMicGJAl6SLNoe9dplaUK/nS1PfYUJUT/eIVK6Rw4zkQ1iO8Zl+
XYzua0cJOtQ6Qj2x2ZAJQgORBVTU94mMVca8xykFdYwWg1dCJcjESoxen8WOWSwo8VA3YOXO
q9PN5ewI4u65noHGXroOjjPi3vBboC4Uvqhc</vt:lpwstr>
  </property>
  <property fmtid="{D5CDD505-2E9C-101B-9397-08002B2CF9AE}" pid="4" name="_2015_ms_pID_7253432">
    <vt:lpwstr>HbB7ueXaJ0RhjD1XSFG/hkI=</vt:lpwstr>
  </property>
  <property fmtid="{D5CDD505-2E9C-101B-9397-08002B2CF9AE}" pid="5" name="_change">
    <vt:lpwstr/>
  </property>
  <property fmtid="{D5CDD505-2E9C-101B-9397-08002B2CF9AE}" pid="6" name="_full-control">
    <vt:lpwstr/>
  </property>
  <property fmtid="{D5CDD505-2E9C-101B-9397-08002B2CF9AE}" pid="7" name="_new_ms_pID_72543">
    <vt:lpwstr>(3)on4x6Ff1a1kK4BCrMFuWEwa9W4EBbYWuiUGvh2F/bcyJ5sAbKDmtt8Von42tsGmNAdEjcGvh
qZz9YoEyrJAc3qYe605b18W2arXLTGL1FPWUTxZS/hEadKpdj++doCFVFvM/3GHrQ7VBZFC4
8ouLoWqeonM17sL7PoMkl8abgMwFfp53KLSWTV9uF9FozNCF+0Jtn6hcxk0nxOtGGz2f2TkP
zK4CNYyE/N9zZTtjgR</vt:lpwstr>
  </property>
  <property fmtid="{D5CDD505-2E9C-101B-9397-08002B2CF9AE}" pid="8" name="_new_ms_pID_725431">
    <vt:lpwstr>LFE0+YVxcriGp+RDi+1gDylO1gfHV9ND7D2Xe0JgNsUGIEKfQVCSyw
GKFjp03kMuEO1IhOhTUVMiSdwz76iTY4gjjk6eGJAPtern/8PekzlcqNA/9JjN4cURAkO0WJ
U7UPS2NOiDTbeB0BqnzOkFdClEpuVVzxoZX0996ipsac97l5F5fzGpAgroTyy+MIcHJhQ675
Ug9mCKMnFtu13yGC1CHgWGwV1h99gLS2Iinn</vt:lpwstr>
  </property>
  <property fmtid="{D5CDD505-2E9C-101B-9397-08002B2CF9AE}" pid="9" name="_new_ms_pID_725431_00">
    <vt:lpwstr>_new_ms_pID_725431</vt:lpwstr>
  </property>
  <property fmtid="{D5CDD505-2E9C-101B-9397-08002B2CF9AE}" pid="10" name="_new_ms_pID_725432">
    <vt:lpwstr>ZJsLrw3IKgJMRhkB0w/HX+fjqzGwzF8n4yK8
vlbT4qBwjp1qi5f3TXfbbeeu3pAG97ZpBDfYuD2uV9lAzcpTFpuqpEz/v+WHfRqGA3NT0uMA
Xl1Aa/YkC/04Qca3bHg4aQ==</vt:lpwstr>
  </property>
  <property fmtid="{D5CDD505-2E9C-101B-9397-08002B2CF9AE}" pid="11" name="_new_ms_pID_725432_00">
    <vt:lpwstr>_new_ms_pID_725432</vt:lpwstr>
  </property>
  <property fmtid="{D5CDD505-2E9C-101B-9397-08002B2CF9AE}" pid="12" name="_new_ms_pID_72543_00">
    <vt:lpwstr>_new_ms_pID_72543</vt:lpwstr>
  </property>
  <property fmtid="{D5CDD505-2E9C-101B-9397-08002B2CF9AE}" pid="13" name="_readonly">
    <vt:lpwstr/>
  </property>
  <property fmtid="{D5CDD505-2E9C-101B-9397-08002B2CF9AE}" pid="14" name="sflag">
    <vt:lpwstr>1540947804</vt:lpwstr>
  </property>
</Properties>
</file>