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F8FC-BE8E-47A4-A77C-833FCBD21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FE8E-DFCF-453E-9CC5-4DB42065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7063B-0A31-44DF-A9DD-412F529A3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C0C3B-ABC1-40F1-89AA-DA17AFF6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6179-FDE6-4653-9B90-00F7CEF76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0FE4C-C130-4DD8-B533-5276D81F9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0283-B413-484D-BF26-465A7350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5B33-FD75-4C43-9910-8589E5E2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BBF8-B387-4249-AA67-CFFAA4C7F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668FC-FA54-4209-B712-6AB3703CC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9A13-4A7C-4DC0-AD77-F727B2CC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687C-A3DB-455F-A473-A373D8625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C527-EBC9-4D31-9BAF-3475E5E32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ietf-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pic>
        <p:nvPicPr>
          <p:cNvPr id="43" name="Picture 3" descr="Stig"/>
          <p:cNvPicPr/>
          <p:nvPr/>
        </p:nvPicPr>
        <p:blipFill>
          <a:blip r:embed="rId1"/>
          <a:stretch/>
        </p:blipFill>
        <p:spPr>
          <a:xfrm>
            <a:off x="6450120" y="4114800"/>
            <a:ext cx="1292040" cy="1292400"/>
          </a:xfrm>
          <a:prstGeom prst="rect">
            <a:avLst/>
          </a:prstGeom>
          <a:ln w="0">
            <a:noFill/>
          </a:ln>
        </p:spPr>
      </p:pic>
      <p:sp>
        <p:nvSpPr>
          <p:cNvPr id="44" name="Rectangle 3"/>
          <p:cNvSpPr/>
          <p:nvPr/>
        </p:nvSpPr>
        <p:spPr>
          <a:xfrm>
            <a:off x="5638680" y="5394240"/>
            <a:ext cx="396252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g Venaas prese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ER extension moved to IGMP/MLD overlay (draft-ietf-bier-mld)</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was just adopted</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oshi suggested using TLVs, see later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8"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 not support an extension type, as well as current implementations, treat it as Additional Data in the RFC and do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urrently specifies a single extension type and valu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ry looks like thi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LV proposal</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adoption call, Hitoshi suggested using a TLV format. Something like the below.</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erved              |    Total Extension Length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1           |      Extension Length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Type n           |      Extension Length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Extension Value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questions </a:t>
            </a:r>
            <a:endParaRPr b="0" lang="en-US" sz="4400" spc="-1" strike="noStrike">
              <a:solidFill>
                <a:srgbClr val="000000"/>
              </a:solidFill>
              <a:latin typeface="Arial"/>
            </a:endParaRPr>
          </a:p>
        </p:txBody>
      </p:sp>
      <p:sp>
        <p:nvSpPr>
          <p:cNvPr id="56" name="PlaceHolder 2"/>
          <p:cNvSpPr>
            <a:spLocks noGrp="1"/>
          </p:cNvSpPr>
          <p:nvPr>
            <p:ph/>
          </p:nvPr>
        </p:nvSpPr>
        <p:spPr>
          <a:xfrm>
            <a:off x="456840" y="1276200"/>
            <a:ext cx="7924680" cy="5105520"/>
          </a:xfrm>
          <a:prstGeom prst="rect">
            <a:avLst/>
          </a:prstGeom>
          <a:noFill/>
          <a:ln w="0">
            <a:noFill/>
          </a:ln>
        </p:spPr>
        <p:txBody>
          <a:bodyPr anchor="t">
            <a:normAutofit fontScale="94000"/>
          </a:bodyPr>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LVs? Allows combination of different extensions.</a:t>
            </a:r>
            <a:endParaRPr b="0" lang="en-US" sz="2800" spc="-1" strike="noStrike">
              <a:solidFill>
                <a:srgbClr val="000000"/>
              </a:solidFill>
              <a:latin typeface="Arial"/>
            </a:endParaRPr>
          </a:p>
          <a:p>
            <a:pPr lvl="1" marL="429480" indent="-42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need total extension length? </a:t>
            </a:r>
            <a:endParaRPr b="0" lang="en-US" sz="28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It allows additional data after the TLVs</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Else we do not know when to stop processing TLVs</a:t>
            </a:r>
            <a:endParaRPr b="0" lang="en-US" sz="2000" spc="-1" strike="noStrike">
              <a:solidFill>
                <a:srgbClr val="000000"/>
              </a:solidFill>
              <a:latin typeface="Arial"/>
            </a:endParaRPr>
          </a:p>
          <a:p>
            <a:pPr lvl="2" marL="805680" indent="-42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rdia New"/>
              </a:rPr>
              <a:t>We can verify that the total length matches with the length of the TLVs specified</a:t>
            </a:r>
            <a:endParaRPr b="0" lang="en-US" sz="24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implementations send additional data not following this scheme, they are unlikely to have a value here that matches the total TLV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Algorithm: Loop through TLVs, add up 4 (type and length overhead) + value length for each, until &gt;= total length.</a:t>
            </a:r>
            <a:endParaRPr b="0" lang="en-US" sz="2000" spc="-1" strike="noStrike">
              <a:solidFill>
                <a:srgbClr val="000000"/>
              </a:solidFill>
              <a:latin typeface="Arial"/>
            </a:endParaRPr>
          </a:p>
          <a:p>
            <a:pPr lvl="3" marL="1235160" indent="-429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rdia New"/>
              </a:rPr>
              <a:t>If equal, validation passed. Else assume not TLV extension and ign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20-04-20T21:42:38Z</dcterms:modified>
  <cp:revision>150</cp:revision>
  <dc:subject/>
  <dc:title>draft-venaas-pim-igmp-mld-extension</dc:title>
</cp:coreProperties>
</file>