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4BD9C-C0C5-4F86-9FD6-17D7E7D88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74E9B-66EB-49DC-BFED-30B1E33C6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93916-5D64-443A-A241-9340FC8F0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0EF5F-4DBA-4FBF-B01B-A68ADD369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EF981-DC33-4932-8640-075FF2E0C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9C3E8-0C1F-42DC-B9F5-0D12CCFA2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564EE-50D0-47EB-B990-DDFDCB7F1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32AC9-289F-456E-924D-12A67385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A2DB4-BE3E-4B16-9EC9-9335CB708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1291-7992-4FBC-8AB7-2EBD6E25A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B050E-C202-4C89-B976-174913885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2856-9CF2-4206-8A39-83AB10417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91C1-8402-446E-AD26-E5A5A6FDC4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ietf-pim-igmp-mld-extens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Sivakumar                               S. Venaa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Zhang</a:t>
            </a:r>
            <a:endParaRPr b="0" lang="en-US" sz="3200" spc="-1" strike="noStrike">
              <a:solidFill>
                <a:srgbClr val="000000"/>
              </a:solidFill>
              <a:latin typeface="Arial"/>
            </a:endParaRPr>
          </a:p>
        </p:txBody>
      </p:sp>
      <p:pic>
        <p:nvPicPr>
          <p:cNvPr id="43" name="Picture 3" descr="Stig"/>
          <p:cNvPicPr/>
          <p:nvPr/>
        </p:nvPicPr>
        <p:blipFill>
          <a:blip r:embed="rId1"/>
          <a:stretch/>
        </p:blipFill>
        <p:spPr>
          <a:xfrm>
            <a:off x="6450120" y="4114800"/>
            <a:ext cx="1292040" cy="1292400"/>
          </a:xfrm>
          <a:prstGeom prst="rect">
            <a:avLst/>
          </a:prstGeom>
          <a:ln w="0">
            <a:noFill/>
          </a:ln>
        </p:spPr>
      </p:pic>
      <p:sp>
        <p:nvSpPr>
          <p:cNvPr id="44" name="Rectangle 3"/>
          <p:cNvSpPr/>
          <p:nvPr/>
        </p:nvSpPr>
        <p:spPr>
          <a:xfrm>
            <a:off x="5638680" y="5394240"/>
            <a:ext cx="396252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Venaas presen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456840" y="1218960"/>
            <a:ext cx="7924680" cy="510516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ic way of extending IGMPv3/MLDv2 messages</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extension type and registry</a:t>
            </a: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ER extension moved to IGMP/MLD overlay (draft-ietf-bier-mld)</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was just adopted</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toshi suggested using TLVs, see later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MP/MLD Additional Data</a:t>
            </a:r>
            <a:endParaRPr b="0" lang="en-US" sz="4400" spc="-1" strike="noStrike">
              <a:solidFill>
                <a:srgbClr val="000000"/>
              </a:solidFill>
              <a:latin typeface="Arial"/>
            </a:endParaRPr>
          </a:p>
        </p:txBody>
      </p:sp>
      <p:sp>
        <p:nvSpPr>
          <p:cNvPr id="48" name="PlaceHolder 2"/>
          <p:cNvSpPr>
            <a:spLocks noGrp="1"/>
          </p:cNvSpPr>
          <p:nvPr>
            <p:ph/>
          </p:nvPr>
        </p:nvSpPr>
        <p:spPr>
          <a:xfrm>
            <a:off x="456840" y="1276200"/>
            <a:ext cx="7924680" cy="5105520"/>
          </a:xfrm>
          <a:prstGeom prst="rect">
            <a:avLst/>
          </a:prstGeom>
          <a:noFill/>
          <a:ln w="0">
            <a:noFill/>
          </a:ln>
        </p:spPr>
        <p:txBody>
          <a:bodyPr anchor="t">
            <a:normAutofit fontScale="85000"/>
          </a:bodyPr>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RFC 3376 (IGMPv3)</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4.1.10. Additional Data</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If the Packet Length field in the IP header of a received Query indicates that there are additional octets of data present, beyond the fields described here, IGMPv3 implementations MUST include those octets in the computation to verify the received IGMP Checksum, but MUST otherwise ignore those additional octets. When sending a Query, an IGMPv3 implementation MUST NOT include additional octets beyond the fields described here.</a:t>
            </a:r>
            <a:endParaRPr b="0" lang="en-US" sz="2800" spc="-1" strike="noStrike">
              <a:solidFill>
                <a:srgbClr val="000000"/>
              </a:solidFill>
              <a:latin typeface="Arial"/>
            </a:endParaRPr>
          </a:p>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Similar language for reports, and for queries/reports in RFC 38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ype</a:t>
            </a:r>
            <a:endParaRPr b="0" lang="en-US" sz="4400" spc="-1" strike="noStrike">
              <a:solidFill>
                <a:srgbClr val="000000"/>
              </a:solidFill>
              <a:latin typeface="Arial"/>
            </a:endParaRPr>
          </a:p>
        </p:txBody>
      </p:sp>
      <p:sp>
        <p:nvSpPr>
          <p:cNvPr id="50" name="PlaceHolder 2"/>
          <p:cNvSpPr>
            <a:spLocks noGrp="1"/>
          </p:cNvSpPr>
          <p:nvPr>
            <p:ph/>
          </p:nvPr>
        </p:nvSpPr>
        <p:spPr>
          <a:xfrm>
            <a:off x="456840" y="1276200"/>
            <a:ext cx="7924680" cy="5105520"/>
          </a:xfrm>
          <a:prstGeom prst="rect">
            <a:avLst/>
          </a:prstGeom>
          <a:noFill/>
          <a:ln w="0">
            <a:noFill/>
          </a:ln>
        </p:spPr>
        <p:txBody>
          <a:bodyPr anchor="t">
            <a:normAutofit fontScale="93000"/>
          </a:bodyPr>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We think it is good to have an extension type in case there may be multiple extensions for different purposes.</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support a specific type, process the type as defined.</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do not support an extension type, as well as current implementations, treat it as Additional Data in the RFC and do not process the type.</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Extensions should not be common. Cannot expect router and host implementations in general to be upd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currently specifies a single extension type and valu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ery looks like thi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Type = 0x11  | Max Resp Code |           Checksum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Group Address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esv  |S| QRV |     QQIC      |     Number of Source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2]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Extension Type |               Extension Value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LV proposal</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adoption call, Hitoshi suggested using a TLV format. Something like the below.</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eserved              |    Total Extension Length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Type 1           |      Extension Length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Value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Type n           |      Extension Length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Value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questions </a:t>
            </a:r>
            <a:endParaRPr b="0" lang="en-US" sz="4400" spc="-1" strike="noStrike">
              <a:solidFill>
                <a:srgbClr val="000000"/>
              </a:solidFill>
              <a:latin typeface="Arial"/>
            </a:endParaRPr>
          </a:p>
        </p:txBody>
      </p:sp>
      <p:sp>
        <p:nvSpPr>
          <p:cNvPr id="56" name="PlaceHolder 2"/>
          <p:cNvSpPr>
            <a:spLocks noGrp="1"/>
          </p:cNvSpPr>
          <p:nvPr>
            <p:ph/>
          </p:nvPr>
        </p:nvSpPr>
        <p:spPr>
          <a:xfrm>
            <a:off x="456840" y="1276200"/>
            <a:ext cx="7924680" cy="5105520"/>
          </a:xfrm>
          <a:prstGeom prst="rect">
            <a:avLst/>
          </a:prstGeom>
          <a:noFill/>
          <a:ln w="0">
            <a:noFill/>
          </a:ln>
        </p:spPr>
        <p:txBody>
          <a:bodyPr anchor="t">
            <a:normAutofit fontScale="94000"/>
          </a:bodyPr>
          <a:p>
            <a:pPr lvl="1" marL="429480" indent="-42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need TLVs? Allows combination of different extensions.</a:t>
            </a:r>
            <a:endParaRPr b="0" lang="en-US" sz="2800" spc="-1" strike="noStrike">
              <a:solidFill>
                <a:srgbClr val="000000"/>
              </a:solidFill>
              <a:latin typeface="Arial"/>
            </a:endParaRPr>
          </a:p>
          <a:p>
            <a:pPr lvl="1" marL="429480" indent="-42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need total extension length? </a:t>
            </a:r>
            <a:endParaRPr b="0" lang="en-US" sz="2800" spc="-1" strike="noStrike">
              <a:solidFill>
                <a:srgbClr val="000000"/>
              </a:solidFill>
              <a:latin typeface="Arial"/>
            </a:endParaRPr>
          </a:p>
          <a:p>
            <a:pPr lvl="2" marL="805680" indent="-42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rdia New"/>
              </a:rPr>
              <a:t>It allows additional data after the TLVs</a:t>
            </a:r>
            <a:endParaRPr b="0" lang="en-US" sz="24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Else we do not know when to stop processing TLVs</a:t>
            </a:r>
            <a:endParaRPr b="0" lang="en-US" sz="2000" spc="-1" strike="noStrike">
              <a:solidFill>
                <a:srgbClr val="000000"/>
              </a:solidFill>
              <a:latin typeface="Arial"/>
            </a:endParaRPr>
          </a:p>
          <a:p>
            <a:pPr lvl="2" marL="805680" indent="-42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rdia New"/>
              </a:rPr>
              <a:t>We can verify that the total length matches with the length of the TLVs specified</a:t>
            </a:r>
            <a:endParaRPr b="0" lang="en-US" sz="24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If implementations send additional data not following this scheme, they are unlikely to have a value here that matches the total TLV length.</a:t>
            </a:r>
            <a:endParaRPr b="0" lang="en-US" sz="20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Algorithm: Loop through TLVs, add up 4 (type and length overhead) + value length for each, until &gt;= total length.</a:t>
            </a:r>
            <a:endParaRPr b="0" lang="en-US" sz="20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If equal, validation passed. Else assume not TLV extension and ign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Stig Venaas</dc:creator>
  <dc:description/>
  <dc:language>en-US</dc:language>
  <cp:lastModifiedBy>Stig Venaas (svenaas)</cp:lastModifiedBy>
  <dcterms:modified xsi:type="dcterms:W3CDTF">2020-04-20T21:42:38Z</dcterms:modified>
  <cp:revision>150</cp:revision>
  <dc:subject/>
  <dc:title>draft-venaas-pim-igmp-mld-extension</dc:title>
</cp:coreProperties>
</file>