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2A8BA-3C5A-4517-8A85-E0A52DE89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E5864-FAFD-44F1-9644-804C4362A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06AB1-18D5-45A2-BC87-7EA2FA44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F328-44B0-4FB2-86BD-0ECFABDEE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4AC4-5EE0-4810-9306-048CFC31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D813-3B1A-4263-90DD-E3C72F24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E1DD-4A52-4E6A-9F51-4A9F0044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714F-00BF-4783-8868-D1CC7101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F137-34F1-4F5E-9F51-FF1BC62A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8AD0-901B-43F5-B798-6B256913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11A3-DC59-4F26-89C5-CD62504AD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1262-E89D-43A5-8821-88F39380C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2C49-E53B-4E34-A6FF-935AE5672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etf-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pic>
        <p:nvPicPr>
          <p:cNvPr id="43" name="Picture 3" descr="Stig"/>
          <p:cNvPicPr/>
          <p:nvPr/>
        </p:nvPicPr>
        <p:blipFill>
          <a:blip r:embed="rId1"/>
          <a:stretch/>
        </p:blipFill>
        <p:spPr>
          <a:xfrm>
            <a:off x="6450120" y="4114800"/>
            <a:ext cx="1292040" cy="1292400"/>
          </a:xfrm>
          <a:prstGeom prst="rect">
            <a:avLst/>
          </a:prstGeom>
          <a:ln w="0">
            <a:noFill/>
          </a:ln>
        </p:spPr>
      </p:pic>
      <p:sp>
        <p:nvSpPr>
          <p:cNvPr id="44" name="Rectangle 3"/>
          <p:cNvSpPr/>
          <p:nvPr/>
        </p:nvSpPr>
        <p:spPr>
          <a:xfrm>
            <a:off x="5638680" y="5394240"/>
            <a:ext cx="396252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 prese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ER extension moved to IGMP/MLD overlay (draft-ietf-bier-ml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was just adopted</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suggested using TLVs, see later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8"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 not support an extension type, as well as current implementations, treat it as Additional Data in the RFC and do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urrently specifies a single extension type and valu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ry looks like thi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LV proposal</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adoption call, Hitoshi suggested using a TLV format. Something like the below.</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erved              |    Total Extension Length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1           |      Extension Length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n           |      Extension Length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questions </a:t>
            </a:r>
            <a:endParaRPr b="0" lang="en-US" sz="4400" spc="-1" strike="noStrike">
              <a:solidFill>
                <a:srgbClr val="000000"/>
              </a:solidFill>
              <a:latin typeface="Arial"/>
            </a:endParaRPr>
          </a:p>
        </p:txBody>
      </p:sp>
      <p:sp>
        <p:nvSpPr>
          <p:cNvPr id="56" name="PlaceHolder 2"/>
          <p:cNvSpPr>
            <a:spLocks noGrp="1"/>
          </p:cNvSpPr>
          <p:nvPr>
            <p:ph/>
          </p:nvPr>
        </p:nvSpPr>
        <p:spPr>
          <a:xfrm>
            <a:off x="456840" y="1276200"/>
            <a:ext cx="7924680" cy="5105520"/>
          </a:xfrm>
          <a:prstGeom prst="rect">
            <a:avLst/>
          </a:prstGeom>
          <a:noFill/>
          <a:ln w="0">
            <a:noFill/>
          </a:ln>
        </p:spPr>
        <p:txBody>
          <a:bodyPr anchor="t">
            <a:normAutofit fontScale="94000"/>
          </a:bodyPr>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LVs? Allows combination of different extensions.</a:t>
            </a:r>
            <a:endParaRPr b="0" lang="en-US" sz="2800" spc="-1" strike="noStrike">
              <a:solidFill>
                <a:srgbClr val="000000"/>
              </a:solidFill>
              <a:latin typeface="Arial"/>
            </a:endParaRPr>
          </a:p>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otal extension length? </a:t>
            </a:r>
            <a:endParaRPr b="0" lang="en-US" sz="28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It allows additional data after the TLVs</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Else we do not know when to stop processing TLVs</a:t>
            </a:r>
            <a:endParaRPr b="0" lang="en-US" sz="20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We can verify that the total length matches with the length of the TLVs specified</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implementations send additional data not following this scheme, they are unlikely to have a value here that matches the total TLV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Algorithm: Loop through TLVs, add up 4 (type and length overhead) + value length for each, until &gt;= total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equal, validation passed. Else assume not TLV extension and ign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1:42:38Z</dcterms:modified>
  <cp:revision>150</cp:revision>
  <dc:subject/>
  <dc:title>draft-venaas-pim-igmp-mld-extension</dc:title>
</cp:coreProperties>
</file>